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AF79-A27A-4E65-B652-378C67A54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FC45-1F2C-487D-821D-128DE027361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220F-3048-4D6F-BEBB-FDADBA54BAE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9D1E-69D8-4638-B976-358AF30BF13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E711-8399-4123-8E14-A00B9F84709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B1EE-8FDE-4ACB-9EF8-141ABC54FB6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256E-8446-48B9-AEA2-6335FBE0795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50EB-073F-4216-8579-ADF7791661A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642D-2082-4581-B12F-E8BEB398599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48B3-4F6D-40DF-A74D-42EA12A423E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ADDF-D582-4B4E-BFF9-3D7C9A4E5ED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BAA6-5E85-462F-809E-C832F1A2107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4CFA-0C36-44F9-85CB-520466A9796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B057-82BE-47E9-9C11-DA2833096C2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5FA0-F278-4DE9-A6AD-8FED77BE9CC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5F94-69BC-4934-B027-3A991F511F1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2C06-2A00-4F3F-8177-8AA9BA651BF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626F-8A45-4867-862A-0E4C236684F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AD21-46F2-41FD-86BA-A72B60236CF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6B43-C241-4A82-9475-FF3E3194655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D797-B11E-4110-9C00-EEA35E09B94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D0F4-96B7-47F9-A356-E6EF9973A33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BD04-6542-4C55-BC2A-F717A374D43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C14D-203F-4FB9-8D5D-04F126F96DB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B745-BA21-44FB-9148-9B780E4A91D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9342-7911-49BB-B18B-9D8AC2493C0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E60E-CADB-4792-95BD-8193D46CA86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82C5-4943-4AF0-8B12-4EA5CA93065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2BE3-F366-4E3A-A260-0F76B46534B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5C46-8AE6-4482-A89A-4A921B65CE2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FC2A-DAB5-496E-8982-B4C15FCF065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DEF8-05B8-4AB2-B8A4-DFFB8933D93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9946-0F8A-4919-83BF-7023CA01DDF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D5DF-40F6-4B38-BB5D-7E7FCD3DCC9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C330-E903-47FE-8353-86FBB7C9A8F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2039-02A2-4D3B-9302-EEBF0ADA03F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7D80-23BE-44B4-9B4D-B60AC318122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AA94-5BA1-4B5B-8C12-F9B7A4E3E50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94C6-4265-45EF-97FF-83F4D72524C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9331-EEF3-4CD8-A555-5EF20D67ABB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6CE1-3FF4-42DF-B054-A912D3BBF5D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A925-74A5-4145-8301-9FDE08BE357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996B-E31E-4244-B592-852FC6241A1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C733-2143-4E20-BDB9-D2714123C8E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5CF9-4CB6-410C-BB4F-0CB4E019AA1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99B8-DA9E-4644-8BCE-41242C687D6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8AB3-9021-4A5F-B719-11E208730F3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3C31-92AD-497E-99C1-249C4D63F0E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81D5-D338-428C-8035-AA8209A8BCA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5B2A-FE77-4652-95B9-F16EB4C2B89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E328-8B72-4FA0-A280-F993E737D72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3DFF-F79E-4A7F-BBA4-486D9B34430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CBDF-E6E3-4BD4-AB7A-BE1EEC2891E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AC53-997A-4CB0-B42C-7BFF5CFC8DC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847A-DF37-49C9-B166-CD26DCF7BFB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111-BC86-4080-9910-EA647F66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B2D6-0B08-4741-9BE6-CF21504D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5F26-42E1-40D5-99C0-4DF51143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5EA-3973-4F46-AF70-7B5117C4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757D-9DEE-479D-9E34-4028E44F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7ABE-449E-418E-8E51-9A25874D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0A5F-0EEC-4E2B-BE70-32A7E21B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52B6-2848-490A-B5C1-3FF7B1C6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1828-6EDD-468B-9CC1-26531227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79C1-6863-446E-BA78-E8437AE3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8A90-6568-4005-8E07-B00EF979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B93-91DA-4BAE-8D5F-AA39B43A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4D5A-6018-4F6F-9B75-886219A8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E044-CE09-450C-B7A8-BDCAF449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8F99-6DD8-4FC2-B959-CF8C3184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3B15-4F5D-40EC-98DE-DAD1ADA9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3E34-B9AC-41F4-BA2D-2E255E04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BD0A0-DB0C-40B2-A8DA-8C2EC721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3AFC2-B1D7-45E5-A309-127DA0FE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5EF47-5FE5-4700-A06A-3E31B769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D6F9E-98F4-40C8-B9D2-C50E3EBD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021F9-6EED-4F0D-ADD4-E0A0D2F8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9DB-B8B3-446F-8A02-FF2ECED7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DD3E8-E5AC-4086-A0AE-65D9187B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04402-24CE-417A-9FC3-2EA7B29F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C41C9-2422-4B26-AE54-E4CEB9F3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EF87A-1841-4D08-A5E3-FB5D770A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92AEB-1467-44BE-8E43-A1AEE96F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8FCCB-684E-4835-ACAF-258819D6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BB857-7BA9-4AFC-A9FA-E67E4A2C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7084E-21A8-4DB0-8012-38C482B3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37FFF-C869-4931-857B-D1E88BF6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DE343-519D-42D6-8ED6-316001DA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43D-6270-4068-9C49-64ED82DA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D4BE9-600F-4535-9253-173F9CBF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5BFCD-1487-4C95-8720-F78C8912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73393-1027-40D5-A4AD-20DFE673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25B16-985C-46A3-910A-5408784C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A54D1-2707-4EA8-806C-EEB2ED7C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FDE3D-E3FE-43B7-97B6-6CE96E0F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60E06-85C8-4262-9505-46E7DAD8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B61CE-E19D-4B98-B295-1916ABBF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EF043-C7B7-4039-8FB9-3CE3A4E2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F30B-8969-443C-910C-0C124FC2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CCD4-B25A-4E7E-9A6A-F0F4203E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42A2-D2D2-4A09-A54C-282D7FE4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428-1955-47CA-BE53-240B5CD5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8E5E-B966-439A-AA9B-DCB05856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58960" y="390240"/>
            <a:ext cx="699444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B61D-767F-402C-ADE1-4F1BBCBF6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162920" y="9067680"/>
            <a:ext cx="510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fefef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1650960" y="9410760"/>
            <a:ext cx="11341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a9d61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11C3-3343-4F8B-91BA-524DE4C82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09E3-4079-4160-8601-B140CCD61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650960" y="9410760"/>
            <a:ext cx="11341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a9d61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7162920" y="9067680"/>
            <a:ext cx="510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fefef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58960" y="390240"/>
            <a:ext cx="699444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96D7-E518-4F8B-9697-AEB4F2D41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11400" y="3030480"/>
            <a:ext cx="7848360" cy="20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Management of Strategy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cepts and Cases 9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197400" y="5029200"/>
            <a:ext cx="556236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III:  Strategic 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1:  Organizational Structure and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rganizational Structure &amp; Control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rganizational Controls (OC) </a:t>
            </a:r>
            <a:r>
              <a:rPr b="0" lang="en-US" sz="1200" spc="-1" strike="noStrike">
                <a:solidFill>
                  <a:srgbClr val="99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2.  Financial control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Objective criteria used to measure firm’s performance against previously established quantitative standards (used for unrelated diversification)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Focus on short-term financial outcomes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Produce risk-averse managerial decision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11: Organizational Structure (OS) and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Six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fine OS and controls and differences between strategic and financial control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Describe relationship between strategy &amp; structur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Describe the functional structures used to implement business-level strateg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Three versions of multi-divisional (M-form) structure for different diversification strateg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OS for implementation of three international strateg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trategic networks and their implement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 Relationshi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Reciprocal relationship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Implies change to one causes change in the other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Research shows strategy has a much more important influence on structure than the reverse.”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Evolutionary Patter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handler found firms tend to grow in a predictable pattern, including the areas of volume, geography, integration (horizontal &amp; vertical) &amp; product/ business diversificat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Growth pattern implies structural changes!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everal structure forms are used to implement strategies, including: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1. Simpl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2. Functional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3. Multidivisional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and Structure Growth Patter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Rectangle 3" descr=""/>
          <p:cNvPicPr/>
          <p:nvPr/>
        </p:nvPicPr>
        <p:blipFill>
          <a:blip r:embed="rId1"/>
          <a:stretch/>
        </p:blipFill>
        <p:spPr>
          <a:xfrm>
            <a:off x="4749840" y="1447920"/>
            <a:ext cx="6499080" cy="77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Evolutionary Patter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ree main structur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1. Simpl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Owner-manager makes all major decisions and monitors all activities, staff acts as extension of manager's supervisory authority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Few rules, limited task specialization, unsophisticated technology system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As firm grows more complex, need to add layers and control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Evolutionary Patter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ree main structures </a:t>
            </a:r>
            <a:r>
              <a:rPr b="0" lang="en-US" sz="1200" spc="-1" strike="noStrike">
                <a:solidFill>
                  <a:srgbClr val="99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2. Functional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EO and a limited corporate staff make all decisions, with functional line managers in dominant organizational area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Allows functional specialization resulting in active knowledge sharing in each functional area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an negatively affect communication and coordination among those representing different organizational function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When changing from a simple to functional structure need to focus on value-destroying bureaucratic procedur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Evolutionary Patter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ree main structures </a:t>
            </a:r>
            <a:r>
              <a:rPr b="0" lang="en-US" sz="1200" spc="-1" strike="noStrike">
                <a:solidFill>
                  <a:srgbClr val="99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3A. Multidivisional (M-form) structur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Operating divisions each represent a separate business or profit center in which the top corporate officer delegates responsibilities for day-to-day operations and business-unit strategies to division managers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Ties together several operating divisions, each representing a separate business or profit center to which responsibility for daily operations and business-unit strategy is delegated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 Structure: Evolutionary Patter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ree main structur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ultidivisional (M-form) structure </a:t>
            </a:r>
            <a:r>
              <a:rPr b="0" lang="en-US" sz="1200" spc="-1" strike="noStrike">
                <a:solidFill>
                  <a:srgbClr val="0066cc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It enables corporate officers to more accurately monitor the performance of each business, which simplifies the problem of control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It facilitates comparisons between divisions, which improves resource allocation proces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It stimulates managers of poorly performing divisions to look for ways of improving performance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Evolutionary Patter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No one structure (simple, functional or multidivisional) is superior to the other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Strategic Management Proc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tretch/>
        </p:blipFill>
        <p:spPr>
          <a:xfrm>
            <a:off x="4444920" y="2133720"/>
            <a:ext cx="69804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Evolutionary Patter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Business-level strategies &amp; functional structure matches for implementing strategies: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1. Cost leadership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2. Differenti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3. Integrated cost leadership/differenti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tructural characteristics drive different forms of organizational structur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1. Specializ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2. Centraliz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3. Formaliz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Evolutionary Patter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tructural characteristics defined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1. Specializ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Type and number of jobs required to do work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2. Centraliz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Degree to which decision-making authority is retained at higher managerial level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3. Formaliz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Degree to which formal rules and procedures govern work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unctional Structure for Implementing a Cost Leadership Strate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Rectangle 3" descr=""/>
          <p:cNvPicPr/>
          <p:nvPr/>
        </p:nvPicPr>
        <p:blipFill>
          <a:blip r:embed="rId1"/>
          <a:stretch/>
        </p:blipFill>
        <p:spPr>
          <a:xfrm>
            <a:off x="2692440" y="2895480"/>
            <a:ext cx="92422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Evolutionary Patter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atches between business-level strategies and functional structure to implement them: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1. Cost leadership &amp; 5 Forces of Competi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Low-cost position is a valuable defense against rival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Powerful customers can demand reduced pric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osts leaders are in a position to absorb supplier price increases and relationship demands, and to force suppliers to hold down their pric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ontinuously improving levels of efficiency and cost reduction can be difficult to replicate and serve as significant entry barriers to potential competitor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ost leaders hold an attractive position in terms of product substitutes, with the flexibility to lower prices to retain customer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Evolutionary Patter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atches between business-level strategies and functional structure to implement them: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1. Cost leadership and the functional structur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Simple reporting relationship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Few decision-making and authority layer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entralized corporate staff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Strong operational focus on process improvement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Low-cost cultur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entralized staff decision-making authority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Jobs specializat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Highly formalized rules and procedures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Evolutionary Patter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atches between business-level strategies and functional structure to implement them: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1. Cost leadership strategy risk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Processes can become obsolet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Focus on cost reductions can come at the expense of understanding customer perceptions and need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Strategy could be imitated, requiring the firm to increase the value offered to retain customers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unctional Structure for Implementing a Differentiation Strate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Rectangle 3" descr=""/>
          <p:cNvPicPr/>
          <p:nvPr/>
        </p:nvPicPr>
        <p:blipFill>
          <a:blip r:embed="rId1"/>
          <a:stretch/>
        </p:blipFill>
        <p:spPr>
          <a:xfrm>
            <a:off x="2463840" y="3048120"/>
            <a:ext cx="924228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Evolutionary Patter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atches between business-level strategies and functional structure to implement them :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2. Differentiation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Integrated set of actions designed by a firm to produce or deliver goods or services at an acceptable cost that customers perceive as being different in ways that are important to them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Target customers – perceived product valu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ustomized products  – differentiating on as many features as possible: 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Unusual features, responsive customer service, rapid product innovations, technological leadership, perceived prestige and status, different tastes, engineering design, performance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Evolutionary Patter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atches between business-level strategies and functional structure to implement them :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2. Differentiation &amp; 5 Forces of Competi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ustomer loyalty: the most valuable defense against rival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Unique products reduce customer sensitivity to raised pric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High margins (for differentiated products) insulate firm from supplier influence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Significant entry barriers: customer loyalty &amp; product uniqueness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Firms with customers loyal to their products are positioned effectively against product substitutes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Evolutionary Patter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atches between business-level strategies and functional structure to implement them :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2. Differentiation and functional structur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omplex and flexible reporting relationship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ross-functional product development team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Strong focus on marketing and product R&amp;D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Development-oriented cultur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Decentralized decision making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Broad job description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Informal rules and procedur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11: Organizational Structure (OS) and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Six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fine OS and controls and differences between strategic and financial control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scribe relationship between strategy &amp; structur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scribe the functional structures used to implement business-level strateg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hree versions of multi-divisional (M-form) structure for different diversification strateg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OS for implementation of three international strateg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trategic networks and their implement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Evolutionary Patter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atches between business-level strategies and functional structure to implement them :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2. Differentiation strategy risk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Price differential for differentiated product may be perceived as too larg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Firms’ means of differentiation may cease to provide value for which customers are willing to pay (successful rival imitation)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Experience can narrow customers' perceptions of the value of a product's differentiated featur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ounterfeit goods might appear in the marketplac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Evolutionary Patter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atches between business-level strategies and functional structure to implement them :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3. Integrated cost leadership/differentiation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These firms may sell products that create value because of relatively low price and reasonable sources of differentiat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Difficult to implement, but frequently used in the global economy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hallenge due to primary/support activities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Need to successfully combine specialization, formalization and centralizat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Evolutionary Patter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atches between corporate-level strategies and multidivisional structure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3 form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ree Variations of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ultidivisional Structu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Rectangle 3" descr=""/>
          <p:cNvPicPr/>
          <p:nvPr/>
        </p:nvPicPr>
        <p:blipFill>
          <a:blip r:embed="rId1"/>
          <a:stretch/>
        </p:blipFill>
        <p:spPr>
          <a:xfrm>
            <a:off x="4521240" y="3276720"/>
            <a:ext cx="702936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operative Form of the Multidivisional Structure for Implementing a Related Constrained Strate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Rectangle 3" descr=""/>
          <p:cNvPicPr/>
          <p:nvPr/>
        </p:nvPicPr>
        <p:blipFill>
          <a:blip r:embed="rId1"/>
          <a:stretch/>
        </p:blipFill>
        <p:spPr>
          <a:xfrm>
            <a:off x="3149640" y="2666880"/>
            <a:ext cx="9250200" cy="60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11032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Evolutionary Patter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20480" y="1219320"/>
            <a:ext cx="11032920" cy="749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atches between corporate-level strategies &amp; multidivisional structure:  Cooperative form/related constrained strategy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operative form: organizational structure using horizontal integration to bring about interdivisional cooper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ivisions formed around products, markets or both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All of the divisions share one or more corporate strength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terdivisional sharing depends on cooper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Links resulting from effective integration mechanisms support sharing of both tangible and intangible resourc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entralization is one integrating mechanism that can be used to link activities among divisions, allowing firms to exploit common strengths and share competenc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Evolutionary Patter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atches between corporate-level strategies &amp; multidivisional structure:  Cooperative form/related constrained strategy </a:t>
            </a:r>
            <a:r>
              <a:rPr b="0" lang="en-US" sz="1200" spc="-1" strike="noStrike">
                <a:solidFill>
                  <a:srgbClr val="99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uccess influenced by how well information is processed among divis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uccess can be influenced by managerial commitment levels and the response to some lost managerial autonomy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trix organization may evolv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organizational structure in which a dual structure combines both functional specialization and business product or project specialization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BU Form of the Multidivisional Structure for Implementing a Related Linked Strate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tretch/>
        </p:blipFill>
        <p:spPr>
          <a:xfrm>
            <a:off x="3073320" y="2438280"/>
            <a:ext cx="9242640" cy="616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Evolutionary Patter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atches between corporate-level strategies &amp; multidivisional structure:  SBU form/related linked strategy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Related linked:  Firms that share fewer resources and assets among their businesses, concentrating on the transfer of knowledge and competencies among the businesses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trategic Business-Unit (SBU) Form: multidivisional organization structure with three levels to support the implementation diversification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1. Corporate headquarter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2. Strategic Business Units (SBUs)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3. SBU divis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Evolutionary Patter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atches between corporate-level strategies &amp; multidivisional structure:  SBU form/related linked strategy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BU Form </a:t>
            </a:r>
            <a:r>
              <a:rPr b="0" lang="en-US" sz="1200" spc="-1" strike="noStrike">
                <a:solidFill>
                  <a:srgbClr val="0066cc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Divisions within each SBU are related in terms of shared products and/or market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Divisions of one SBU have little in common with divisions of other SBU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Divisions within each SBU share product or market competencies to develop economies of scop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Integrations used in cooperative form are equally effective for the SBU form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Each SBU is a profit center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Financial controls are more vital for evaluating performance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isco’s Evolution of Strategy and Structu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20480" y="1904760"/>
            <a:ext cx="11032920" cy="68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Early Growth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ocus on network equipment that enabled voice, video, and data to travel across computer network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hree lines of busines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Each line was a self-contained businesses with its own functional area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Post-Internet Bubble Burst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Reorganized into 11 technology divis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ales remained organized around original three lin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volved into hardware, software, and services supplier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2008 Recess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xpanded into nontraditional businesses for revenu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Once again changed its structur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etitive Form of the Multidivisional Structure for Implementing an Unrelated Strate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Rectangle 3" descr=""/>
          <p:cNvPicPr/>
          <p:nvPr/>
        </p:nvPicPr>
        <p:blipFill>
          <a:blip r:embed="rId1"/>
          <a:stretch/>
        </p:blipFill>
        <p:spPr>
          <a:xfrm>
            <a:off x="2997360" y="2971800"/>
            <a:ext cx="929628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Evolutionary Patter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20480" y="1828440"/>
            <a:ext cx="11032920" cy="688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atches between corporate-level strategies &amp; multidivisional structure:  Competitive form/unrelated diversificat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etitive form defined: organizational structure in which the firm's divisions are completely independent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ivisions do not share common corporate strength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tegration devices not developed to coordinate activities across divis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fficient capital markets in unrelated strategies require organizational arrangements that emphasize divisional competition rather than cooper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pecific performance expectations and accountability for independent divisions stimulate internal competition for future resourc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vs. Structure: Evolutionary Patter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atches between corporate-level strategies and multidivisional structure:  Competitive form/unrelated diversification </a:t>
            </a:r>
            <a:r>
              <a:rPr b="0" lang="en-US" sz="1200" spc="-1" strike="noStrike">
                <a:solidFill>
                  <a:srgbClr val="99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Headquarters maintains a distant relationship to avoid intervention in divisional affair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trategic controls are used to monitor performance relative to targeted retur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Headquarters remains responsible for cash flow allocation, performance appraisal, resource allocation, and the legal aspects related to acquisit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11: Organizational Structure (OS) and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Six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fine OS and controls and differences between strategic and financial control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scribe relationship between strategy &amp; structur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scribe the functional structures used to implement business-level strateg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hree versions of multi-divisional (M-form) structure for different diversification strateg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OS for implementation of three international strateg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trategic networks and their implement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orldwide Geographic Area Structure for Implementing a Multidomestic Strate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Rectangle 3" descr=""/>
          <p:cNvPicPr/>
          <p:nvPr/>
        </p:nvPicPr>
        <p:blipFill>
          <a:blip r:embed="rId1"/>
          <a:stretch/>
        </p:blipFill>
        <p:spPr>
          <a:xfrm>
            <a:off x="4444920" y="2743200"/>
            <a:ext cx="702936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0480" y="457200"/>
            <a:ext cx="110329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national Strategy and Worldwide Structure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ree Primary International Strategies: 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1. Worldwide geographic area structure to implement the Multidomestic Strategy  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ultidomestic Strategy:  international strategy in which strategic and operating decisions are decentralized to the strategic business-unit (SBU) in each country to allow the units to tailor products to local marke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Worldwide Geographic Area Structure: organizational structure emphasizing national interests and facilitates efforts to satisfy local or cultural differences (used to implement the multidomestic strategy)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ocuses on variations of competition within each countr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national Strategy and Worldwide Structure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0480" y="1904760"/>
            <a:ext cx="11032920" cy="68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ree Primary International Strategies: 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1. Worldwide geographic area structure to implement the Multidomestic Strategy </a:t>
            </a:r>
            <a:r>
              <a:rPr b="0" lang="en-US" sz="1200" spc="-1" strike="noStrike">
                <a:solidFill>
                  <a:srgbClr val="99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ustomizes products to meet specific needs and preferences of local customer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centralizes the firm's strategic and operating decisions to business units in each countr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akes steps to isolate the firm from global competitive forc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Establish protected market position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ompete in industry segments most affected by differences among local countri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als with uncertainty due to differences across marke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orldwide Product Divisional Structure for Implementing a Global Strate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Rectangle 3" descr=""/>
          <p:cNvPicPr/>
          <p:nvPr/>
        </p:nvPicPr>
        <p:blipFill>
          <a:blip r:embed="rId1"/>
          <a:stretch/>
        </p:blipFill>
        <p:spPr>
          <a:xfrm>
            <a:off x="4444920" y="2895480"/>
            <a:ext cx="698364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national Strategy and Worldwide Structure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20840" y="1828440"/>
            <a:ext cx="1104912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ree Primary International Strategies:  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2. Worldwide product divisional structure to implement Global Strategy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Global Strategy: International strategy whereby firm offers standardized products across country markets, with the competitive strategy being dictated by the home offi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Worldwide Product Divisional Structure: Organizational structure with centralized decision-making authority in the WW division headquarters to coordinate and integrate decisions and actions among divisional business units (used to implement the global strategy)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acilitated by improved global accounting and financial reporting standard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national Strategy and Worldwide Structure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20480" y="1752120"/>
            <a:ext cx="11032920" cy="695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ree Primary International Strategies:  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2. Worldwide product divisional structure to implement Global Strategy </a:t>
            </a:r>
            <a:r>
              <a:rPr b="0" lang="en-US" sz="1200" spc="-1" strike="noStrike">
                <a:solidFill>
                  <a:srgbClr val="99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mphasizes economies of scal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entralizes the firm's strategic and operating decisions at the home office 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volves SBUs operating in each country that are interdepend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Home office attempts to achieve integration across SBUs, adding management complexit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Produces lower risk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s less responsive to local market opportunit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Offers less effective learning processes due to the pressure to conform and standardiz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All firms use at least one business-level strategy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nce selected, strategies are NOT implemented in a vacuum!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rganizational structure and controls provide framework within which strategies are used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ybrid Form of the Combination Structure for Implementing a Transnational Strate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Rectangle 3" descr=""/>
          <p:cNvPicPr/>
          <p:nvPr/>
        </p:nvPicPr>
        <p:blipFill>
          <a:blip r:embed="rId1"/>
          <a:stretch/>
        </p:blipFill>
        <p:spPr>
          <a:xfrm>
            <a:off x="3073320" y="3429000"/>
            <a:ext cx="92599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national Strategy and Worldwide Structure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ree Primary International Strategies: 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3. Combination structure to implement the Transnational Strategy  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ransnational Strategy: International strategy through which the firm seeks to achieve both global efficiency and local responsiveness; usually implemented through global matrix structure and hybrid global desig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lexible Coordination: Building a shared vision and individual commitment through an integrated network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bination Structure: Organizational structure in which characteristics and mechanisms are drawn from both the worldwide geographic area structure and the worldwide product divisional structure (used to implement transnational strategy)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national Strategy and Worldwide Structure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ree Primary International Strategies: 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3. Combination structure to implement the Transnational Strategy </a:t>
            </a:r>
            <a:r>
              <a:rPr b="0" lang="en-US" sz="1200" spc="-1" strike="noStrike">
                <a:solidFill>
                  <a:srgbClr val="990000"/>
                </a:solidFill>
                <a:latin typeface="Verdana"/>
              </a:rPr>
              <a:t>(Cont’d) </a:t>
            </a:r>
            <a:endParaRPr b="0" lang="en-US" sz="1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Assets and operations may be centralized/decentralized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unctions may be integrated/nonintegrated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Relationships may be formal/informal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ordination mechanisms may leverage efficiency/flexibilit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ndates to subsidiaries may be global/specialized-contribution/ localized-implement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here are competing objectives when a worldwide combination structure is used to implement a transnational strate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11: Organizational Structure (OS) and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Six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fine OS and controls and differences between strategic and financial control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scribe relationship between strategy &amp; structur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scribe the functional structures used to implement business-level strateg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hree versions of multi-divisional (M-form) structure for different diversification strateg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OS for implementation of three international strateg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Strategic networks and their implement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 Strategic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Rectangle 3" descr=""/>
          <p:cNvPicPr/>
          <p:nvPr/>
        </p:nvPicPr>
        <p:blipFill>
          <a:blip r:embed="rId1"/>
          <a:stretch/>
        </p:blipFill>
        <p:spPr>
          <a:xfrm>
            <a:off x="4368960" y="2362320"/>
            <a:ext cx="702936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ic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atches between cooperative strategies and network structur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Network strategy: Partners form several alliances in order to improve the performance of the alliance network itself through cooperative endeavor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trategic network: Group of firms that form around the core to create value to participating in multiple cooperative arrangemen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At core:  Strategic Center Firm which has 4 primary task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ic Network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trategic Center Firm’s primary tasks 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1. Strategic outsourcing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2. Competenc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3. Technolo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4. Race to lear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lementing Business-leve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operative Strateg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Business-level complementary allianc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Vertical: partnering firms share their resources and capabilities from different stages of the value chain to create a competitive advantage.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Horizontal: partnering firms share resources and capabilities from the same stage of the value chain to create a competitive advantage - commonly used for long-term product development and distribution opportunit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lementing Corporate-leve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operative Strateg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Used to facilitate product &amp; market diversificat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.e., Franchising: contractual relationship to describe and control the sharing of its resources and capabilities with partner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Allows firms to use its competencies to extend or diversity product or market reach, without completing a merger or acquisit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Knowledge embedded in corporate-level cooperative strategies facilitates synerg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 Distributed Strategic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Rectangle 3" descr=""/>
          <p:cNvPicPr/>
          <p:nvPr/>
        </p:nvPicPr>
        <p:blipFill>
          <a:blip r:embed="rId1"/>
          <a:stretch/>
        </p:blipFill>
        <p:spPr>
          <a:xfrm>
            <a:off x="4444920" y="2209680"/>
            <a:ext cx="6983640" cy="640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11: Organizational Structure (OS) and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Six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Define OS and controls and differences between strategic and financial control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scribe relationship between strategy &amp; structur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scribe the functional structures used to implement business-level strateg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hree versions of multi-divisional (M-form) structure for different diversification strateg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OS for implementation of three international strateg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trategic networks and their implement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lementing Internatio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operative Strateg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trategic networks formed to implement cooperative strategies resulting in firm competing in several different countri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istributed strategic networks:  Organizational structure used to manage international cooperative strateg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Several regional strategic center firms are included in the distributed network to manage partner firms’ multiple cooperative arrangement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rganizational Structure (OS) &amp; Controls (OC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rganizational Structure (OS)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pecifies firm’s formal reporting relationships, procedures, controls, authority &amp; decision-making processes (i.e., work to be done and how to do it!)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ffective use of firm’s strategies facilitated when structure is properly aligned 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Structural stability: Capacity firm requires to consistently and predictably manage its daily work routines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Structural flexibility: Opportunity to explore competitive advantages firm will need to be successful in the futur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Pioneer Alfred Chandler found organizations change their structures when inefficiencies force them to do so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rganizational Structure &amp; Control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rganizational Controls (OC)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Guide the use of strategy, indicate how to compare actual results with expected results, and suggest corrective actions to take when the difference is unacceptabl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wo types include strategic and financial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rganizational Structure &amp; Control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rganizational Controls (OC) 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1.  Strategic controls:  largely subjective criteria intended to verify that the firm is using appropriate strategies for the conditions in the external environment and the company’s competitive advantages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oncerned with what firm might do vs. what it can do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Used to evaluate degree to which firm focuses on the requirement to implement strategies (i.e., SUB: primary and support activities; corporate level: knowledge, markets &amp; technologies across businesses)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Focus on the content of strategic actions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Encourage decisions that incorporate moderate and acceptable levels of risk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llette,Paul</dc:creator>
  <dc:description/>
  <dc:language>en-US</dc:language>
  <cp:lastModifiedBy>Laurie Merz</cp:lastModifiedBy>
  <dcterms:modified xsi:type="dcterms:W3CDTF">2010-04-15T22:29:17Z</dcterms:modified>
  <cp:revision>49</cp:revision>
  <dc:subject/>
  <dc:title>PART 2 Strategic Actions:  Strategy Formulation</dc:title>
</cp:coreProperties>
</file>