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4A07EB4-4F7D-43A2-AE55-DFB65B4E0BC4}"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businessweek.com/globalbiz/content/jul2007/gb20070718_614386.htm?chan=search" TargetMode="External"/><Relationship Id="rId2" Type="http://schemas.openxmlformats.org/officeDocument/2006/relationships/hyperlink" Target="http://www.businessweek.com/globalbiz/content/may2008/gb20080530_213248.htm?chan=search"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D6E8F87-9304-4CF1-98C5-4EC4C673A1E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4" name="PlaceHolder 1"/>
          <p:cNvSpPr>
            <a:spLocks noGrp="1"/>
          </p:cNvSpPr>
          <p:nvPr>
            <p:ph type="sldImg"/>
          </p:nvPr>
        </p:nvSpPr>
        <p:spPr>
          <a:xfrm>
            <a:off x="536400" y="531720"/>
            <a:ext cx="2356200" cy="1766880"/>
          </a:xfrm>
          <a:prstGeom prst="rect">
            <a:avLst/>
          </a:prstGeom>
          <a:ln w="0">
            <a:noFill/>
          </a:ln>
        </p:spPr>
      </p:sp>
      <p:sp>
        <p:nvSpPr>
          <p:cNvPr id="26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Foreign Direct Investment by Ceme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amines Cemex’s rise to global status.  Cemex is the world’s third largest cement company and Mexico’s largest multinational company.  In Mexico, Cemex is known for its efficient manufacturing and excellent customer service.  Cemex began its international expansion in an effort to reduce its reliance on the Mexican market, to capitalize on demand in developing countries and its knowledge of the needs of developing companies, and finally, to increase its value by acquiring inefficient companies and transferring its skills to those companies.  Cemex plans to continue its foreign expansion, and believes that China and India will be important markets in the future.  The following questions can be used in a discuss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Reflect on the decision made by Cemex with regard to international expansion.  Why do you think the company chose to invest directly in other countries rather than export?  Why was it more attractive for Cemex to acquire companies in foreign markets rather than establish its own operatio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quickly recognize the difficulties inherent in shipping cement.  In the case of Cemex, transportation is made even more critical because of the short “set” time involved with its product.  Cemex sells ready-mixed cement that has a life of just 90 minutes.  Therefore, it is essential for Cemex to be close to its customers, which implies that exporting is not an option for the company.  In addition, one of Cemex’s competitive advantages lies in its superior customer service and relationship with distributors – advantages that could be difficult to transfer through licensing agreements.  Most students will probably suggest that Cemex’s apparent preference for acquisitions over greenfield investments probably reflects the company’s desire to quickly establish a presence in the foreign marke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What benefits does Cemex bring to host countries?  Why do you think the Indonesian government was suspicious of the company’s intentions there?  Do you agree with the company’s decision to pull out of the marke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in addition to providing jobs in host countries, Cemex also brings benefits like new technology, management know-how, and marketing know-how.  Students may also note that because Cemex often acquires existing companies, it helps bring these companies to full production.  Many students may suggest that Cemex did not fare as well in the Indonesian market because of its dispute with the Indonesian government.  Cemex had been promised a majority position in the government-owned cement company, Semen Gresik, a promise that never materialized.  Students may suggest that trust is essential in business, and the fact that the Indonesian government did not follow through with its promises justified Cemex’s actions in the countr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 To learn more about Cemex’s foreign operations, go to {http://www.cemex.com/}.</a:t>
            </a: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1FFF524-ABC1-4E73-8E6E-BC39C834661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7" name="PlaceHolder 1"/>
          <p:cNvSpPr>
            <a:spLocks noGrp="1"/>
          </p:cNvSpPr>
          <p:nvPr>
            <p:ph type="sldImg"/>
          </p:nvPr>
        </p:nvSpPr>
        <p:spPr>
          <a:xfrm>
            <a:off x="536400" y="531720"/>
            <a:ext cx="2356200" cy="1766880"/>
          </a:xfrm>
          <a:prstGeom prst="rect">
            <a:avLst/>
          </a:prstGeom>
          <a:ln w="0">
            <a:noFill/>
          </a:ln>
        </p:spPr>
      </p:sp>
      <p:sp>
        <p:nvSpPr>
          <p:cNvPr id="26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DP World and the United Sta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the reaction to the bid by DP World, a Dubai-based ports operator, to acquire P&amp;O, a British firm that runs a network of global marine terminals.  An acquisition of P&amp;O would give DP World management of six U.S. ports.  While the Bush administration claimed the acquisition posed no threat to national security, several prominent U.S. Senators raised concerns about the acquisition.  Ultimately, DP World pulled out of the deal, but stated that it would look for alternative ways to enter the U.S. market, beginning with an initial public offering in 2007.  The following questions can be used in a discuss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Do you agree with the senators who raised concerns about the DP World deal?  Why or why not?  Would your response be different if DP World were a British fir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sue will probably generate significant debate among students.  At the heart of the issue is whether a company, because of its country of origin, should be denied ownership of something that could be important to a nation’s national security.  Some students will probably argue that the United States was unjustified in its reaction to the deal, that DP World has a long history of American associations.  Students taking this perspective will probably suggest that the United States is being prejudiced against the company simply because of its nationality.  Other students however, will probably claim that DP World’s role in with American companies to date, has not involved ownership of ports that could be important to the country’s national security.  Students in this camp will probably argue that the ports should be owned by American companies, or at least companies from countries that are allies of the United States in order to preserve national security, but definitely not a state-owned company from the Middle East.  The implication here is that ownership of the ports would effectively transfer to a foreign govern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DP World has vowed to enter the United States market in some other way.  Why is the U.S. market so important to DP World?  What do you think the response of the government might be to another attempt by DP Wor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e U.S. market is important to DP World because it is an epicenter of capitalism.  Goods from all over the world flow to the United States, and DP World wants to be in a position to capitalize on this.  Students will probably agree that should the company make another attempt to gain a foothold in the market, the United States will be reluctant to allow DP World a significant role in the country, especially in major por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 For more information on the company and its recent developments, go to {http://portal.pohub.com/portal/page?_pageid=761,1&amp;_dad=pogprtl&amp;_schema=POGPRTL } and click on “Marine Terminals.” </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304EB4B-8554-4B6E-8283-2E460768D4B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8" name="PlaceHolder 1"/>
          <p:cNvSpPr>
            <a:spLocks noGrp="1"/>
          </p:cNvSpPr>
          <p:nvPr>
            <p:ph type="sldImg"/>
          </p:nvPr>
        </p:nvSpPr>
        <p:spPr>
          <a:xfrm>
            <a:off x="536400" y="531720"/>
            <a:ext cx="2356200" cy="1766880"/>
          </a:xfrm>
          <a:prstGeom prst="rect">
            <a:avLst/>
          </a:prstGeom>
          <a:ln w="0">
            <a:noFill/>
          </a:ln>
        </p:spPr>
      </p:sp>
      <p:sp>
        <p:nvSpPr>
          <p:cNvPr id="25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Each year, </a:t>
            </a:r>
            <a:r>
              <a:rPr b="0" i="1" lang="en-US" sz="1400" spc="-1" strike="noStrike">
                <a:solidFill>
                  <a:srgbClr val="000000"/>
                </a:solidFill>
                <a:latin typeface="Times New Roman"/>
              </a:rPr>
              <a:t>Fortune</a:t>
            </a:r>
            <a:r>
              <a:rPr b="0" lang="en-US" sz="1400" spc="-1" strike="noStrike">
                <a:solidFill>
                  <a:srgbClr val="000000"/>
                </a:solidFill>
                <a:latin typeface="Times New Roman"/>
              </a:rPr>
              <a:t> magazine publishes a list of the 500 largest global corporations in the world.  Go to the magazine’s web site {http://money.cnn.com/magazines/fortune/global500/2008/index.html} and explore the list.  Which country has the most companies on the list?  Which region of the world is most represented?  Are there any new entrants?  Are certain industries better represented than others?  What conclusions can you draw from your findings?  Are there other meaningful trends to conside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D5081BC-3B45-4FCA-90E9-382EC62AAC9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0" name="PlaceHolder 1"/>
          <p:cNvSpPr>
            <a:spLocks noGrp="1"/>
          </p:cNvSpPr>
          <p:nvPr>
            <p:ph type="sldImg"/>
          </p:nvPr>
        </p:nvSpPr>
        <p:spPr>
          <a:xfrm>
            <a:off x="536400" y="531720"/>
            <a:ext cx="2356200" cy="1766880"/>
          </a:xfrm>
          <a:prstGeom prst="rect">
            <a:avLst/>
          </a:prstGeom>
          <a:ln w="0">
            <a:noFill/>
          </a:ln>
        </p:spPr>
      </p:sp>
      <p:sp>
        <p:nvSpPr>
          <p:cNvPr id="27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The World Bank is a great place to start researching a country as a potential destination for FDI.  Go to the World Bank site {http://www.worldbank.org/} and click on Data and Research, then on Foreign Direct Investment.  Compare and contrast several countries on various factors to determine the relative merits of countries as host nations for invest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90DE683-91D3-4880-84A4-4D394448179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3" name="PlaceHolder 1"/>
          <p:cNvSpPr>
            <a:spLocks noGrp="1"/>
          </p:cNvSpPr>
          <p:nvPr>
            <p:ph type="sldImg"/>
          </p:nvPr>
        </p:nvSpPr>
        <p:spPr>
          <a:xfrm>
            <a:off x="536400" y="531720"/>
            <a:ext cx="2356200" cy="1766880"/>
          </a:xfrm>
          <a:prstGeom prst="rect">
            <a:avLst/>
          </a:prstGeom>
          <a:ln w="0">
            <a:noFill/>
          </a:ln>
        </p:spPr>
      </p:sp>
      <p:sp>
        <p:nvSpPr>
          <p:cNvPr id="27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Gross capital formation summarizes the total amount of capital invested in factories, stores, office buildings, and so on.  When capital investment is high, a country has more favorable growth prospects.  The difference between the rates of gross capital formation in Ireland and Japan would indicate that FDI is an important source of investment capital and economic growth in Ireland, but not in Japan.  There are several reasons for this.  Companies may perceive that Ireland is more attractive as a destination for their investments, or that it is easier to establish operation in Ireland than in Japan.  Investors may be cautious about Japan because of its reputation for burdensome regulations. </a:t>
            </a: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3A8DBD5-84B3-4FE8-9496-E2FF2760591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6" name="PlaceHolder 1"/>
          <p:cNvSpPr>
            <a:spLocks noGrp="1"/>
          </p:cNvSpPr>
          <p:nvPr>
            <p:ph type="sldImg"/>
          </p:nvPr>
        </p:nvSpPr>
        <p:spPr>
          <a:xfrm>
            <a:off x="536400" y="531720"/>
            <a:ext cx="2356200" cy="1766880"/>
          </a:xfrm>
          <a:prstGeom prst="rect">
            <a:avLst/>
          </a:prstGeom>
          <a:ln w="0">
            <a:noFill/>
          </a:ln>
        </p:spPr>
      </p:sp>
      <p:sp>
        <p:nvSpPr>
          <p:cNvPr id="27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nternalization theory seeks to explain why firms often prefer foreign direct investment to licensing as a strategy for entering foreign markets.  According to internationalization theory, licensing has three major drawbacks as a strategy for exploiting foreign market opportunities: licensing may result in a firm giving away proprietary technology, licensing does not permit a firm to maintain tight control over its activities, and licensing is not appropriate when a firm’s competitive advantage is based not so much on its products as on the management, marketing, and manufacturing capabilities that produce those products.  Vernon’s product life cycle theory argues that firms undertake FDI at particular stages in the life cycle of a product they have pioneered.  They invest in other advanced countries when local demand in those countries grows large enough to support local production.  They subsequently shift production to developing countries when product standardization and market saturation give rise to price competition and cost pressures.  Investment in developing countries, where labor costs are lower, is seen as the best way to reduce costs.  Finally, Knickerbocker’s theory of FDI suggests that firms follow their domestic competitors overseas.  This theory had been developed with regard to oligopolistic industries.  Imitative behavior can take many forms in an oligopoly, including FDI.   The second part of this question is designed to stimulate classroom discussion and/or force students to think through these theories and select the one that they feel provides the best explanation for the historic pattern of FDI.</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E44B4C3-B26A-4401-BBCE-5B9B0277FFD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9" name="PlaceHolder 1"/>
          <p:cNvSpPr>
            <a:spLocks noGrp="1"/>
          </p:cNvSpPr>
          <p:nvPr>
            <p:ph type="sldImg"/>
          </p:nvPr>
        </p:nvSpPr>
        <p:spPr>
          <a:xfrm>
            <a:off x="536400" y="531720"/>
            <a:ext cx="2356200" cy="1766880"/>
          </a:xfrm>
          <a:prstGeom prst="rect">
            <a:avLst/>
          </a:prstGeom>
          <a:ln w="0">
            <a:noFill/>
          </a:ln>
        </p:spPr>
      </p:sp>
      <p:sp>
        <p:nvSpPr>
          <p:cNvPr id="28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swer: a)  Cemex is a cement company.  Consequently, exporting is difficult because of the weight of the product.  If Cemex wants to expand into new markets, the company would either need to license a local company or make an investment in the market directly.  Cemex’s success is due in part to its top notch customer service, and relationship with distributors.  Because these advantages could be difficult to transfer, the company will probably choose to invest directly.  Students should reflect on these factors as they consider the various theories to explain Cemex’s FDI.</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 Cemex is the third largest cement company in the world, and a powerhouse in Mexico where it controls 60 percent of the market.  Cemex is highly focused on efficient manufacturing and customer service.  Distributors are rewarded for their sales, as are users.  The primary benefit Cemex brings to host countries involves these competitive advantages.  Cemex acquires companies and then transfers technological, management, and marketing know-how to the new units, improving their performance.  The company has brought several acquired companies back to full production, increasing employment opportunities in the host country as well.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 Cemex has successfully acquired established cement makers in many countries.  By acquiring companies rather than establishing them from the ground up, Cemex can avoid some of the delays that could occur in the start-up phase, while at the same time, capitalize on the benefits of an established market presen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 Much of Cemex’s success appears to be built around its customer service and attention to distributors.  Indeed, it could be argued that what sets Cemex apart from its competitors, or its competitive advantage, is its superior way of dealing with external stakeholders.  It is significantly easier to duplicate this sort of advantage in a wholly owned operation than in a joint venture or through licensing arrang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 In 2006, Cemex announced that it would be pulling out of Indonesia.  Cemex entered the Indonesian market in 1998, as part of an IMF sponsored privatization program.  Cemex purchased a 25 percent stake in Semen Gresik, a government owned cement maker.  Cemex’s decision to pull out was a result of a dispute with the Indonesian government.  When Cemex has entered the market, it had been promised a majority position in Semen Gresik in 2001.  However thanks to the efforts of various special interest groups, permission was never granted.  Whether the decision to pull was in the best interests of the country is difficult to say.  Certainly it would seem that Semen Gresik could learn from Cemex, and utilize its knowledge to improve its own operations.  However, allowing a foreign company to control an industry that is necessary to a country could be detrimental to the nation.</a:t>
            </a:r>
            <a:endParaRPr b="0" lang="en-US" sz="9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615C6D1-0ACE-41BB-B27E-7F7B2B06815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2" name="PlaceHolder 1"/>
          <p:cNvSpPr>
            <a:spLocks noGrp="1"/>
          </p:cNvSpPr>
          <p:nvPr>
            <p:ph type="sldImg"/>
          </p:nvPr>
        </p:nvSpPr>
        <p:spPr>
          <a:xfrm>
            <a:off x="536400" y="531720"/>
            <a:ext cx="2356200" cy="1766880"/>
          </a:xfrm>
          <a:prstGeom prst="rect">
            <a:avLst/>
          </a:prstGeom>
          <a:ln w="0">
            <a:noFill/>
          </a:ln>
        </p:spPr>
      </p:sp>
      <p:sp>
        <p:nvSpPr>
          <p:cNvPr id="28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n considering expansion into the European Union, three options will be considered: FDI, licensing, and export.  With export, assuming there are no trade barriers, the key considerations would likely be transport costs and localization.  While transport costs may be quite low for a relatively light and high value product like a computer, localization can present some difficulties.  Power requirements, keyboards, and preferences in model all vary from country to country.  It may be difficult to fully address these localization issues from the United States, but not entirely infeasible.  Since there are many computer manufacturers and distributors in Europe, there are likely to be a number of potential licensees.  But by signing up licensees, valuable technological information may have to be disclosed, and the competitive advantage lost if the licensees use or disseminate this information.  FDI (setting up a wholly owned subsidiary) is clearly the most costly and time consuming approach, but the one that best guarantees that critical knowledge will not be disseminated and that localization can be done effectively.  Given the fast pace of change in the personal computer industry, it is difficult to say how long this revolutionary new computer will retain its competitive advantage.  If the firm can protect its advantage for a period of time, FDI may pay off and help assure that no technological know-how is lost.  If, however, other firms can copy or develop even superior products relatively easily, then licensing, while speeding up knowledge dissemination, may also allow the firm to get the quickest large scale entry into Europe and make as much as it can before the advantage is lo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3E24207-2304-43A9-9061-DE0BD49040B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1" name="PlaceHolder 1"/>
          <p:cNvSpPr>
            <a:spLocks noGrp="1"/>
          </p:cNvSpPr>
          <p:nvPr>
            <p:ph type="sldImg"/>
          </p:nvPr>
        </p:nvSpPr>
        <p:spPr>
          <a:xfrm>
            <a:off x="536400" y="531720"/>
            <a:ext cx="2356200" cy="1766880"/>
          </a:xfrm>
          <a:prstGeom prst="rect">
            <a:avLst/>
          </a:prstGeom>
          <a:ln w="0">
            <a:noFill/>
          </a:ln>
        </p:spPr>
      </p:sp>
      <p:sp>
        <p:nvSpPr>
          <p:cNvPr id="26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Country Focus: Foreign Direct Investment in Chin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99"/>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investment opportunities in China. In the late 1970s, China opened its doors to foreign investors. By the mid 2000s, China attracted $65-70 billion of FDI annually. China’s large population is a magnet for many companies and because high tariffs make it difficult to export to the Chinese market, firms frequently turn to foreign direct investment. However, many companies have found it difficult to conduct business in China, and in recent years investment rates have slowed. In response, the Chinese government, hoping to continue to attract foreign companies has established a number of incentives for would-be investors.  The following questions can be used in a discuss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Consider the challenges involved with investing in China. How does China’s political position and economic situation affect its ability to attract foreign direct invest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will probably recognize that while on the surface, China has tremendous market potential, it is still a poor country.  Anticipated demand does not always translate into actual demand.  In addition, thanks to the country’s lack of a well-developed transportation system, distribution problems continue to exist, particularly outside major urban areas.  In addition, the country’s highly regulated environment makes it difficult for companies to conduct busine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Discuss China’s efforts to encourage investment in its underdeveloped areas.  What effect will investment have on these areas?  How can firms prepare for the unique challenges of operating in these are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China is making a concerted effort to continue to attract investment, especially in the country’s less developed areas.  Recognizing the problems associated with its infrastructure, the country has committed $800 billion to improvements over the next decade.  In addition, China is offering preferential tax breaks to countries that invest in more remote area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Some experts believe that a certain amount of interdependency has been established between the United States and China that will influence the policy decisions of the two countries.  For more information, go to {</a:t>
            </a:r>
            <a:r>
              <a:rPr b="0" lang="en-US" sz="800" spc="-1" strike="noStrike" u="sng">
                <a:solidFill>
                  <a:srgbClr val="ccccff"/>
                </a:solidFill>
                <a:uFillTx/>
                <a:latin typeface="Times New Roman"/>
                <a:hlinkClick r:id="rId1"/>
              </a:rPr>
              <a:t>http://www.businessweek.com/globalbiz/content/jul2007/gb20070718_614386.htm?chan=search</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Some foreign companies with investments in China have recently become targets of intense criticism.  For more details, go to {</a:t>
            </a:r>
            <a:r>
              <a:rPr b="0" lang="en-US" sz="800" spc="-1" strike="noStrike" u="sng">
                <a:solidFill>
                  <a:srgbClr val="ccccff"/>
                </a:solidFill>
                <a:uFillTx/>
                <a:latin typeface="Times New Roman"/>
                <a:hlinkClick r:id="rId2"/>
              </a:rPr>
              <a:t>http://www.businessweek.com/globalbiz/content/may2008/gb20080530_213248.htm?chan=searc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China Rising Part 1: The Boom  - China’s Rising Economy</a:t>
            </a:r>
            <a:r>
              <a:rPr b="0" lang="en-US" sz="800" spc="-1" strike="noStrike">
                <a:solidFill>
                  <a:srgbClr val="000000"/>
                </a:solidFill>
                <a:latin typeface="Times New Roman"/>
              </a:rPr>
              <a:t> fits in well with this featu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7-</a:t>
            </a:r>
            <a:fld id="{9A3617F9-EA0C-44B7-BC56-354B360DACD4}"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Source of FDI</a:t>
            </a:r>
            <a:endParaRPr b="1" lang="en-US" sz="36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World War II, the U.S. has been the largest source country for FDI</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mportant source countries include the United Kingdom, the Netherlands, France, Germany, and Japan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ountries also predominate in rankings of the world’s largest multinationa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Source of FDI</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FDI Outflows 1998 - 2006</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Picture 4" descr="hiL8139X_0705"/>
          <p:cNvPicPr/>
          <p:nvPr/>
        </p:nvPicPr>
        <p:blipFill>
          <a:blip r:embed="rId1"/>
          <a:stretch/>
        </p:blipFill>
        <p:spPr>
          <a:xfrm>
            <a:off x="2133720" y="2584440"/>
            <a:ext cx="5562360" cy="374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Form of FDI: Acquisitions versus Greenfield Investments</a:t>
            </a:r>
            <a:endParaRPr b="1" lang="en-US" sz="3200" spc="-1" strike="noStrike">
              <a:solidFill>
                <a:srgbClr val="c6040b"/>
              </a:solidFill>
              <a:latin typeface="Arial"/>
            </a:endParaRPr>
          </a:p>
        </p:txBody>
      </p:sp>
      <p:sp>
        <p:nvSpPr>
          <p:cNvPr id="17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ity of cross-border investment involves mergers and acquisitions rather than greenfield investment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prefer to acquire existing assets becaus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rs and acquisitions are quicker to execute than greenfield investment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ier and perhaps less risky for a firm to acquire desired assets than build them from the ground up</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believe they can increase the efficiency of an acquired unit by transferring capital, technology, or management skill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Shift to Services</a:t>
            </a:r>
            <a:endParaRPr b="1" lang="en-US" sz="3600" spc="-1" strike="noStrike">
              <a:solidFill>
                <a:srgbClr val="c6040b"/>
              </a:solidFill>
              <a:latin typeface="Arial"/>
            </a:endParaRPr>
          </a:p>
        </p:txBody>
      </p:sp>
      <p:sp>
        <p:nvSpPr>
          <p:cNvPr id="17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two decades, there has been a shift towards FDI in services  </a:t>
            </a:r>
            <a:endParaRPr b="0" lang="en-US" sz="2000" spc="-1" strike="noStrike">
              <a:solidFill>
                <a:srgbClr val="000000"/>
              </a:solidFill>
              <a:latin typeface="Arial"/>
            </a:endParaRPr>
          </a:p>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ift to services is being driven by</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move in many developed countries toward services</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ct that many services cannot be exported</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beralization of policies governing FDI in services</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se of Internet-based global telecommunications networks that have  allowed some service enterprises to relocate some of their value creation activities to different nations to take advantage of favorable factor cos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ories of </a:t>
            </a:r>
            <a:br>
              <a:rPr sz="3200"/>
            </a:br>
            <a:r>
              <a:rPr b="1" lang="en-US" sz="3200" spc="-1" strike="noStrike">
                <a:solidFill>
                  <a:srgbClr val="336699"/>
                </a:solidFill>
                <a:latin typeface="Arial"/>
              </a:rPr>
              <a:t>Foreign Direct Investment</a:t>
            </a:r>
            <a:endParaRPr b="1" lang="en-US" sz="3200" spc="-1" strike="noStrike">
              <a:solidFill>
                <a:srgbClr val="c6040b"/>
              </a:solidFill>
              <a:latin typeface="Arial"/>
            </a:endParaRPr>
          </a:p>
        </p:txBody>
      </p:sp>
      <p:sp>
        <p:nvSpPr>
          <p:cNvPr id="17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y do firms prefer FDI to either </a:t>
            </a:r>
            <a:r>
              <a:rPr b="0" lang="en-US" sz="2400" spc="-1" strike="noStrike">
                <a:solidFill>
                  <a:srgbClr val="6a96d3"/>
                </a:solidFill>
                <a:latin typeface="Arial"/>
              </a:rPr>
              <a:t>exporting</a:t>
            </a:r>
            <a:r>
              <a:rPr b="1" lang="en-US" sz="2400" spc="-1" strike="noStrike">
                <a:solidFill>
                  <a:srgbClr val="000000"/>
                </a:solidFill>
                <a:latin typeface="Arial"/>
              </a:rPr>
              <a:t> </a:t>
            </a:r>
            <a:r>
              <a:rPr b="0" lang="en-US" sz="2400" spc="-1" strike="noStrike">
                <a:solidFill>
                  <a:srgbClr val="000000"/>
                </a:solidFill>
                <a:latin typeface="Arial"/>
              </a:rPr>
              <a:t>(producing goods at home and then shipping them to the receiving country for sale) or </a:t>
            </a:r>
            <a:r>
              <a:rPr b="0" lang="en-US" sz="2400" spc="-1" strike="noStrike">
                <a:solidFill>
                  <a:srgbClr val="6a96d3"/>
                </a:solidFill>
                <a:latin typeface="Arial"/>
              </a:rPr>
              <a:t>licensing</a:t>
            </a:r>
            <a:r>
              <a:rPr b="1" lang="en-US" sz="2400" spc="-1" strike="noStrike">
                <a:solidFill>
                  <a:srgbClr val="000000"/>
                </a:solidFill>
                <a:latin typeface="Arial"/>
              </a:rPr>
              <a:t> </a:t>
            </a:r>
            <a:r>
              <a:rPr b="0" lang="en-US" sz="2400" spc="-1" strike="noStrike">
                <a:solidFill>
                  <a:srgbClr val="000000"/>
                </a:solidFill>
                <a:latin typeface="Arial"/>
              </a:rPr>
              <a:t>(granting a foreign entity the right to</a:t>
            </a:r>
            <a:r>
              <a:rPr b="1" lang="en-US" sz="2400" spc="-1" strike="noStrike">
                <a:solidFill>
                  <a:srgbClr val="000000"/>
                </a:solidFill>
                <a:latin typeface="Arial"/>
              </a:rPr>
              <a:t> </a:t>
            </a:r>
            <a:r>
              <a:rPr b="0" lang="en-US" sz="2400" spc="-1" strike="noStrike">
                <a:solidFill>
                  <a:srgbClr val="000000"/>
                </a:solidFill>
                <a:latin typeface="Arial"/>
              </a:rPr>
              <a:t>produce and sell the firm’s product in return for a royalty fee on every unit that the foreign entity sell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nswer this question, we need to look at the limitations of exporting and licensing, and the advantages of FD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ories of </a:t>
            </a:r>
            <a:br>
              <a:rPr sz="3200"/>
            </a:br>
            <a:r>
              <a:rPr b="1" lang="en-US" sz="3200" spc="-1" strike="noStrike">
                <a:solidFill>
                  <a:srgbClr val="336699"/>
                </a:solidFill>
                <a:latin typeface="Arial"/>
              </a:rPr>
              <a:t>Foreign Direct Investment</a:t>
            </a:r>
            <a:endParaRPr b="1" lang="en-US" sz="3200" spc="-1" strike="noStrike">
              <a:solidFill>
                <a:srgbClr val="c6040b"/>
              </a:solidFill>
              <a:latin typeface="Arial"/>
            </a:endParaRPr>
          </a:p>
        </p:txBody>
      </p:sp>
      <p:sp>
        <p:nvSpPr>
          <p:cNvPr id="17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Limitations of Export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ability of an exporting strategy can be constrained by transportation costs and trade barrier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ransportation costs are high, exporting can be unprofitabl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direct investment may be a response to actual or threatened trade barriers such as import tariffs or quotas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ories of </a:t>
            </a:r>
            <a:br>
              <a:rPr sz="3200"/>
            </a:br>
            <a:r>
              <a:rPr b="1" lang="en-US" sz="3200" spc="-1" strike="noStrike">
                <a:solidFill>
                  <a:srgbClr val="336699"/>
                </a:solidFill>
                <a:latin typeface="Arial"/>
              </a:rPr>
              <a:t>Foreign Direct Investment</a:t>
            </a:r>
            <a:endParaRPr b="1" lang="en-US" sz="3200" spc="-1" strike="noStrike">
              <a:solidFill>
                <a:srgbClr val="c6040b"/>
              </a:solidFill>
              <a:latin typeface="Arial"/>
            </a:endParaRPr>
          </a:p>
        </p:txBody>
      </p:sp>
      <p:sp>
        <p:nvSpPr>
          <p:cNvPr id="181"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Limitations of Licensing</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Internalization theory</a:t>
            </a:r>
            <a:r>
              <a:rPr b="0" lang="en-US" sz="2400" spc="-1" strike="noStrike">
                <a:solidFill>
                  <a:srgbClr val="000000"/>
                </a:solidFill>
                <a:latin typeface="Arial"/>
              </a:rPr>
              <a:t> (also known as </a:t>
            </a:r>
            <a:r>
              <a:rPr b="0" lang="en-US" sz="2400" spc="-1" strike="noStrike">
                <a:solidFill>
                  <a:srgbClr val="6a96d3"/>
                </a:solidFill>
                <a:latin typeface="Arial"/>
              </a:rPr>
              <a:t>market imperfections</a:t>
            </a:r>
            <a:r>
              <a:rPr b="0" lang="en-US" sz="2400" spc="-1" strike="noStrike">
                <a:solidFill>
                  <a:srgbClr val="000000"/>
                </a:solidFill>
                <a:latin typeface="Arial"/>
              </a:rPr>
              <a:t>) suggests that licensing has three major drawbacks</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result in a firm’s giving away valuable technological know-how to a potential foreign competitor</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give a firm the tight control over manufacturing, marketing, and strategy in a foreign country that may be required to maximize its profitability</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be difficult if the firm’s competitive advantage is not amendable to licensing</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attern of </a:t>
            </a:r>
            <a:br>
              <a:rPr sz="3200"/>
            </a:br>
            <a:r>
              <a:rPr b="1" lang="en-US" sz="3200" spc="-1" strike="noStrike">
                <a:solidFill>
                  <a:srgbClr val="336699"/>
                </a:solidFill>
                <a:latin typeface="Arial"/>
              </a:rPr>
              <a:t>Foreign Direct Investment</a:t>
            </a:r>
            <a:endParaRPr b="1" lang="en-US" sz="3200" spc="-1" strike="noStrike">
              <a:solidFill>
                <a:srgbClr val="c6040b"/>
              </a:solidFill>
              <a:latin typeface="Arial"/>
            </a:endParaRPr>
          </a:p>
        </p:txBody>
      </p:sp>
      <p:sp>
        <p:nvSpPr>
          <p:cNvPr id="18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3. Advantages of Foreign Direct Investment</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rm will favor FDI over exporting as an entry strategy when</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costs are high</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barriers are high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rm will favor FDI over licensing when</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nts control over its technological know-how</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nts over its operations and business strateg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s capabilities are not amenable to licen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attern of </a:t>
            </a:r>
            <a:br>
              <a:rPr sz="3200"/>
            </a:br>
            <a:r>
              <a:rPr b="1" lang="en-US" sz="3200" spc="-1" strike="noStrike">
                <a:solidFill>
                  <a:srgbClr val="336699"/>
                </a:solidFill>
                <a:latin typeface="Arial"/>
              </a:rPr>
              <a:t>Foreign Direct Investment</a:t>
            </a:r>
            <a:endParaRPr b="1" lang="en-US" sz="3200" spc="-1" strike="noStrike">
              <a:solidFill>
                <a:srgbClr val="c6040b"/>
              </a:solidFill>
              <a:latin typeface="Arial"/>
            </a:endParaRPr>
          </a:p>
        </p:txBody>
      </p:sp>
      <p:sp>
        <p:nvSpPr>
          <p:cNvPr id="185"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mmon for firms in the same industry to </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imilar strategic behavior and undertake foreign direct investment around the same time</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their investment activities towards certain locations at certain stages in the product life cycle</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attern of </a:t>
            </a:r>
            <a:br>
              <a:rPr sz="3200"/>
            </a:br>
            <a:r>
              <a:rPr b="1" lang="en-US" sz="3200" spc="-1" strike="noStrike">
                <a:solidFill>
                  <a:srgbClr val="336699"/>
                </a:solidFill>
                <a:latin typeface="Arial"/>
              </a:rPr>
              <a:t>Foreign Direct Investment</a:t>
            </a:r>
            <a:endParaRPr b="1" lang="en-US" sz="3200" spc="-1" strike="noStrike">
              <a:solidFill>
                <a:srgbClr val="c6040b"/>
              </a:solidFill>
              <a:latin typeface="Arial"/>
            </a:endParaRPr>
          </a:p>
        </p:txBody>
      </p:sp>
      <p:sp>
        <p:nvSpPr>
          <p:cNvPr id="18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Strategic Behavior</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ickerbocker explored the relationship between FDI and rivalry in </a:t>
            </a:r>
            <a:r>
              <a:rPr b="0" lang="en-US" sz="2400" spc="-1" strike="noStrike">
                <a:solidFill>
                  <a:srgbClr val="6a96d3"/>
                </a:solidFill>
                <a:latin typeface="Arial"/>
              </a:rPr>
              <a:t>oligopolistic</a:t>
            </a:r>
            <a:r>
              <a:rPr b="0" lang="en-US" sz="2400" spc="-1" strike="noStrike">
                <a:solidFill>
                  <a:srgbClr val="000000"/>
                </a:solidFill>
                <a:latin typeface="Arial"/>
              </a:rPr>
              <a:t> industries (industries composed of a limited number of large firm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ickerbocker suggested that FDI flows are a reflection of strategic rivalry between firms in the global marketplace</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heory can be extended to embrace the concept of </a:t>
            </a:r>
            <a:r>
              <a:rPr b="0" lang="en-US" sz="2400" spc="-1" strike="noStrike">
                <a:solidFill>
                  <a:srgbClr val="6a96d3"/>
                </a:solidFill>
                <a:latin typeface="Arial"/>
              </a:rPr>
              <a:t>multipoint competition</a:t>
            </a:r>
            <a:r>
              <a:rPr b="0" lang="en-US" sz="2400" spc="-1" strike="noStrike">
                <a:solidFill>
                  <a:srgbClr val="000000"/>
                </a:solidFill>
                <a:latin typeface="Arial"/>
              </a:rPr>
              <a:t> (when two or more enterprises encounter each other in different regional markets, national markets, or industri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7</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96d3"/>
                </a:solidFill>
                <a:latin typeface="Arial"/>
              </a:rPr>
              <a:t>Foreign Direct Investment</a:t>
            </a:r>
            <a:endParaRPr b="0" lang="en-US" sz="4400" spc="-1" strike="noStrike">
              <a:solidFill>
                <a:srgbClr val="000000"/>
              </a:solidFill>
              <a:latin typeface="Arial"/>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attern of </a:t>
            </a:r>
            <a:br>
              <a:rPr sz="3200"/>
            </a:br>
            <a:r>
              <a:rPr b="1" lang="en-US" sz="3200" spc="-1" strike="noStrike">
                <a:solidFill>
                  <a:srgbClr val="336699"/>
                </a:solidFill>
                <a:latin typeface="Arial"/>
              </a:rPr>
              <a:t>Foreign Direct Investment</a:t>
            </a:r>
            <a:endParaRPr b="1" lang="en-US" sz="3200" spc="-1" strike="noStrike">
              <a:solidFill>
                <a:srgbClr val="c6040b"/>
              </a:solidFill>
              <a:latin typeface="Arial"/>
            </a:endParaRPr>
          </a:p>
        </p:txBody>
      </p:sp>
      <p:sp>
        <p:nvSpPr>
          <p:cNvPr id="18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The Product Life Cycl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non argues that firms undertake FDI at particular stages in the life cycle of a product they have pioneered</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invest in other advanced countries when local demand in those countries grows large enough to support local productio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en shift production to low-cost developing countries when product standardization and market saturation give rise to price competition and cost pressu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clectic Paradigm</a:t>
            </a:r>
            <a:endParaRPr b="1" lang="en-US" sz="3600" spc="-1" strike="noStrike">
              <a:solidFill>
                <a:srgbClr val="c6040b"/>
              </a:solidFill>
              <a:latin typeface="Arial"/>
            </a:endParaRPr>
          </a:p>
        </p:txBody>
      </p:sp>
      <p:sp>
        <p:nvSpPr>
          <p:cNvPr id="19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unning’s </a:t>
            </a:r>
            <a:r>
              <a:rPr b="0" lang="en-US" sz="2400" spc="-1" strike="noStrike">
                <a:solidFill>
                  <a:srgbClr val="6a96d3"/>
                </a:solidFill>
                <a:latin typeface="Arial"/>
              </a:rPr>
              <a:t>eclectic paradigm</a:t>
            </a:r>
            <a:r>
              <a:rPr b="0" lang="en-US" sz="2400" spc="-1" strike="noStrike">
                <a:solidFill>
                  <a:srgbClr val="000000"/>
                </a:solidFill>
                <a:latin typeface="Arial"/>
              </a:rPr>
              <a:t> argues that in addition to the various factors discussed earlier, two additional factors must be considered when explaining both the rationale for and the direction of foreign direct investmen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location-specific advantages</a:t>
            </a:r>
            <a:r>
              <a:rPr b="1" lang="en-US" sz="2400" spc="-1" strike="noStrike">
                <a:solidFill>
                  <a:srgbClr val="000000"/>
                </a:solidFill>
                <a:latin typeface="Arial"/>
              </a:rPr>
              <a:t> </a:t>
            </a:r>
            <a:r>
              <a:rPr b="0" lang="en-US" sz="2400" spc="-1" strike="noStrike">
                <a:solidFill>
                  <a:srgbClr val="000000"/>
                </a:solidFill>
                <a:latin typeface="Arial"/>
              </a:rPr>
              <a:t>(that arise</a:t>
            </a:r>
            <a:r>
              <a:rPr b="1" lang="en-US" sz="2400" spc="-1" strike="noStrike">
                <a:solidFill>
                  <a:srgbClr val="000000"/>
                </a:solidFill>
                <a:latin typeface="Arial"/>
              </a:rPr>
              <a:t> </a:t>
            </a:r>
            <a:r>
              <a:rPr b="0" lang="en-US" sz="2400" spc="-1" strike="noStrike">
                <a:solidFill>
                  <a:srgbClr val="000000"/>
                </a:solidFill>
                <a:latin typeface="Arial"/>
              </a:rPr>
              <a:t>from using resource</a:t>
            </a:r>
            <a:r>
              <a:rPr b="1" lang="en-US" sz="2400" spc="-1" strike="noStrike">
                <a:solidFill>
                  <a:srgbClr val="000000"/>
                </a:solidFill>
                <a:latin typeface="Arial"/>
              </a:rPr>
              <a:t> </a:t>
            </a:r>
            <a:r>
              <a:rPr b="0" lang="en-US" sz="2400" spc="-1" strike="noStrike">
                <a:solidFill>
                  <a:srgbClr val="000000"/>
                </a:solidFill>
                <a:latin typeface="Arial"/>
              </a:rPr>
              <a:t>endowments or assets that are tied to a particular location and that a firm finds valuable to combine with its own unique asset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externalities</a:t>
            </a:r>
            <a:r>
              <a:rPr b="1" lang="en-US" sz="2400" spc="-1" strike="noStrike">
                <a:solidFill>
                  <a:srgbClr val="000000"/>
                </a:solidFill>
                <a:latin typeface="Arial"/>
              </a:rPr>
              <a:t> </a:t>
            </a:r>
            <a:r>
              <a:rPr b="0" lang="en-US" sz="2400" spc="-1" strike="noStrike">
                <a:solidFill>
                  <a:srgbClr val="000000"/>
                </a:solidFill>
                <a:latin typeface="Arial"/>
              </a:rPr>
              <a:t>(knowledge spillovers that occur when companies in the same industry locate in the sam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Ideology and </a:t>
            </a:r>
            <a:br>
              <a:rPr sz="3200"/>
            </a:br>
            <a:r>
              <a:rPr b="1" lang="en-US" sz="3200" spc="-1" strike="noStrike">
                <a:solidFill>
                  <a:srgbClr val="336699"/>
                </a:solidFill>
                <a:latin typeface="Arial"/>
              </a:rPr>
              <a:t>Foreign Direct Investment</a:t>
            </a:r>
            <a:endParaRPr b="1" lang="en-US" sz="3200" spc="-1" strike="noStrike">
              <a:solidFill>
                <a:srgbClr val="c6040b"/>
              </a:solidFill>
              <a:latin typeface="Arial"/>
            </a:endParaRPr>
          </a:p>
        </p:txBody>
      </p:sp>
      <p:sp>
        <p:nvSpPr>
          <p:cNvPr id="19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ology toward FDI has ranged from a radical stance that is hostile to all FDI to the non-interventionist principle of free market economi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these two extremes is an approach that might be called pragmatic national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adical View</a:t>
            </a:r>
            <a:endParaRPr b="1" lang="en-US" sz="3600" spc="-1" strike="noStrike">
              <a:solidFill>
                <a:srgbClr val="c6040b"/>
              </a:solidFill>
              <a:latin typeface="Arial"/>
            </a:endParaRPr>
          </a:p>
        </p:txBody>
      </p:sp>
      <p:sp>
        <p:nvSpPr>
          <p:cNvPr id="195" name="PlaceHolder 2"/>
          <p:cNvSpPr>
            <a:spLocks noGrp="1"/>
          </p:cNvSpPr>
          <p:nvPr>
            <p:ph/>
          </p:nvPr>
        </p:nvSpPr>
        <p:spPr>
          <a:xfrm>
            <a:off x="1883880" y="1798560"/>
            <a:ext cx="7031160" cy="4525920"/>
          </a:xfrm>
          <a:prstGeom prst="rect">
            <a:avLst/>
          </a:prstGeom>
          <a:noFill/>
          <a:ln w="0">
            <a:noFill/>
          </a:ln>
        </p:spPr>
        <p:txBody>
          <a:bodyPr anchor="t">
            <a:normAutofit fontScale="98000"/>
          </a:bodyPr>
          <a:p>
            <a:pPr marL="335880" indent="-3358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dical view argues that the MNE is an instrument of imperialist domination and a tool for exploiting host countries to the exclusive benefit of their capitalist-imperialist home countries</a:t>
            </a:r>
            <a:endParaRPr b="0" lang="en-US" sz="2400" spc="-1" strike="noStrike">
              <a:solidFill>
                <a:srgbClr val="000000"/>
              </a:solidFill>
              <a:latin typeface="Arial"/>
            </a:endParaRPr>
          </a:p>
          <a:p>
            <a:pPr marL="335880" indent="-3358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dical view has been in retreat because of</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apse of communism in Eastern Europe</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or economic performance of those countries that had embraced the policy</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ong economic performance of developing countries that had embraced capital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Free Market View</a:t>
            </a:r>
            <a:endParaRPr b="1" lang="en-US" sz="3600" spc="-1" strike="noStrike">
              <a:solidFill>
                <a:srgbClr val="c6040b"/>
              </a:solidFill>
              <a:latin typeface="Arial"/>
            </a:endParaRPr>
          </a:p>
        </p:txBody>
      </p:sp>
      <p:sp>
        <p:nvSpPr>
          <p:cNvPr id="19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e market view argues that international production should be distributed among countries according to the theory of comparative advantag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MNE increases the overall efficiency of the world economy  </a:t>
            </a:r>
            <a:endParaRPr b="0" lang="en-US" sz="2800" spc="-1" strike="noStrike">
              <a:solidFill>
                <a:srgbClr val="000000"/>
              </a:solidFill>
              <a:latin typeface="Arial"/>
            </a:endParaRPr>
          </a:p>
          <a:p>
            <a:pPr marL="343080" indent="-343080">
              <a:lnSpc>
                <a:spcPct val="90000"/>
              </a:lnSpc>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e market view has been embraced by advanced and developing nations, including the United States, Britain, Chile, and Hong Ko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agmatic Nationalism</a:t>
            </a:r>
            <a:endParaRPr b="1" lang="en-US" sz="3600" spc="-1" strike="noStrike">
              <a:solidFill>
                <a:srgbClr val="c6040b"/>
              </a:solidFill>
              <a:latin typeface="Arial"/>
            </a:endParaRPr>
          </a:p>
        </p:txBody>
      </p:sp>
      <p:sp>
        <p:nvSpPr>
          <p:cNvPr id="19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agmatic nationalist view is that FDI has both benefits, such as inflows of capital, technology, skills and jobs, and costs, such as repatriation of profits to the home country and a negative balance of payments effect</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this view, FDI should be allowed only if the benefits outweigh the cos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hifting Ideology</a:t>
            </a:r>
            <a:endParaRPr b="1" lang="en-US" sz="3600" spc="-1" strike="noStrike">
              <a:solidFill>
                <a:srgbClr val="c6040b"/>
              </a:solidFill>
              <a:latin typeface="Arial"/>
            </a:endParaRPr>
          </a:p>
        </p:txBody>
      </p:sp>
      <p:sp>
        <p:nvSpPr>
          <p:cNvPr id="20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cent years, there has been a strong shift toward the free market stance creating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rge in the volume of FDI worldwide</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crease in the volume of FDI directed at countries that have recently liberalized their regi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Benefits and Costs of FDI</a:t>
            </a:r>
            <a:endParaRPr b="1" lang="en-US" sz="3600" spc="-1" strike="noStrike">
              <a:solidFill>
                <a:srgbClr val="c6040b"/>
              </a:solidFill>
              <a:latin typeface="Arial"/>
            </a:endParaRPr>
          </a:p>
        </p:txBody>
      </p:sp>
      <p:sp>
        <p:nvSpPr>
          <p:cNvPr id="20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are the benefits and costs of FD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s and costs of FDI must be explored from the perspective of both the host (receiving) country and the home (source) count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st Country Benefits</a:t>
            </a:r>
            <a:endParaRPr b="1" lang="en-US" sz="3600" spc="-1" strike="noStrike">
              <a:solidFill>
                <a:srgbClr val="c6040b"/>
              </a:solidFill>
              <a:latin typeface="Arial"/>
            </a:endParaRPr>
          </a:p>
        </p:txBody>
      </p:sp>
      <p:sp>
        <p:nvSpPr>
          <p:cNvPr id="20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Resource Transfer Effect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I can make a positive contribution to a host economy by supplying capital, technology, and management resources that would otherwise not be avail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Employment Effect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I can bring jobs to a host country that would otherwise not be created the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st Country Benefits</a:t>
            </a:r>
            <a:endParaRPr b="1" lang="en-US" sz="3600" spc="-1" strike="noStrike">
              <a:solidFill>
                <a:srgbClr val="c6040b"/>
              </a:solidFill>
              <a:latin typeface="Arial"/>
            </a:endParaRPr>
          </a:p>
        </p:txBody>
      </p:sp>
      <p:sp>
        <p:nvSpPr>
          <p:cNvPr id="20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3. Balance-of-Payments Effect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ry’s </a:t>
            </a:r>
            <a:r>
              <a:rPr b="0" lang="en-US" sz="2400" spc="-1" strike="noStrike">
                <a:solidFill>
                  <a:srgbClr val="6a96d3"/>
                </a:solidFill>
                <a:latin typeface="Arial"/>
              </a:rPr>
              <a:t>balance-of-payments account</a:t>
            </a:r>
            <a:r>
              <a:rPr b="1" lang="en-US" sz="2400" spc="-1" strike="noStrike">
                <a:solidFill>
                  <a:srgbClr val="000000"/>
                </a:solidFill>
                <a:latin typeface="Arial"/>
              </a:rPr>
              <a:t> </a:t>
            </a:r>
            <a:r>
              <a:rPr b="0" lang="en-US" sz="2400" spc="-1" strike="noStrike">
                <a:solidFill>
                  <a:srgbClr val="000000"/>
                </a:solidFill>
                <a:latin typeface="Arial"/>
              </a:rPr>
              <a:t>is a record of a country’s payments to and receipts from other countri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current account</a:t>
            </a:r>
            <a:r>
              <a:rPr b="0" lang="en-US" sz="2400" spc="-1" strike="noStrike">
                <a:solidFill>
                  <a:srgbClr val="000000"/>
                </a:solidFill>
                <a:latin typeface="Arial"/>
              </a:rPr>
              <a:t> is a record of a country’s export and import of goods and servic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urrent account surplus is usually favored over a deficit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I can help achieve a current account surplu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DI is a substitute for imports of goods and service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MNE uses a foreign subsidiary to export goods and services to other countr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 </a:t>
            </a:r>
            <a:r>
              <a:rPr b="0" lang="en-US" sz="2400" spc="-1" strike="noStrike">
                <a:solidFill>
                  <a:srgbClr val="000000"/>
                </a:solidFill>
                <a:latin typeface="Arial"/>
              </a:rPr>
              <a:t>What is foreign direct invest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Foreign direct investment (FDI)</a:t>
            </a:r>
            <a:r>
              <a:rPr b="0" lang="en-US" sz="2400" spc="-1" strike="noStrike">
                <a:solidFill>
                  <a:srgbClr val="000000"/>
                </a:solidFill>
                <a:latin typeface="Arial"/>
              </a:rPr>
              <a:t> occurs when a firm invests directly in new facilities to produce and/or market in a foreign countr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firm undertakes FDI it becomes a </a:t>
            </a:r>
            <a:r>
              <a:rPr b="0" lang="en-US" sz="2400" spc="-1" strike="noStrike">
                <a:solidFill>
                  <a:srgbClr val="6a96d3"/>
                </a:solidFill>
                <a:latin typeface="Arial"/>
              </a:rPr>
              <a:t>multinational enterprise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forms of FDI</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greenfield investment</a:t>
            </a:r>
            <a:r>
              <a:rPr b="1" lang="en-US" sz="2400" spc="-1" strike="noStrike">
                <a:solidFill>
                  <a:srgbClr val="000000"/>
                </a:solidFill>
                <a:latin typeface="Arial"/>
              </a:rPr>
              <a:t> </a:t>
            </a:r>
            <a:r>
              <a:rPr b="0" lang="en-US" sz="2400" spc="-1" strike="noStrike">
                <a:solidFill>
                  <a:srgbClr val="000000"/>
                </a:solidFill>
                <a:latin typeface="Arial"/>
              </a:rPr>
              <a:t>(the establishment of a wholly new operation in a foreign countr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or merging with an existing firm in the foreign count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st Country Benefits</a:t>
            </a:r>
            <a:endParaRPr b="1" lang="en-US" sz="36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4. Effect on Competition and Economic Growth</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I in the form of greenfield investment</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the level of competition in a market</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s down price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he welfare of consumers</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ompetition can lead to</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productivity growth</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and process innovation</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economic growth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st Country Costs</a:t>
            </a:r>
            <a:endParaRPr b="1" lang="en-US" sz="3600" spc="-1" strike="noStrike">
              <a:solidFill>
                <a:srgbClr val="c6040b"/>
              </a:solidFill>
              <a:latin typeface="Arial"/>
            </a:endParaRPr>
          </a:p>
        </p:txBody>
      </p:sp>
      <p:sp>
        <p:nvSpPr>
          <p:cNvPr id="211"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in costs of inward FDI</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sible adverse effects of FDI on competition within the host nation</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effects on the balance of payments</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ceived loss of national sovereignty and aut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st Country Costs</a:t>
            </a:r>
            <a:endParaRPr b="1" lang="en-US" sz="3600" spc="-1" strike="noStrike">
              <a:solidFill>
                <a:srgbClr val="c6040b"/>
              </a:solidFill>
              <a:latin typeface="Arial"/>
            </a:endParaRPr>
          </a:p>
        </p:txBody>
      </p:sp>
      <p:sp>
        <p:nvSpPr>
          <p:cNvPr id="21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Adverse Effects on Competitio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governments worry that the subsidiaries of foreign MNEs operating in their country may have greater economic power than indigenous competitors because they may be part of a larger international organizatio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larger organization, the MNE could draw on funds generated elsewhere to subsidize costs in the local marke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ing so could allow the MNE to drive indigenous competitors out of the market and create a monopoly po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st Country Costs</a:t>
            </a:r>
            <a:endParaRPr b="1" lang="en-US" sz="36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Adverse Effects on the Balance of Payments </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possible adverse effects of FDI on a host country’s balance-of-payments</a:t>
            </a:r>
            <a:endParaRPr b="0" lang="en-US" sz="2400" spc="-1" strike="noStrike">
              <a:solidFill>
                <a:srgbClr val="000000"/>
              </a:solidFill>
              <a:latin typeface="Arial"/>
            </a:endParaRPr>
          </a:p>
          <a:p>
            <a:pPr lvl="1" marL="720720" indent="-27720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initial capital inflows that come with FDI must be the subsequent outflow of capital as the foreign subsidiary repatriates earnings to its parent country</a:t>
            </a:r>
            <a:endParaRPr b="0" lang="en-US" sz="2400" spc="-1" strike="noStrike">
              <a:solidFill>
                <a:srgbClr val="000000"/>
              </a:solidFill>
              <a:latin typeface="Arial"/>
            </a:endParaRPr>
          </a:p>
          <a:p>
            <a:pPr lvl="1" marL="720720" indent="-27720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oreign subsidiary imports a substantial number of its inputs from abroad, there is a debit on the current account of the host country’s balance of pay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st Country Costs</a:t>
            </a:r>
            <a:endParaRPr b="1" lang="en-US" sz="3600" spc="-1" strike="noStrike">
              <a:solidFill>
                <a:srgbClr val="c6040b"/>
              </a:solidFill>
              <a:latin typeface="Arial"/>
            </a:endParaRPr>
          </a:p>
        </p:txBody>
      </p:sp>
      <p:sp>
        <p:nvSpPr>
          <p:cNvPr id="21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3. National Sovereignty and Autonom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ny host governments worry that FDI is accompanied by some loss of economic independence </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decisions that can affect the host country’s economy will be made by a foreign parent that has no real commitment to the host country, and over which the host country’s government has no real control</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me Country Benefits</a:t>
            </a:r>
            <a:endParaRPr b="1" lang="en-US" sz="3600" spc="-1" strike="noStrike">
              <a:solidFill>
                <a:srgbClr val="c6040b"/>
              </a:solidFill>
              <a:latin typeface="Arial"/>
            </a:endParaRPr>
          </a:p>
        </p:txBody>
      </p:sp>
      <p:sp>
        <p:nvSpPr>
          <p:cNvPr id="219"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53352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nefits of FDI to the home country include</a:t>
            </a:r>
            <a:endParaRPr b="0" lang="en-US" sz="2400" spc="-1" strike="noStrike">
              <a:solidFill>
                <a:srgbClr val="000000"/>
              </a:solidFill>
              <a:latin typeface="Arial"/>
            </a:endParaRPr>
          </a:p>
          <a:p>
            <a:pPr lvl="1" marL="91440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n the capital account of the home country’s balance of payments from the inward flow of foreign earnings</a:t>
            </a:r>
            <a:endParaRPr b="0" lang="en-US" sz="2400" spc="-1" strike="noStrike">
              <a:solidFill>
                <a:srgbClr val="000000"/>
              </a:solidFill>
              <a:latin typeface="Arial"/>
            </a:endParaRPr>
          </a:p>
          <a:p>
            <a:pPr lvl="1" marL="91440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ployment effects that arise from outward FDI</a:t>
            </a:r>
            <a:endParaRPr b="0" lang="en-US" sz="2400" spc="-1" strike="noStrike">
              <a:solidFill>
                <a:srgbClr val="000000"/>
              </a:solidFill>
              <a:latin typeface="Arial"/>
            </a:endParaRPr>
          </a:p>
          <a:p>
            <a:pPr lvl="1" marL="91440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ins from learning valuable skills from foreign markets that can subsequently be transferred back to the home countr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me Country Costs</a:t>
            </a:r>
            <a:endParaRPr b="1" lang="en-US" sz="3600" spc="-1" strike="noStrike">
              <a:solidFill>
                <a:srgbClr val="c6040b"/>
              </a:solidFill>
              <a:latin typeface="Arial"/>
            </a:endParaRPr>
          </a:p>
        </p:txBody>
      </p:sp>
      <p:sp>
        <p:nvSpPr>
          <p:cNvPr id="221"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concerns for the home country center around </a:t>
            </a:r>
            <a:endParaRPr b="0" lang="en-US" sz="2400" spc="-1" strike="noStrike">
              <a:solidFill>
                <a:srgbClr val="000000"/>
              </a:solidFill>
              <a:latin typeface="Arial"/>
            </a:endParaRPr>
          </a:p>
          <a:p>
            <a:pPr lvl="1" marL="990720" indent="-53352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The balance-of-payments</a:t>
            </a:r>
            <a:endParaRPr b="0" lang="en-US" sz="2400" spc="-1" strike="noStrike">
              <a:solidFill>
                <a:srgbClr val="000000"/>
              </a:solidFill>
              <a:latin typeface="Arial"/>
            </a:endParaRPr>
          </a:p>
          <a:p>
            <a:pPr lvl="2" marL="1371600" indent="-457200">
              <a:lnSpc>
                <a:spcPct val="90000"/>
              </a:lnSpc>
              <a:spcBef>
                <a:spcPts val="601"/>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lance of payments suffers from the initial capital outflow required to finance the FDI</a:t>
            </a:r>
            <a:endParaRPr b="0" lang="en-US" sz="2400" spc="-1" strike="noStrike">
              <a:solidFill>
                <a:srgbClr val="000000"/>
              </a:solidFill>
              <a:latin typeface="Arial"/>
            </a:endParaRPr>
          </a:p>
          <a:p>
            <a:pPr lvl="2" marL="1371600" indent="-457200">
              <a:lnSpc>
                <a:spcPct val="90000"/>
              </a:lnSpc>
              <a:spcBef>
                <a:spcPts val="601"/>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account is negatively affected if the purpose of the FDI is to serve the home market from a low-cost production location</a:t>
            </a:r>
            <a:endParaRPr b="0" lang="en-US" sz="2400" spc="-1" strike="noStrike">
              <a:solidFill>
                <a:srgbClr val="000000"/>
              </a:solidFill>
              <a:latin typeface="Arial"/>
            </a:endParaRPr>
          </a:p>
          <a:p>
            <a:pPr lvl="2" marL="1371600" indent="-457200">
              <a:lnSpc>
                <a:spcPct val="90000"/>
              </a:lnSpc>
              <a:spcBef>
                <a:spcPts val="601"/>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account suffers if the FDI is a substitute for direct exp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me Country Costs</a:t>
            </a:r>
            <a:endParaRPr b="1" lang="en-US" sz="3600" spc="-1" strike="noStrike">
              <a:solidFill>
                <a:srgbClr val="c6040b"/>
              </a:solidFill>
              <a:latin typeface="Arial"/>
            </a:endParaRPr>
          </a:p>
        </p:txBody>
      </p:sp>
      <p:sp>
        <p:nvSpPr>
          <p:cNvPr id="223" name="PlaceHolder 2"/>
          <p:cNvSpPr>
            <a:spLocks noGrp="1"/>
          </p:cNvSpPr>
          <p:nvPr>
            <p:ph/>
          </p:nvPr>
        </p:nvSpPr>
        <p:spPr>
          <a:xfrm>
            <a:off x="1883880" y="1798560"/>
            <a:ext cx="7031160" cy="452592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Employment effects of outward FDI</a:t>
            </a:r>
            <a:endParaRPr b="0" lang="en-US" sz="2800" spc="-1" strike="noStrike">
              <a:solidFill>
                <a:srgbClr val="000000"/>
              </a:solidFill>
              <a:latin typeface="Arial"/>
            </a:endParaRPr>
          </a:p>
          <a:p>
            <a:pPr lvl="2" marL="1371600" indent="-457200">
              <a:spcBef>
                <a:spcPts val="700"/>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home country is suffering from unemployment, there may be concern about the export of job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ternational Trade Theory and FDI</a:t>
            </a:r>
            <a:endParaRPr b="1" lang="en-US" sz="3200" spc="-1" strike="noStrike">
              <a:solidFill>
                <a:srgbClr val="c6040b"/>
              </a:solidFill>
              <a:latin typeface="Arial"/>
            </a:endParaRPr>
          </a:p>
        </p:txBody>
      </p:sp>
      <p:sp>
        <p:nvSpPr>
          <p:cNvPr id="22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trade theory suggests that home country concerns about the negative economic effects of </a:t>
            </a:r>
            <a:r>
              <a:rPr b="0" lang="en-US" sz="2400" spc="-1" strike="noStrike">
                <a:solidFill>
                  <a:srgbClr val="6a96d3"/>
                </a:solidFill>
                <a:latin typeface="Arial"/>
              </a:rPr>
              <a:t>offshore production</a:t>
            </a:r>
            <a:r>
              <a:rPr b="0" lang="en-US" sz="2400" spc="-1" strike="noStrike">
                <a:solidFill>
                  <a:srgbClr val="000000"/>
                </a:solidFill>
                <a:latin typeface="Arial"/>
              </a:rPr>
              <a:t> (FDI undertaken to serve the home market) may not be valid</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I may actually stimulate economic growth by freeing home country resources to concentrate on activities where the home country has a comparative advantag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s may also benefit in the form of lower pri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Government Policy Instruments </a:t>
            </a:r>
            <a:br>
              <a:rPr sz="3200"/>
            </a:br>
            <a:r>
              <a:rPr b="1" lang="en-US" sz="3200" spc="-1" strike="noStrike">
                <a:solidFill>
                  <a:srgbClr val="336699"/>
                </a:solidFill>
                <a:latin typeface="Arial"/>
              </a:rPr>
              <a:t>and FDI</a:t>
            </a:r>
            <a:endParaRPr b="1" lang="en-US" sz="3200" spc="-1" strike="noStrike">
              <a:solidFill>
                <a:srgbClr val="c6040b"/>
              </a:solidFill>
              <a:latin typeface="Arial"/>
            </a:endParaRPr>
          </a:p>
        </p:txBody>
      </p:sp>
      <p:sp>
        <p:nvSpPr>
          <p:cNvPr id="227"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I can be regulated by both home and host countries</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 can implement policies to</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FDI</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rage FD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reign Direct Investment </a:t>
            </a:r>
            <a:br>
              <a:rPr sz="3200"/>
            </a:br>
            <a:r>
              <a:rPr b="1" lang="en-US" sz="3200" spc="-1" strike="noStrike">
                <a:solidFill>
                  <a:srgbClr val="336699"/>
                </a:solidFill>
                <a:latin typeface="Arial"/>
              </a:rPr>
              <a:t>in the World Economy</a:t>
            </a:r>
            <a:endParaRPr b="1" lang="en-US" sz="32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to look at FDI</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0" lang="en-US" sz="2400" spc="-1" strike="noStrike">
                <a:solidFill>
                  <a:srgbClr val="6a96d3"/>
                </a:solidFill>
                <a:latin typeface="Arial"/>
              </a:rPr>
              <a:t> flow</a:t>
            </a:r>
            <a:r>
              <a:rPr b="0" lang="en-US" sz="2400" spc="-1" strike="noStrike">
                <a:solidFill>
                  <a:srgbClr val="000000"/>
                </a:solidFill>
                <a:latin typeface="Arial"/>
              </a:rPr>
              <a:t> of FDI refers to the amount of FDI undertaken over a given time period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stock</a:t>
            </a:r>
            <a:r>
              <a:rPr b="0" lang="en-US" sz="2400" spc="-1" strike="noStrike">
                <a:solidFill>
                  <a:srgbClr val="000000"/>
                </a:solidFill>
                <a:latin typeface="Arial"/>
              </a:rPr>
              <a:t> of FDI refers to the total accumulated value of foreign-owned assets at a given time  </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Outflows of FDI</a:t>
            </a:r>
            <a:r>
              <a:rPr b="1" lang="en-US" sz="2400" spc="-1" strike="noStrike">
                <a:solidFill>
                  <a:srgbClr val="000000"/>
                </a:solidFill>
                <a:latin typeface="Arial"/>
              </a:rPr>
              <a:t> </a:t>
            </a:r>
            <a:r>
              <a:rPr b="0" lang="en-US" sz="2400" spc="-1" strike="noStrike">
                <a:solidFill>
                  <a:srgbClr val="000000"/>
                </a:solidFill>
                <a:latin typeface="Arial"/>
              </a:rPr>
              <a:t>are the flows of FDI out of a country</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Inflows of FDI</a:t>
            </a:r>
            <a:r>
              <a:rPr b="0" lang="en-US" sz="2400" spc="-1" strike="noStrike">
                <a:solidFill>
                  <a:srgbClr val="000000"/>
                </a:solidFill>
                <a:latin typeface="Arial"/>
              </a:rPr>
              <a:t> are the flows of FDI into a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me Country Policies</a:t>
            </a:r>
            <a:endParaRPr b="1" lang="en-US" sz="3600" spc="-1" strike="noStrike">
              <a:solidFill>
                <a:srgbClr val="c6040b"/>
              </a:solidFill>
              <a:latin typeface="Arial"/>
            </a:endParaRPr>
          </a:p>
        </p:txBody>
      </p:sp>
      <p:sp>
        <p:nvSpPr>
          <p:cNvPr id="22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Encouraging Outward FDI</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nations now have government-backed insurance programs to cover major types of foreign investment risk</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policy can encourage firms to undertake FDI in politically unstable nation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untries have eliminated also double taxation of foreign incom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ost nations have relaxed restrictions on inbound F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me Country Policies</a:t>
            </a:r>
            <a:endParaRPr b="1" lang="en-US" sz="3600" spc="-1" strike="noStrike">
              <a:solidFill>
                <a:srgbClr val="c6040b"/>
              </a:solidFill>
              <a:latin typeface="Arial"/>
            </a:endParaRPr>
          </a:p>
        </p:txBody>
      </p:sp>
      <p:sp>
        <p:nvSpPr>
          <p:cNvPr id="23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Restricting Outward FD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irtually all investor countries, including the United States, have exercised some control over outward FDI from time to time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untries manipulate tax rules to make it more favorable for firms to invest at home</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may restrict firms from investing in certain nations for political reas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st Country Policies</a:t>
            </a:r>
            <a:endParaRPr b="1" lang="en-US" sz="3600" spc="-1" strike="noStrike">
              <a:solidFill>
                <a:srgbClr val="c6040b"/>
              </a:solidFill>
              <a:latin typeface="Arial"/>
            </a:endParaRPr>
          </a:p>
        </p:txBody>
      </p:sp>
      <p:sp>
        <p:nvSpPr>
          <p:cNvPr id="23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Encouraging Inward FD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 offer incentives to foreign firms to invest in their countrie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ntives are motivated by a desire to gain from the resource-transfer and employment effects of FDI, and to capture FDI away from other potential host countr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ost Country Policies</a:t>
            </a:r>
            <a:endParaRPr b="1" lang="en-US" sz="3600" spc="-1" strike="noStrike">
              <a:solidFill>
                <a:srgbClr val="c6040b"/>
              </a:solidFill>
              <a:latin typeface="Arial"/>
            </a:endParaRPr>
          </a:p>
        </p:txBody>
      </p:sp>
      <p:sp>
        <p:nvSpPr>
          <p:cNvPr id="23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2. Restricting Inward FDI</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hip restraints and performance requirements (controls over the behavior of the MNE’s local subsidiary) are used to restrict FDI </a:t>
            </a:r>
            <a:endParaRPr b="0" lang="en-US" sz="2000" spc="-1" strike="noStrike">
              <a:solidFill>
                <a:srgbClr val="000000"/>
              </a:solidFill>
              <a:latin typeface="Arial"/>
            </a:endParaRPr>
          </a:p>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hip restraints </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 foreign firms from certain sectors on the grounds of national security or competition</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based on a belief that local owners can help to maximize the resource transfer and employment benefits of FDI </a:t>
            </a:r>
            <a:endParaRPr b="0" lang="en-US" sz="2000" spc="-1" strike="noStrike">
              <a:solidFill>
                <a:srgbClr val="000000"/>
              </a:solidFill>
              <a:latin typeface="Arial"/>
            </a:endParaRPr>
          </a:p>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requirements are used to maximize the benefits and minimize the costs of FDI for the host count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ternational Institutions </a:t>
            </a:r>
            <a:br>
              <a:rPr sz="3200"/>
            </a:br>
            <a:r>
              <a:rPr b="1" lang="en-US" sz="3200" spc="-1" strike="noStrike">
                <a:solidFill>
                  <a:srgbClr val="336699"/>
                </a:solidFill>
                <a:latin typeface="Arial"/>
              </a:rPr>
              <a:t>and the Liberalization of FDI</a:t>
            </a:r>
            <a:endParaRPr b="1" lang="en-US" sz="3200" spc="-1" strike="noStrike">
              <a:solidFill>
                <a:srgbClr val="c6040b"/>
              </a:solidFill>
              <a:latin typeface="Arial"/>
            </a:endParaRPr>
          </a:p>
        </p:txBody>
      </p:sp>
      <p:sp>
        <p:nvSpPr>
          <p:cNvPr id="23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recently there has been no consistent involvement by multinational institutions in the governing of FDI</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ation of the World Trade Organization in 1995 is changing thi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TO has had some success in establishing a universal set of rules to promote the liberalization of FDI</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lications for Managers</a:t>
            </a:r>
            <a:endParaRPr b="1" lang="en-US" sz="3600" spc="-1" strike="noStrike">
              <a:solidFill>
                <a:srgbClr val="c6040b"/>
              </a:solidFill>
              <a:latin typeface="Arial"/>
            </a:endParaRPr>
          </a:p>
        </p:txBody>
      </p:sp>
      <p:sp>
        <p:nvSpPr>
          <p:cNvPr id="23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does FDI mean for international busine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ory of FDI has implications for strategic behavior of firm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policy on FDI can also be important for international busines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Theory of FDI</a:t>
            </a:r>
            <a:endParaRPr b="1" lang="en-US" sz="3600" spc="-1" strike="noStrike">
              <a:solidFill>
                <a:srgbClr val="c6040b"/>
              </a:solidFill>
              <a:latin typeface="Arial"/>
            </a:endParaRPr>
          </a:p>
        </p:txBody>
      </p:sp>
      <p:sp>
        <p:nvSpPr>
          <p:cNvPr id="24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cation-specific advantages argument associated with John Dunning help explain the direction of FDI</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nternalization theory is needed to explain why firms prefer FDI to licensing or exporting</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rting is preferable to licensing and FDI as long as transportation costs and trade barriers are 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Theory of FDI</a:t>
            </a:r>
            <a:endParaRPr b="1" lang="en-US" sz="3600" spc="-1" strike="noStrike">
              <a:solidFill>
                <a:srgbClr val="c6040b"/>
              </a:solidFill>
              <a:latin typeface="Arial"/>
            </a:endParaRPr>
          </a:p>
        </p:txBody>
      </p:sp>
      <p:sp>
        <p:nvSpPr>
          <p:cNvPr id="24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 is unattractive when</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m’s proprietary property cannot be properly protected by a licensing agreement</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m needs tight control over a foreign entity in order to maximize its market share and earnings in that country </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m’s skills and capabilities are not amenable to licens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Theory of FDI</a:t>
            </a:r>
            <a:endParaRPr b="1" lang="en-US" sz="3600" spc="-1" strike="noStrike">
              <a:solidFill>
                <a:srgbClr val="c6040b"/>
              </a:solidFill>
              <a:latin typeface="Arial"/>
            </a:endParaRPr>
          </a:p>
        </p:txBody>
      </p:sp>
      <p:sp>
        <p:nvSpPr>
          <p:cNvPr id="245"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cision Framework</a:t>
            </a:r>
            <a:endParaRPr b="0" lang="en-US" sz="2800" spc="-1" strike="noStrike">
              <a:solidFill>
                <a:srgbClr val="000000"/>
              </a:solidFill>
              <a:latin typeface="Arial"/>
            </a:endParaRPr>
          </a:p>
        </p:txBody>
      </p:sp>
      <p:pic>
        <p:nvPicPr>
          <p:cNvPr id="246" name="Picture 4" descr="hiL8139X_0706"/>
          <p:cNvPicPr/>
          <p:nvPr/>
        </p:nvPicPr>
        <p:blipFill>
          <a:blip r:embed="rId1"/>
          <a:stretch/>
        </p:blipFill>
        <p:spPr>
          <a:xfrm>
            <a:off x="2895480" y="2362320"/>
            <a:ext cx="4038840" cy="4343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Government Policy</a:t>
            </a:r>
            <a:endParaRPr b="1" lang="en-US" sz="3600" spc="-1" strike="noStrike">
              <a:solidFill>
                <a:srgbClr val="c6040b"/>
              </a:solidFill>
              <a:latin typeface="Arial"/>
            </a:endParaRPr>
          </a:p>
        </p:txBody>
      </p:sp>
      <p:sp>
        <p:nvSpPr>
          <p:cNvPr id="248" name="PlaceHolder 2"/>
          <p:cNvSpPr>
            <a:spLocks noGrp="1"/>
          </p:cNvSpPr>
          <p:nvPr>
            <p:ph/>
          </p:nvPr>
        </p:nvSpPr>
        <p:spPr>
          <a:xfrm>
            <a:off x="1883880" y="1798560"/>
            <a:ext cx="7031160" cy="4525920"/>
          </a:xfrm>
          <a:prstGeom prst="rect">
            <a:avLst/>
          </a:prstGeom>
          <a:noFill/>
          <a:ln w="0">
            <a:noFill/>
          </a:ln>
        </p:spPr>
        <p:txBody>
          <a:bodyPr anchor="t">
            <a:normAutofit/>
          </a:bodyPr>
          <a:p>
            <a:pPr>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st government’s attitude toward FDI is an important in decisions about where to locate foreign production facilities and where to make a foreign direct investment</a:t>
            </a:r>
            <a:endParaRPr b="0" lang="en-US" sz="2400" spc="-1" strike="noStrike">
              <a:solidFill>
                <a:srgbClr val="000000"/>
              </a:solidFill>
              <a:latin typeface="Arial"/>
            </a:endParaRPr>
          </a:p>
          <a:p>
            <a:pPr>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rm’s bargaining power with the host government is highest whe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government places a high value on what the firm has to offer</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are few comparable alternatives availabl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m has a long time to negot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rends in FDI</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flow and stock of FDI in the world economy has increased over the last 20 year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I has grown more rapidly than world trade and world output becaus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still fear the threat of protectionism</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shift toward democratic political institutions and free market economies has encouraged FDI</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ization of the world economy is prompting firms to undertake FDI to ensure they have a significant presence in many regions of the wor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 </a:t>
            </a:r>
            <a:endParaRPr b="1" lang="en-US" sz="3600" spc="-1" strike="noStrike">
              <a:solidFill>
                <a:srgbClr val="c6040b"/>
              </a:solidFill>
              <a:latin typeface="Arial"/>
            </a:endParaRPr>
          </a:p>
        </p:txBody>
      </p:sp>
      <p:sp>
        <p:nvSpPr>
          <p:cNvPr id="250"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 2004, inward FDI accounted for some 24 percent of gross capital formation in Ireland, but only 0.6 percent in Japan.  What do you think explains this difference in FDI inflows into the two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 </a:t>
            </a:r>
            <a:endParaRPr b="1" lang="en-US" sz="3600" spc="-1" strike="noStrike">
              <a:solidFill>
                <a:srgbClr val="c6040b"/>
              </a:solidFill>
              <a:latin typeface="Arial"/>
            </a:endParaRPr>
          </a:p>
        </p:txBody>
      </p:sp>
      <p:sp>
        <p:nvSpPr>
          <p:cNvPr id="252"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ompare and contrast these explanations of FDI: internalization theory, Vernon’s product life cycle theory, and Knickerbocker’s theory of FDI.  Which theory do you think offers the best explanation of the historical pattern of horizontal FDI?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 </a:t>
            </a:r>
            <a:endParaRPr b="1" lang="en-US" sz="3600" spc="-1" strike="noStrike">
              <a:solidFill>
                <a:srgbClr val="c6040b"/>
              </a:solidFill>
              <a:latin typeface="Arial"/>
            </a:endParaRPr>
          </a:p>
        </p:txBody>
      </p:sp>
      <p:sp>
        <p:nvSpPr>
          <p:cNvPr id="254"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read the Management Focus on Cemex and then answer the following question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ich theoretical explanation, or explanations, of FDI best explains Cemex’s FDI?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hat is the value that Cemex brings to the host economy?  Can you see any potential drawbacks of inward investment by Cemex in an econom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Cemex has a strong preference for acquisitions over greenfield ventures as an entry mode.  Wh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Why do you think Cemex decided to exit Indonesia after failing to gain majority control of Semen Gresik?  Why is majority control so important to Cemex?</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Why do you think politicians in Indonesia tried to block Cemex’s attempt to gain majority control over Semen Gresik?  Do you think Indonesia’s best interests were served by limiting Cemex’s FDI in the coun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 </a:t>
            </a:r>
            <a:endParaRPr b="1" lang="en-US" sz="3600" spc="-1" strike="noStrike">
              <a:solidFill>
                <a:srgbClr val="c6040b"/>
              </a:solidFill>
              <a:latin typeface="Arial"/>
            </a:endParaRPr>
          </a:p>
        </p:txBody>
      </p:sp>
      <p:sp>
        <p:nvSpPr>
          <p:cNvPr id="256"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the international manager of a US business that has just invented a revolutionary new personal computer that can perform the same functions as PCs, but costs only half as much to manufacture.  Your CEO has asked you to decide how to expand into the European Union market.  Your options are (i) to export from the United States, (ii) to license a European firm to manufacture and market the computer in Europe, and (iii) to set up a wholly owned subsidiary in Europe.  Evaluate the pros and cons of each alternative and suggest a course of action to your C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rends in FDI</a:t>
            </a:r>
            <a:endParaRPr b="1" lang="en-US" sz="36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I Outflows 1982-2007 </a:t>
            </a:r>
            <a:endParaRPr b="0" lang="en-US" sz="3200" spc="-1" strike="noStrike">
              <a:solidFill>
                <a:srgbClr val="000000"/>
              </a:solidFill>
              <a:latin typeface="Arial"/>
            </a:endParaRPr>
          </a:p>
        </p:txBody>
      </p:sp>
      <p:pic>
        <p:nvPicPr>
          <p:cNvPr id="159" name="Picture 4" descr="hiL8139X_0701"/>
          <p:cNvPicPr/>
          <p:nvPr/>
        </p:nvPicPr>
        <p:blipFill>
          <a:blip r:embed="rId1"/>
          <a:stretch/>
        </p:blipFill>
        <p:spPr>
          <a:xfrm>
            <a:off x="1884240" y="2468520"/>
            <a:ext cx="5811840" cy="423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Direction of FDI</a:t>
            </a:r>
            <a:endParaRPr b="1" lang="en-US" sz="3600" spc="-1" strike="noStrike">
              <a:solidFill>
                <a:srgbClr val="c6040b"/>
              </a:solidFill>
              <a:latin typeface="Arial"/>
            </a:endParaRPr>
          </a:p>
        </p:txBody>
      </p:sp>
      <p:sp>
        <p:nvSpPr>
          <p:cNvPr id="161" name="PlaceHolder 2"/>
          <p:cNvSpPr>
            <a:spLocks noGrp="1"/>
          </p:cNvSpPr>
          <p:nvPr>
            <p:ph/>
          </p:nvPr>
        </p:nvSpPr>
        <p:spPr>
          <a:xfrm>
            <a:off x="1883880" y="1798560"/>
            <a:ext cx="7031160" cy="4525920"/>
          </a:xfrm>
          <a:prstGeom prst="rect">
            <a:avLst/>
          </a:prstGeom>
          <a:noFill/>
          <a:ln w="0">
            <a:noFill/>
          </a:ln>
        </p:spPr>
        <p:txBody>
          <a:bodyPr anchor="t">
            <a:normAutofit/>
          </a:bodyPr>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ly, most FDI has been directed at the developed nations of the world, with the United States being a favorite target  </a:t>
            </a:r>
            <a:endParaRPr b="0" lang="en-US" sz="2800" spc="-1" strike="noStrike">
              <a:solidFill>
                <a:srgbClr val="000000"/>
              </a:solidFill>
              <a:latin typeface="Arial"/>
            </a:endParaRPr>
          </a:p>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I inflows have remained high during the early 2000s for the United States, and also for the European Union</a:t>
            </a:r>
            <a:endParaRPr b="0" lang="en-US" sz="2800" spc="-1" strike="noStrike">
              <a:solidFill>
                <a:srgbClr val="000000"/>
              </a:solidFill>
              <a:latin typeface="Arial"/>
            </a:endParaRPr>
          </a:p>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East, and Southeast Asia, and particularly China, are now seeing an increase of FDI inflows</a:t>
            </a:r>
            <a:endParaRPr b="0" lang="en-US" sz="2800" spc="-1" strike="noStrike">
              <a:solidFill>
                <a:srgbClr val="000000"/>
              </a:solidFill>
              <a:latin typeface="Arial"/>
            </a:endParaRPr>
          </a:p>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n America is also emerging as an important region for FDI</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Direction of FDI</a:t>
            </a:r>
            <a:endParaRPr b="1" lang="en-US" sz="3600" spc="-1" strike="noStrike">
              <a:solidFill>
                <a:srgbClr val="c6040b"/>
              </a:solidFill>
              <a:latin typeface="Arial"/>
            </a:endParaRPr>
          </a:p>
        </p:txBody>
      </p:sp>
      <p:sp>
        <p:nvSpPr>
          <p:cNvPr id="163"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I Inflows by Region 1995 -2007</a:t>
            </a:r>
            <a:endParaRPr b="0" lang="en-US" sz="2800" spc="-1" strike="noStrike">
              <a:solidFill>
                <a:srgbClr val="000000"/>
              </a:solidFill>
              <a:latin typeface="Arial"/>
            </a:endParaRPr>
          </a:p>
        </p:txBody>
      </p:sp>
      <p:pic>
        <p:nvPicPr>
          <p:cNvPr id="164" name="Picture 4" descr="hiL8139X_0703"/>
          <p:cNvPicPr/>
          <p:nvPr/>
        </p:nvPicPr>
        <p:blipFill>
          <a:blip r:embed="rId1"/>
          <a:stretch/>
        </p:blipFill>
        <p:spPr>
          <a:xfrm>
            <a:off x="2438280" y="2438280"/>
            <a:ext cx="47246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Direction of FDI</a:t>
            </a:r>
            <a:endParaRPr b="1" lang="en-US" sz="36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I can also be expressed as a percentage of</a:t>
            </a:r>
            <a:r>
              <a:rPr b="0" lang="en-US" sz="2400" spc="-1" strike="noStrike">
                <a:solidFill>
                  <a:srgbClr val="6a96d3"/>
                </a:solidFill>
                <a:latin typeface="Arial"/>
              </a:rPr>
              <a:t> gross fixed capital formation</a:t>
            </a:r>
            <a:r>
              <a:rPr b="1" lang="en-US" sz="2400" spc="-1" strike="noStrike">
                <a:solidFill>
                  <a:srgbClr val="000000"/>
                </a:solidFill>
                <a:latin typeface="Arial"/>
              </a:rPr>
              <a:t> </a:t>
            </a:r>
            <a:r>
              <a:rPr b="0" lang="en-US" sz="2400" spc="-1" strike="noStrike">
                <a:solidFill>
                  <a:srgbClr val="000000"/>
                </a:solidFill>
                <a:latin typeface="Arial"/>
              </a:rPr>
              <a:t>summarizes (the total amount of capital invested in factories, stores, office buildings, and the like)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lse being equal, the greater the capital investment in an economy, the more favorable its future prospects are likely to be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DI can be seen as an important source of capital investment and a determinant of the future growth rate of an econom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45:24Z</dcterms:modified>
  <cp:revision>17</cp:revision>
  <dc:subject/>
  <dc:title>Slide 1</dc:title>
</cp:coreProperties>
</file>