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215-8DC0-4528-9616-94662204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066D-93D9-4BEC-95D7-116608D32A7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B86-13AA-4F98-BC5D-BE9635118A0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955-E172-42C1-80E7-9BCD03EEF30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F3E7-1D62-4342-B8E1-B20373E9542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5E61-3C80-40DB-BA28-09F0D2961B5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D17-E82C-48AE-9A7B-05971DF9C68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C5F-E8DA-4E32-A1B3-56C42F33A95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421-F095-477D-8D9E-8E25A7D5C5B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60A-AC7B-4A8D-ADCC-1B10751038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8F5A-FEE6-4883-844C-56226636725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53C3-4B5F-4080-9107-E632F68D272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FD7-8527-4B8E-BC4C-65C1068B4DC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BD92-AC70-4DEA-8728-40E21A7592D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AA8-5286-439F-A5CD-AB1CB2D06B8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463-0B7D-4E44-86FE-65F4234201A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4D7-FA3A-4EC3-9536-458463A0823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5B13-EF66-4A71-A63F-BC09D088CF7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5D34-FA0B-48B6-935D-6E172D2BD7D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36C-4F3F-4F39-AFD6-581D233DFC7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CA0-5A82-430B-909F-38B1976E9FB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445-D146-4375-96C0-166E8377771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839-C36B-447A-B98E-0674D935BB6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CA8-1DAF-4955-9D7B-9B89650D535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2A0-1D88-4A9D-A545-0213D5EA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90A-483B-4BDF-BF4A-D56E48BD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CEC-CB27-458C-BDEA-908149CB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A79-DD58-4EBF-A2D6-FC4FBACE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A420-1EEC-430F-AFE3-5C81662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8DB8-AA1B-43F2-994E-FC5C14E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0961-2DAD-43AD-B425-08AB639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C796-5312-4E61-ACEF-A19AA3E3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E307-E769-4EB0-9F5E-7B234CF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546A-57B7-4805-8CBB-F213356F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CBCD-DE86-4230-8C57-7D02E60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E58-E2B9-4A80-8741-3BC14AA9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7388-D7CB-4D21-AC0D-EB6EEC5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E094-8D2E-42C2-A7D2-4F49A4C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74C6-D09C-4DBA-8822-073FC5B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FFF-E6B7-4C32-9D47-028AE35B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6E73-3299-44BA-ACDD-92E4CBE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9D2A-CEBA-4BD8-A288-A519B786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F886-C12D-4F9E-91BA-1EE9256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2BC1-3412-45B3-8FD6-AD0276A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D1CC-0E16-484A-98AE-69870E7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2CE6-3DC3-446F-BF51-EC458721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647-175B-43D4-AF94-888B5E9B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ECAA-DB62-4CDB-A597-79AFCBE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2B48-380A-4064-AEB4-827860D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2555-C261-4122-B9FA-08231EA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C60A-DE85-44AA-9C0B-0604F84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CB00-1E62-4876-87D5-D84DF27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F49D-F5D9-49AC-A11E-DBFD74F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5630-D7A3-4F12-B745-798F4686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BAA5-61B0-403A-9350-2F3579BE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481C-4767-43B4-B440-0902640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1086-1C0F-43EA-91A3-CB56E272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96D-BB75-4EAD-8543-ECA0402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5C23-E7EC-464C-A868-E27CA18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3BC7-7788-4310-A6E9-F6C89812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E920-A8FB-4B2F-AA3A-5934888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0DDE-1B96-4C2C-95C5-EF8D917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44D5-C8DE-44D3-AD34-5FD0D2A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1D37-858A-44D7-AB60-CE0F78F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7575-C9FA-4ABB-9B8C-28833387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86BE-B89C-46F3-A942-7D90AA0F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3B7A-2282-4C89-9953-EEC15382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144-6DD2-4FF3-8810-0B4B6BED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DCB-6D48-4C5F-AD83-378171E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3F3-D176-40D7-8CE8-67D2F1D4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C2B-AAD6-4C28-A381-F77073D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1F1-BA99-4C21-A83B-C1FEEE2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AF4-4FDD-429E-BE86-A1620547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A717-F752-4710-82D9-760E34C0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3BBF-A975-4309-B4A2-118F7F8A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8BB-EB58-4D99-97E9-7B4678A53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20680" y="2057040"/>
            <a:ext cx="8915400" cy="30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50840" y="5029200"/>
            <a:ext cx="988524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II:  Strategic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3:  Strategic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Innov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t is the “specific function of entrepreneurship” (Drucker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nd “means by which the entrepreneur either creates new wealth-producing resources or endows existing resources with enhanced potential for creating wealth” (Drucker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ource of competitive success, especially in turbulent and highly competitive environ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Three types of innovation activities according to Schumpet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Innovation activities (Schumpeter)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1. Inven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ct of creating or developing a new product or proces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rings something new into being—technical criteria determine its succ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2.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Process of creating a commercial product from an invention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rings something new into use—commercial criteria determine its succes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3.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doption of an innovation by similar firm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Results of Imit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t or process standard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ts made with fewer featur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ts offered at lower price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repren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ntrepreneur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Individuals, acting independently or as part of an organization, who see an entrepreneurial opportunity and then take risks to develop an innovation to exploit it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haracteristics include highly motivated, wiling to take responsibility for their projects and self-confidence; be passionate and emotional about the value and importance of their innovation-based ideas 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Entrepreneurial Mind-se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Values uncertainty in the marketplace and seeks to continuously identify opportunities with the potential to lead to important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Firms creatively discover and exploit opportunities outside of their domestic markets in order to develop a competitive advantage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Entrepreneurship has become a global phenomenon as general internationalization leads to improved firm performance.  Risks include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nstable foreign currenc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efficient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sufficient infrastructures to support business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imitations on market size and growth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tional Entrepreneurship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t the top of public policy agendas in many nations throughout the world due to the benefits it offers a n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ates of entrepreneurship across countri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Impact of national cultur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 declines as collectivism increas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ceptionally high levels of individualism can be dysfunctional for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Balance between individual initiative and cooperative spirit versus group ownership of innovation is requir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Level of investment outside of the home country made by new ven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p executives with international experienc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l Inno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rms take deliberate efforts to develop inventions and innovations within the organization, selecting from several types of innovation and the specific processes through which each type is produced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st innovation due to research &amp; development (R&amp;D)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stments are uncertain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ften not achieved in the short te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rms innovate in three way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1. Incremental and radical innov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2. Autonomous strategic behavio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3. Induced strategic behavio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4521240" y="2209680"/>
            <a:ext cx="696924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l Innov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rm innov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Incremental and radical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cremental: Induced strategic behavior, builds on existing knowledge bases and provides small improvements in current product lin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adical: Autonomous strategic behavio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Radical Innovation: Generating significant technological breakthroughs and creating new knowledg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trong potential to lead to significant growth in revenues and profi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are – due to difficulty and risk involved in development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sults from deliberate effort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Internal Corporate Venturing refers to the set of activities firms use to develop internal inventions and innovation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 of Internal Corporate Ventu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Rectangle 3" descr=""/>
          <p:cNvPicPr/>
          <p:nvPr/>
        </p:nvPicPr>
        <p:blipFill>
          <a:blip r:embed="rId1"/>
          <a:stretch/>
        </p:blipFill>
        <p:spPr>
          <a:xfrm>
            <a:off x="4521240" y="2971800"/>
            <a:ext cx="69832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l Innov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rm innov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Autonomous strategic behavio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Bottom-up process in which product champions pursue new ideas, often through a political process, to develop and coordinate the commercialization of a new good or servic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  <a:ea typeface="宋体"/>
              </a:rPr>
              <a:t>Product Champion: individual with an entrepreneurial vision of a new good or service who seeks to create support in the organization for its commercialization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Autonomous strategic behavior focused on firm’s knowledge and resources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Knowledge must be continuously diffused throughout the firm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al Innov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rm innov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Induced strategic behavio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Top-down process whereby the firm’s current strategy and structure foster product innovations that are closely associated with that strategy and structur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Internal Innov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Entrepreneurial Mind-set: required for internal corporate ventur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Viewpoint that values uncertainty in the marketplace and seeks to continuously identify opportunities with the potential to lead to important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Value creation through internal innovation process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ross-functional product development team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Facilitating integration and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Creating value from internal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ng Value Through Internal Innovation Proces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tretch/>
        </p:blipFill>
        <p:spPr>
          <a:xfrm>
            <a:off x="3149640" y="2971800"/>
            <a:ext cx="9296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Internal Innova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Value creation through internal innovation processe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1. Cross-functional product development team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fforts to integrate and coordinate activities, and apply knowledge from different functional activities associated with different functional areas (i.e., design, manufacturing, and marketing), to maximize innov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orizontal structures support use of cross-functional team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wo primary barriers to success: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ndependent frames of reference of members with distinct specializations 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Organizational politics that create competition for resources and inter-unit conflict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ing Internal Innova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Value creation through internal innovation processes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. Facilitating integration and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hared values, effective leadership and effective communication are important to successfully innovate and facilitate cross-functional integr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. Creating value from internal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ntrepreneurial mindset is necessar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nager suppor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ross-functional team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ffective leadership and shared valu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Throug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perative Strateg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 successfully commercialize inventions, firms may need to cooperate and integrate knowledge and resource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ial new venture firms may need investment capital and distribution capabil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ore established companies may need new technological knowledge possessed by newer entrepreneurial firm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 innovate via cooperative relationships, firms must share their knowledge and skills – strategic alliances and joint ventures allow this to occu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Through Acquisi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cquisi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apidly extend the product lin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crease the firm’s revenu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Key risk: a firm may substitute ability to buy innovations for ability to produce innovations internall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irm may …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ensify R&amp;D effor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lose ability to produce patent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ng Value Throug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ntrepreneurial venture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e more radical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ossess strategic flexibility and willingness to take ris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o more opportunity seek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Larger, well-established firm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duce more incremental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ossess more resources and capabilities to exploit identified opportun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Continuing Innovation Revolution at Amazon: The Kindle and E-Boo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480" y="1981080"/>
            <a:ext cx="11032920" cy="67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Amazon’s 2009 success attributed to Kindl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asy access to read, download, store 285,000 e-book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roduced 2007 with two new versions in 2009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Ultra-thi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ranslation of text to voic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2009 sales strong during global economic recess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nnual sales predicted to reach $3.7 billion by 2012 with a profit of $840 mill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lementary produc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ubscriptions to 37 newspapers at $10 each per month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ther electronic conten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ilot program - five colleges to convert textbooks to e-book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y – push for widespread adoption, continue to enhance features, price competitivel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rganizational culture:  Complex set of ideologies, symbols and core values shared throughout the firm and that influence how the firm conducts busines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ocial energy that drives - or fails to drive - the organiz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entrepreneur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ntrepreneurial actions (exploiting found opportunities in the external environment) through a strategic perspective (innovation efforts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Corporate Entrepreneur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e or application of entrepreneurship within an established fi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repreneurship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repreneurial Opportun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ntrepreneur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Process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by which individuals or groups identify and pursue entrepreneurial opportunities without the immediate constraint of the resources they currently contro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Entrepreneurial opportunities: Opportunities others do not see or for which they do not recognize the commercial potenti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As a process, this results in the ‘creative destruction’ of existing products (good or services) or methods of producing them, and replaces them with new products/production method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repreneurship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repreneurial Opportuniti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宋体"/>
              </a:rPr>
              <a:t>Entrepreneurial Opportunitie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Conditions in which new products or services can satisfy a need in the mark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  <a:ea typeface="宋体"/>
              </a:rPr>
              <a:t>Exist due to competitive market imperfections and unevenly distributed inform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Studied at the level of the individual fi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  <a:ea typeface="宋体"/>
              </a:rPr>
              <a:t>May be the economic engine driving many nations’ economies in the global competitive landscap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3: Strategic Entrepreneu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Nine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and corporate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hip, opportunities and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nvention, innovation and imit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s and their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tional entrepreneurship and its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development of innovation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cooperative strategies to innovat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Using acquisitions as a means of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ing value through strategic entrepreneurship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9:58Z</dcterms:modified>
  <cp:revision>34</cp:revision>
  <dc:subject/>
  <dc:title>PART 2 Strategic Actions:  Strategy Formulation</dc:title>
</cp:coreProperties>
</file>