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7427317-51D0-4D49-B9EA-1E12C7984BA9}"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FE94B6A-EB2B-4CC3-9487-656F2D50B55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536400" y="531720"/>
            <a:ext cx="2356200" cy="1766880"/>
          </a:xfrm>
          <a:prstGeom prst="rect">
            <a:avLst/>
          </a:prstGeom>
          <a:ln w="0">
            <a:noFill/>
          </a:ln>
        </p:spPr>
      </p:sp>
      <p:sp>
        <p:nvSpPr>
          <p:cNvPr id="23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05E58B6-D4C3-4235-939E-05ECE728AC4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6" name="PlaceHolder 1"/>
          <p:cNvSpPr>
            <a:spLocks noGrp="1"/>
          </p:cNvSpPr>
          <p:nvPr>
            <p:ph type="sldImg"/>
          </p:nvPr>
        </p:nvSpPr>
        <p:spPr>
          <a:xfrm>
            <a:off x="536400" y="531720"/>
            <a:ext cx="2356200" cy="17668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8E38B75-FA7D-40A3-87E7-63A6CE2A28C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9" name="PlaceHolder 1"/>
          <p:cNvSpPr>
            <a:spLocks noGrp="1"/>
          </p:cNvSpPr>
          <p:nvPr>
            <p:ph type="sldImg"/>
          </p:nvPr>
        </p:nvSpPr>
        <p:spPr>
          <a:xfrm>
            <a:off x="536400" y="531720"/>
            <a:ext cx="2356200" cy="1766880"/>
          </a:xfrm>
          <a:prstGeom prst="rect">
            <a:avLst/>
          </a:prstGeom>
          <a:ln w="0">
            <a:noFill/>
          </a:ln>
        </p:spPr>
      </p:sp>
      <p:sp>
        <p:nvSpPr>
          <p:cNvPr id="26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639129B-5C31-480D-8940-6C7D8B03E62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2" name="PlaceHolder 1"/>
          <p:cNvSpPr>
            <a:spLocks noGrp="1"/>
          </p:cNvSpPr>
          <p:nvPr>
            <p:ph type="sldImg"/>
          </p:nvPr>
        </p:nvSpPr>
        <p:spPr>
          <a:xfrm>
            <a:off x="536400" y="531720"/>
            <a:ext cx="2356200" cy="1766880"/>
          </a:xfrm>
          <a:prstGeom prst="rect">
            <a:avLst/>
          </a:prstGeom>
          <a:ln w="0">
            <a:noFill/>
          </a:ln>
        </p:spPr>
      </p:sp>
      <p:sp>
        <p:nvSpPr>
          <p:cNvPr id="26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Breaking India’s Caste Syst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India’s caste system and the implications of the system.  While many urban middle class citizens are not affected in a significant way by the caste system, for India’s rural population, the influence of the system is readily apparent.  The government is strongly encouraging private companies to hire more lower caste individua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India’s castes system has been around for many years.  Explain why its influence has diminished among educated urban middle class India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 caste system in India was officially abolished in 1949.  However, it seems that urban citizens have benefited the most from its abolishment.  For many rural Indians, the system is still very much in effect.  Educated, urban middle class Indians make up the majority of employees in India’s high tech economy.  They may work for large multinationals like Infosys and Wipro.  Many students will probably attribute the relative freedom of these individuals to the presence of these large companies, and their need to hire the best people regardless of caste.  In rural areas though, the caste system still has significant influence in daily life.  One female engineer working for Infosys notes for example that as a member of a lower caste, she was not able to enter the homes of higher caste individuals.  Yet the same engineer, a beneficiary of an Infosys training programs, now works for Infosys in a “higher caste” positi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Why are many private companies in India resisting the hiring quotas suggested by the government?  Why might it be necessary to hire lower caste individua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 Indian government has suggested that private companies make an effort to employ lower caste individuals.  However, many companies are resisting the request using the argument that they want to hire qualified people who want to work hard, and not people who are available simply because of a quota system.  Some companies however, recognize that there may be a place for lower caste individuals, especially has business grows.  Infosys for example, offers special training to low caste member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 For more on India’s caste system, go to {http://www.npr.org/programs/specials/racism/010828.caste.html}.</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A529DBF-8285-49A7-A8AB-310B2EBCC2B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5" name="PlaceHolder 1"/>
          <p:cNvSpPr>
            <a:spLocks noGrp="1"/>
          </p:cNvSpPr>
          <p:nvPr>
            <p:ph type="sldImg"/>
          </p:nvPr>
        </p:nvSpPr>
        <p:spPr>
          <a:xfrm>
            <a:off x="536400" y="531720"/>
            <a:ext cx="2356200" cy="1766880"/>
          </a:xfrm>
          <a:prstGeom prst="rect">
            <a:avLst/>
          </a:prstGeom>
          <a:ln w="0">
            <a:noFill/>
          </a:ln>
        </p:spPr>
      </p:sp>
      <p:sp>
        <p:nvSpPr>
          <p:cNvPr id="26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4AB437D-3E7A-4055-BB02-01B991CC988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8" name="PlaceHolder 1"/>
          <p:cNvSpPr>
            <a:spLocks noGrp="1"/>
          </p:cNvSpPr>
          <p:nvPr>
            <p:ph type="sldImg"/>
          </p:nvPr>
        </p:nvSpPr>
        <p:spPr>
          <a:xfrm>
            <a:off x="536400" y="531720"/>
            <a:ext cx="2356200" cy="176688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7241E31-D8AA-467E-8749-AEC9838DC5E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1" name="PlaceHolder 1"/>
          <p:cNvSpPr>
            <a:spLocks noGrp="1"/>
          </p:cNvSpPr>
          <p:nvPr>
            <p:ph type="sldImg"/>
          </p:nvPr>
        </p:nvSpPr>
        <p:spPr>
          <a:xfrm>
            <a:off x="536400" y="531720"/>
            <a:ext cx="2356200" cy="1766880"/>
          </a:xfrm>
          <a:prstGeom prst="rect">
            <a:avLst/>
          </a:prstGeom>
          <a:ln w="0">
            <a:noFill/>
          </a:ln>
        </p:spPr>
      </p:sp>
      <p:sp>
        <p:nvSpPr>
          <p:cNvPr id="27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589215C-235B-45CE-B234-25DD63C86F0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4" name="PlaceHolder 1"/>
          <p:cNvSpPr>
            <a:spLocks noGrp="1"/>
          </p:cNvSpPr>
          <p:nvPr>
            <p:ph type="sldImg"/>
          </p:nvPr>
        </p:nvSpPr>
        <p:spPr>
          <a:xfrm>
            <a:off x="536400" y="531720"/>
            <a:ext cx="2356200" cy="176688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2DDE80F-E81E-4C66-88F1-17B88C72F79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7" name="PlaceHolder 1"/>
          <p:cNvSpPr>
            <a:spLocks noGrp="1"/>
          </p:cNvSpPr>
          <p:nvPr>
            <p:ph type="sldImg"/>
          </p:nvPr>
        </p:nvSpPr>
        <p:spPr>
          <a:xfrm>
            <a:off x="536400" y="531720"/>
            <a:ext cx="2356200" cy="1766880"/>
          </a:xfrm>
          <a:prstGeom prst="rect">
            <a:avLst/>
          </a:prstGeom>
          <a:ln w="0">
            <a:noFill/>
          </a:ln>
        </p:spPr>
      </p:sp>
      <p:sp>
        <p:nvSpPr>
          <p:cNvPr id="27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FAD5294-7EFC-459D-AB5D-BE701768BCA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0" name="PlaceHolder 1"/>
          <p:cNvSpPr>
            <a:spLocks noGrp="1"/>
          </p:cNvSpPr>
          <p:nvPr>
            <p:ph type="sldImg"/>
          </p:nvPr>
        </p:nvSpPr>
        <p:spPr>
          <a:xfrm>
            <a:off x="536400" y="531720"/>
            <a:ext cx="2356200" cy="176688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57763E8-7691-4488-9035-F8C0E51BA31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3" name="PlaceHolder 1"/>
          <p:cNvSpPr>
            <a:spLocks noGrp="1"/>
          </p:cNvSpPr>
          <p:nvPr>
            <p:ph type="sldImg"/>
          </p:nvPr>
        </p:nvSpPr>
        <p:spPr>
          <a:xfrm>
            <a:off x="536400" y="531720"/>
            <a:ext cx="2356200" cy="1766880"/>
          </a:xfrm>
          <a:prstGeom prst="rect">
            <a:avLst/>
          </a:prstGeom>
          <a:ln w="0">
            <a:noFill/>
          </a:ln>
        </p:spPr>
      </p:sp>
      <p:sp>
        <p:nvSpPr>
          <p:cNvPr id="28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F03DB73-17A7-44FB-B90C-25790CEFB8C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536400" y="531720"/>
            <a:ext cx="2356200" cy="1766880"/>
          </a:xfrm>
          <a:prstGeom prst="rect">
            <a:avLst/>
          </a:prstGeom>
          <a:ln w="0">
            <a:noFill/>
          </a:ln>
        </p:spPr>
      </p:sp>
      <p:sp>
        <p:nvSpPr>
          <p:cNvPr id="23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442908F-5B09-4947-BF88-8EAE1F2C53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6" name="PlaceHolder 1"/>
          <p:cNvSpPr>
            <a:spLocks noGrp="1"/>
          </p:cNvSpPr>
          <p:nvPr>
            <p:ph type="sldImg"/>
          </p:nvPr>
        </p:nvSpPr>
        <p:spPr>
          <a:xfrm>
            <a:off x="536400" y="531720"/>
            <a:ext cx="2356200" cy="176688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Country Focus: Islamic Capitalism in Turke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the debate surrounding Turkey’s membership in the European Community.  Turkey has indicated that it would like to be a part of the regional bloc, but many are concerned that because the country’s dominant religion is Islam, it would not be a good fit.  Others however, argue that these fears are unfounded.  Supporters of Turkey’s membership in the European Union note that the country’s central region is home to many thriving entrepreneurial ventur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re the concerns of those opposing Turkey’s admittance to the European Union well-founded?  Can Islam, capitalism, and globalization co-exis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any students will probably suggest that if the country’s religious preferences are the only issue preventing Turkey’s membership in the European Union, then indeed these fears are unfounded.  Students taking this perspective are likely to point out that Central Turkey, a region where Islamic values are particularly strong, is also referred to as the Anatolian Tiger because it is home to so many thriving Muslim companies, many of which are large exporters.  Other students however, may note that traditionally Islam is critical of those who earn a profit through the exploitation of others.  Depending on just how this view is defined could influence how Turkey views the economic activities of other European Union countri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Explain the concept of Islamic Calvinism?  How has Islamic Calvinism helped the Kayseri region of Turke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Islamic Calvinism is a fusion of traditional Islamic values and the Protestant work ethic.  In the Kayseri region of Turkey, Islamic Calvinism is evident.  The region is home to many thriving businesses in a wide variety of industries that have successfully meshed traditional Islamic values with the entrepreneurial values associated with the Protestant work ethic.  Many companies set aside time for daily prayers and trips to Mecca, most restaurants in the region do not serve alcohol and require women to cover their heads.  At the same time, businesses in the region have made it priority to make mone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a:t>
            </a:r>
            <a:r>
              <a:rPr b="1" i="1" lang="en-US" sz="900" spc="-1" strike="noStrike">
                <a:solidFill>
                  <a:srgbClr val="000000"/>
                </a:solidFill>
                <a:latin typeface="Times New Roman"/>
              </a:rPr>
              <a:t> </a:t>
            </a:r>
            <a:r>
              <a:rPr b="0" lang="en-US" sz="900" spc="-1" strike="noStrike">
                <a:solidFill>
                  <a:srgbClr val="000000"/>
                </a:solidFill>
                <a:latin typeface="Times New Roman"/>
              </a:rPr>
              <a:t>To get an update of Turkey’s current situation go to {http://www.mfa.gov.tr/default.en.mfa}.</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1005556-5843-41C9-AF76-730C760C050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9" name="PlaceHolder 1"/>
          <p:cNvSpPr>
            <a:spLocks noGrp="1"/>
          </p:cNvSpPr>
          <p:nvPr>
            <p:ph type="sldImg"/>
          </p:nvPr>
        </p:nvSpPr>
        <p:spPr>
          <a:xfrm>
            <a:off x="536400" y="531720"/>
            <a:ext cx="2356200" cy="1766880"/>
          </a:xfrm>
          <a:prstGeom prst="rect">
            <a:avLst/>
          </a:prstGeom>
          <a:ln w="0">
            <a:noFill/>
          </a:ln>
        </p:spPr>
      </p:sp>
      <p:sp>
        <p:nvSpPr>
          <p:cNvPr id="29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FDB863E-90A4-44A5-A1DF-5FB2B10AA95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2" name="PlaceHolder 1"/>
          <p:cNvSpPr>
            <a:spLocks noGrp="1"/>
          </p:cNvSpPr>
          <p:nvPr>
            <p:ph type="sldImg"/>
          </p:nvPr>
        </p:nvSpPr>
        <p:spPr>
          <a:xfrm>
            <a:off x="536400" y="531720"/>
            <a:ext cx="2356200" cy="1766880"/>
          </a:xfrm>
          <a:prstGeom prst="rect">
            <a:avLst/>
          </a:prstGeom>
          <a:ln w="0">
            <a:noFill/>
          </a:ln>
        </p:spPr>
      </p:sp>
      <p:sp>
        <p:nvSpPr>
          <p:cNvPr id="2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6E60534-773B-4960-A7BF-7A009955632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5" name="PlaceHolder 1"/>
          <p:cNvSpPr>
            <a:spLocks noGrp="1"/>
          </p:cNvSpPr>
          <p:nvPr>
            <p:ph type="sldImg"/>
          </p:nvPr>
        </p:nvSpPr>
        <p:spPr>
          <a:xfrm>
            <a:off x="536400" y="531720"/>
            <a:ext cx="2356200" cy="1766880"/>
          </a:xfrm>
          <a:prstGeom prst="rect">
            <a:avLst/>
          </a:prstGeom>
          <a:ln w="0">
            <a:noFill/>
          </a:ln>
        </p:spPr>
      </p:sp>
      <p:sp>
        <p:nvSpPr>
          <p:cNvPr id="2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DMG-Shanghai</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guanxi, or the relationships and connections that are so important in the Chinese business world.  The notion of guanxi comes from the Confucian philosophy of valuing social hierarchy and reciprocal obligations.  Dan Mintz, founder of DMG, one of China’s fastest growing advertising agencies, credits guanxi for his success.  Mintz established connections with two Chinese individuals with access to high ranking government officials.  Through these guanxiwang, or connections, Mintz has been able to get permission to shoot advertisements in locations that are usually closed to foreign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Explain the concept of guanxi.  How did Mintz’s guanxiwang help his company becomes so successfu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Guanxi literally means relationships, although in business settings in can better be understood as “connections.”  The concept of guanxi is deeply rooted in Chinese culture and Confucianism. The Chinese will often cultivate a guanxiwang, or “relationship network,” for help. In China, there is a tacit acknowledgement that if you have the right guanxi, legal rules can be broken or bent.  Mintz made connections with two Chinese men who had access to high ranking government officials.  Through these men, Mintz was able to secure permission to film commercials in locations that are normally closed to outsid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ompare the difference between doing business in the West and doing business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A basic difference between doing business in the West and doing business in China involves how legal agreements are handled.  In the advanced economies of the West, business transactions are conducted and regulated by the centuries-old framework of contract law, which specifies the rights and obligations of parties to a business contract and provides mechanisms for seeking to redress grievances should one party in the exchange fail to live up to the legal agreement.  China does not have the same infrastructure.  Personal power and relationships or connections (guanxi), rather than the rule of law, have always been the key to getting things done in China.</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06BB9B8-483C-494C-972C-0C38EFD5276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8" name="PlaceHolder 1"/>
          <p:cNvSpPr>
            <a:spLocks noGrp="1"/>
          </p:cNvSpPr>
          <p:nvPr>
            <p:ph type="sldImg"/>
          </p:nvPr>
        </p:nvSpPr>
        <p:spPr>
          <a:xfrm>
            <a:off x="536400" y="531720"/>
            <a:ext cx="2356200" cy="1766880"/>
          </a:xfrm>
          <a:prstGeom prst="rect">
            <a:avLst/>
          </a:prstGeom>
          <a:ln w="0">
            <a:noFill/>
          </a:ln>
        </p:spPr>
      </p:sp>
      <p:sp>
        <p:nvSpPr>
          <p:cNvPr id="29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F7C73E1-C51B-49B3-BEA6-B869BD8CFE7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1" name="PlaceHolder 1"/>
          <p:cNvSpPr>
            <a:spLocks noGrp="1"/>
          </p:cNvSpPr>
          <p:nvPr>
            <p:ph type="sldImg"/>
          </p:nvPr>
        </p:nvSpPr>
        <p:spPr>
          <a:xfrm>
            <a:off x="536400" y="531720"/>
            <a:ext cx="2356200" cy="1766880"/>
          </a:xfrm>
          <a:prstGeom prst="rect">
            <a:avLst/>
          </a:prstGeom>
          <a:ln w="0">
            <a:noFill/>
          </a:ln>
        </p:spPr>
      </p:sp>
      <p:sp>
        <p:nvSpPr>
          <p:cNvPr id="30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24ADCBA-F9DD-4451-B914-EE92BF6E2BD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4" name="PlaceHolder 1"/>
          <p:cNvSpPr>
            <a:spLocks noGrp="1"/>
          </p:cNvSpPr>
          <p:nvPr>
            <p:ph type="sldImg"/>
          </p:nvPr>
        </p:nvSpPr>
        <p:spPr>
          <a:xfrm>
            <a:off x="536400" y="531720"/>
            <a:ext cx="2356200" cy="1766880"/>
          </a:xfrm>
          <a:prstGeom prst="rect">
            <a:avLst/>
          </a:prstGeom>
          <a:ln w="0">
            <a:noFill/>
          </a:ln>
        </p:spPr>
      </p:sp>
      <p:sp>
        <p:nvSpPr>
          <p:cNvPr id="30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4F0E386-5284-43FC-8F52-21E8611E0B2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7" name="PlaceHolder 1"/>
          <p:cNvSpPr>
            <a:spLocks noGrp="1"/>
          </p:cNvSpPr>
          <p:nvPr>
            <p:ph type="sldImg"/>
          </p:nvPr>
        </p:nvSpPr>
        <p:spPr>
          <a:xfrm>
            <a:off x="536400" y="531720"/>
            <a:ext cx="2356200" cy="1766880"/>
          </a:xfrm>
          <a:prstGeom prst="rect">
            <a:avLst/>
          </a:prstGeom>
          <a:ln w="0">
            <a:noFill/>
          </a:ln>
        </p:spPr>
      </p:sp>
      <p:sp>
        <p:nvSpPr>
          <p:cNvPr id="30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6B85D21-8C67-476D-93EC-2E268E74487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0" name="PlaceHolder 1"/>
          <p:cNvSpPr>
            <a:spLocks noGrp="1"/>
          </p:cNvSpPr>
          <p:nvPr>
            <p:ph type="sldImg"/>
          </p:nvPr>
        </p:nvSpPr>
        <p:spPr>
          <a:xfrm>
            <a:off x="536400" y="531720"/>
            <a:ext cx="2356200" cy="1766880"/>
          </a:xfrm>
          <a:prstGeom prst="rect">
            <a:avLst/>
          </a:prstGeom>
          <a:ln w="0">
            <a:noFill/>
          </a:ln>
        </p:spPr>
      </p:sp>
      <p:sp>
        <p:nvSpPr>
          <p:cNvPr id="31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E250E45-D93E-4FD1-90FB-D380672A35F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3" name="PlaceHolder 1"/>
          <p:cNvSpPr>
            <a:spLocks noGrp="1"/>
          </p:cNvSpPr>
          <p:nvPr>
            <p:ph type="sldImg"/>
          </p:nvPr>
        </p:nvSpPr>
        <p:spPr>
          <a:xfrm>
            <a:off x="536400" y="531720"/>
            <a:ext cx="2356200" cy="1766880"/>
          </a:xfrm>
          <a:prstGeom prst="rect">
            <a:avLst/>
          </a:prstGeom>
          <a:ln w="0">
            <a:noFill/>
          </a:ln>
        </p:spPr>
      </p:sp>
      <p:sp>
        <p:nvSpPr>
          <p:cNvPr id="31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1A3EF89-070E-45C0-8A82-B95701F42C4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5" name="PlaceHolder 1"/>
          <p:cNvSpPr>
            <a:spLocks noGrp="1"/>
          </p:cNvSpPr>
          <p:nvPr>
            <p:ph type="sldImg"/>
          </p:nvPr>
        </p:nvSpPr>
        <p:spPr>
          <a:xfrm>
            <a:off x="536400" y="531720"/>
            <a:ext cx="2356200" cy="17668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5F672F2-7689-4711-BA1B-15CBACF94BE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6" name="PlaceHolder 1"/>
          <p:cNvSpPr>
            <a:spLocks noGrp="1"/>
          </p:cNvSpPr>
          <p:nvPr>
            <p:ph type="sldImg"/>
          </p:nvPr>
        </p:nvSpPr>
        <p:spPr>
          <a:xfrm>
            <a:off x="536400" y="531720"/>
            <a:ext cx="2356200" cy="1766880"/>
          </a:xfrm>
          <a:prstGeom prst="rect">
            <a:avLst/>
          </a:prstGeom>
          <a:ln w="0">
            <a:noFill/>
          </a:ln>
        </p:spPr>
      </p:sp>
      <p:sp>
        <p:nvSpPr>
          <p:cNvPr id="31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D17D19D-E7DD-4969-AA07-7FEE761F41B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9" name="PlaceHolder 1"/>
          <p:cNvSpPr>
            <a:spLocks noGrp="1"/>
          </p:cNvSpPr>
          <p:nvPr>
            <p:ph type="sldImg"/>
          </p:nvPr>
        </p:nvSpPr>
        <p:spPr>
          <a:xfrm>
            <a:off x="536400" y="531720"/>
            <a:ext cx="2356200" cy="1766880"/>
          </a:xfrm>
          <a:prstGeom prst="rect">
            <a:avLst/>
          </a:prstGeom>
          <a:ln w="0">
            <a:noFill/>
          </a:ln>
        </p:spPr>
      </p:sp>
      <p:sp>
        <p:nvSpPr>
          <p:cNvPr id="32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EE544AB-01B5-44EC-A49C-BA5D7DA8B24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2" name="PlaceHolder 1"/>
          <p:cNvSpPr>
            <a:spLocks noGrp="1"/>
          </p:cNvSpPr>
          <p:nvPr>
            <p:ph type="sldImg"/>
          </p:nvPr>
        </p:nvSpPr>
        <p:spPr>
          <a:xfrm>
            <a:off x="536400" y="531720"/>
            <a:ext cx="2356200" cy="1766880"/>
          </a:xfrm>
          <a:prstGeom prst="rect">
            <a:avLst/>
          </a:prstGeom>
          <a:ln w="0">
            <a:noFill/>
          </a:ln>
        </p:spPr>
      </p:sp>
      <p:sp>
        <p:nvSpPr>
          <p:cNvPr id="3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5A2D669-B3E6-4625-8913-22C062F6430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5" name="PlaceHolder 1"/>
          <p:cNvSpPr>
            <a:spLocks noGrp="1"/>
          </p:cNvSpPr>
          <p:nvPr>
            <p:ph type="sldImg"/>
          </p:nvPr>
        </p:nvSpPr>
        <p:spPr>
          <a:xfrm>
            <a:off x="536400" y="531720"/>
            <a:ext cx="2356200" cy="1766880"/>
          </a:xfrm>
          <a:prstGeom prst="rect">
            <a:avLst/>
          </a:prstGeom>
          <a:ln w="0">
            <a:noFill/>
          </a:ln>
        </p:spPr>
      </p:sp>
      <p:sp>
        <p:nvSpPr>
          <p:cNvPr id="3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Times New Roman"/>
              </a:rPr>
              <a:t>Internet Extra:</a:t>
            </a:r>
            <a:r>
              <a:rPr b="1" i="1" lang="en-US" sz="1400" spc="-1" strike="noStrike">
                <a:solidFill>
                  <a:srgbClr val="000000"/>
                </a:solidFill>
                <a:latin typeface="Times New Roman"/>
              </a:rPr>
              <a:t> </a:t>
            </a:r>
            <a:r>
              <a:rPr b="0" lang="en-US" sz="1400" spc="-1" strike="noStrike">
                <a:solidFill>
                  <a:srgbClr val="000000"/>
                </a:solidFill>
                <a:latin typeface="Times New Roman"/>
              </a:rPr>
              <a:t>To learn more about international business etiquette, go to {http://www.cyborlink.co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oose a country, then find three fun facts about your country.  Compare these to those in other countries.  What are some areas where cultural misunderstandings could occu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Hofstede assess your country?  Based on what you’ve read, do you agre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52F45F3-0E3D-4B7F-8F9B-E1C117D8B00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8" name="PlaceHolder 1"/>
          <p:cNvSpPr>
            <a:spLocks noGrp="1"/>
          </p:cNvSpPr>
          <p:nvPr>
            <p:ph type="sldImg"/>
          </p:nvPr>
        </p:nvSpPr>
        <p:spPr>
          <a:xfrm>
            <a:off x="536400" y="531720"/>
            <a:ext cx="2356200" cy="1766880"/>
          </a:xfrm>
          <a:prstGeom prst="rect">
            <a:avLst/>
          </a:prstGeom>
          <a:ln w="0">
            <a:noFill/>
          </a:ln>
        </p:spPr>
      </p:sp>
      <p:sp>
        <p:nvSpPr>
          <p:cNvPr id="32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Since in a sense the entire chapter is about this question, there can be numerous reasons and examples of how culture influences the costs of doing business.  Several are highlighted in the following sentences, but there could be numerous others. When there are simply different norms between how individuals from different countries interact, the costs of doing business rise as people grapple with unfamiliar ways of doing business.  For example, while in the US we may get down to business first, and then get to know each other socially later, in many South American countries it is important develop a good social relationship before trying to discuss business issues.  Different class structures and social mobility also raise the costs of doing business,  If there are inhibitions against working with people from different classes, then the efficiency with which information can flow may be limited and the cost of running a business increased.  A country's religion can also affect the costs of business, as religious values can affect attitudes towards work, entrepreneurship, honesty, fairness, and social responsibility.  In Hindu societies where the pursuit of material well-being can be viewed as making spiritual well being less likely, worker productivity may be lower than in nations with other religious beliefs.  Finally, a country's education system can have important implications for the costs of business.  In countries where workers receive excellent training and are highly literate, the need for specific worker training programs are decreased and the hiring of additional employees is facilitated.</a:t>
            </a: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F206780-41DB-40DF-8373-EB0967AB002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1" name="PlaceHolder 1"/>
          <p:cNvSpPr>
            <a:spLocks noGrp="1"/>
          </p:cNvSpPr>
          <p:nvPr>
            <p:ph type="sldImg"/>
          </p:nvPr>
        </p:nvSpPr>
        <p:spPr>
          <a:xfrm>
            <a:off x="536400" y="531720"/>
            <a:ext cx="2356200" cy="1766880"/>
          </a:xfrm>
          <a:prstGeom prst="rect">
            <a:avLst/>
          </a:prstGeom>
          <a:ln w="0">
            <a:noFill/>
          </a:ln>
        </p:spPr>
      </p:sp>
      <p:sp>
        <p:nvSpPr>
          <p:cNvPr id="3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re are various cultural differences between an Islamic country and the United States that could impact business practices.  The role of women, for example, or appropriate etiquette (including simple things like not passing papers with the left hand), holidays, and wining and dining can all differ.  But beyond these types of example is the fact that the underlying philosophy and role of business can be very different.  Since Muslims are stewards of property for God, rather than owners, they are more likely to use their resources carefully and may be less likely to give up or sell something to a person who may not practice the same stewardship.  The importance of fairness to all parties in relations means that over-aggressiveness in self-interest may not be well received, and breaking an agreement, even if technically/legally permissible may be viewed as very inappropriate.  Finally, the prohibitions on interest payments in some Islamic countries means that the wording of the terms of an agreement must be done carefully so that "fair profits" are not construed as being "interest payments."</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498D168-5E90-4DD9-89AF-2E064CC26E0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4" name="PlaceHolder 1"/>
          <p:cNvSpPr>
            <a:spLocks noGrp="1"/>
          </p:cNvSpPr>
          <p:nvPr>
            <p:ph type="sldImg"/>
          </p:nvPr>
        </p:nvSpPr>
        <p:spPr>
          <a:xfrm>
            <a:off x="536400" y="531720"/>
            <a:ext cx="2356200" cy="1766880"/>
          </a:xfrm>
          <a:prstGeom prst="rect">
            <a:avLst/>
          </a:prstGeom>
          <a:ln w="0">
            <a:noFill/>
          </a:ln>
        </p:spPr>
      </p:sp>
      <p:sp>
        <p:nvSpPr>
          <p:cNvPr id="33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Differences in the dominant religion of a country and/or its ethics can affect relationships, attitudes toward business, and overall economic development.  Differences in religion require inter-cultural sensitivity.  This sensitivity requires things like simply knowing the religious holidays, accepting that some unexpected things may happen "because of Allah's will," or understanding how interpersonal relationships may be different between "believers" and "non-believers." (Hence non-believers may be treated differently.)  Religious beliefs can significantly affect a country’s attitude toward business, work, and entrepreneurship.  In one country successfully beating a competitor may be considered a great achievement while in another it may be thought of as showing a lack of compassion and could be disruptive to the society and persons involved.  Likewise, hard work may be either rewarded positively or viewed as something of secondary importance to spiritual peace and harmony.  Different dominant religions and ethical values can also affect the overall competitiveness and potential for economic growth of a nation, and hence attractiveness of a country for international business.  Students might suggest for example, that Venezuela’s high level of corruption make it a less attractive destination for foreign companies. </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E9351C1-11C8-40FB-9BE3-D683E0D2D8B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7" name="PlaceHolder 1"/>
          <p:cNvSpPr>
            <a:spLocks noGrp="1"/>
          </p:cNvSpPr>
          <p:nvPr>
            <p:ph type="sldImg"/>
          </p:nvPr>
        </p:nvSpPr>
        <p:spPr>
          <a:xfrm>
            <a:off x="536400" y="531720"/>
            <a:ext cx="2356200" cy="1766880"/>
          </a:xfrm>
          <a:prstGeom prst="rect">
            <a:avLst/>
          </a:prstGeom>
          <a:ln w="0">
            <a:noFill/>
          </a:ln>
        </p:spPr>
      </p:sp>
      <p:sp>
        <p:nvSpPr>
          <p:cNvPr id="338" name="PlaceHolder 2"/>
          <p:cNvSpPr>
            <a:spLocks noGrp="1"/>
          </p:cNvSpPr>
          <p:nvPr>
            <p:ph type="body"/>
          </p:nvPr>
        </p:nvSpPr>
        <p:spPr>
          <a:xfrm>
            <a:off x="914400" y="4330800"/>
            <a:ext cx="5029200" cy="410184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Responses to this question will obviously vary based on the countries chosen by the students and their knowledge of the countries.  Hopefully students can present some information on the dimensions of culture including values, norms, social structure, religion, language, and education of the countries and also describe the key differences and similarities of the countries along these dimensions.  Relating the differences between the countries along these dimensions to differences in the costs of doing business, the potential for economic development, and business practices would fully answer the question.  (While it may be more difficult for students to come up with really good examples relative to business practices, the costs and prospects for economic development should be quite feasi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A1BA624-1482-4224-A2C5-67B33F03445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0" name="PlaceHolder 1"/>
          <p:cNvSpPr>
            <a:spLocks noGrp="1"/>
          </p:cNvSpPr>
          <p:nvPr>
            <p:ph type="sldImg"/>
          </p:nvPr>
        </p:nvSpPr>
        <p:spPr>
          <a:xfrm>
            <a:off x="536400" y="531720"/>
            <a:ext cx="2356200" cy="1766880"/>
          </a:xfrm>
          <a:prstGeom prst="rect">
            <a:avLst/>
          </a:prstGeom>
          <a:ln w="0">
            <a:noFill/>
          </a:ln>
        </p:spPr>
      </p:sp>
      <p:sp>
        <p:nvSpPr>
          <p:cNvPr id="3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When responding to this question, many students will probably focus on three key areas.  First, they may note that Islam is firmly against making a profit by exploiting others.  Depending on just how one defines exploitation, this could be a problem.  For example, do commercials for sugary cereal that are traditionally shown during children’s television programs count as exploitation?  A second area that students may explore is the role of women in business.  In Islamic countries, women make up only a very small part of the workforce.  This traditional Islamic value could also present a problem.  Third, students may note that the Koran condemns interest as exploitative and unjust.  This could present a problem for the financial industry, and also for companies needing loans.  Despite these concerns, however, many students will probably suggest that Turkey’s central region clearly demonstrates that the country can indeed function successfully in the global economy.</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7A4B0E5-F022-43AC-8C37-325227D4443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3" name="PlaceHolder 1"/>
          <p:cNvSpPr>
            <a:spLocks noGrp="1"/>
          </p:cNvSpPr>
          <p:nvPr>
            <p:ph type="sldImg"/>
          </p:nvPr>
        </p:nvSpPr>
        <p:spPr>
          <a:xfrm>
            <a:off x="536400" y="531720"/>
            <a:ext cx="2356200" cy="1766880"/>
          </a:xfrm>
          <a:prstGeom prst="rect">
            <a:avLst/>
          </a:prstGeom>
          <a:ln w="0">
            <a:noFill/>
          </a:ln>
        </p:spPr>
      </p:sp>
      <p:sp>
        <p:nvSpPr>
          <p:cNvPr id="34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Guanxi and guanxiwang are essential to business in China.  Guanxi refers to the business connections that are so important to companies doing business in China.  Guanxiwang refers to the relationship network that companies cultivate.  Both of these are important to the Confucian ethics – loyalty, reciprocal obligations, and honesty in dealing with others - that drives business in China. Dan Mintz believes that guanxi and guanxiwang are important because they help companies get around restrictions that limit the ability of companies to function.  Many students will probably agree with Mintz that these relationships and connection are essential to success.  Students taking this perspective are likely to argue that guanxi is part of the Chinese culture, and Western companies simply need to adapt.  Companies that fail to adapt will probably find it more difficult to be successful, and companies that do follow all of the rules are likely to be at a competitive disadvantage.  At the same time, students will probably note the need to carefully consider the ethical implications of certain relationships.  Some students may suggest that managers use their gut instinct – if something seems like it could be unethical, it probably i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F9D5C96-2064-4B2D-846E-38868588B49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8" name="PlaceHolder 1"/>
          <p:cNvSpPr>
            <a:spLocks noGrp="1"/>
          </p:cNvSpPr>
          <p:nvPr>
            <p:ph type="sldImg"/>
          </p:nvPr>
        </p:nvSpPr>
        <p:spPr>
          <a:xfrm>
            <a:off x="536400" y="531720"/>
            <a:ext cx="2356200" cy="1766880"/>
          </a:xfrm>
          <a:prstGeom prst="rect">
            <a:avLst/>
          </a:prstGeom>
          <a:ln w="0">
            <a:noFill/>
          </a:ln>
        </p:spPr>
      </p:sp>
      <p:sp>
        <p:nvSpPr>
          <p:cNvPr id="23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7B03CE6-01C8-4D3C-AD09-1D94BE81891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1" name="PlaceHolder 1"/>
          <p:cNvSpPr>
            <a:spLocks noGrp="1"/>
          </p:cNvSpPr>
          <p:nvPr>
            <p:ph type="sldImg"/>
          </p:nvPr>
        </p:nvSpPr>
        <p:spPr>
          <a:xfrm>
            <a:off x="536400" y="531720"/>
            <a:ext cx="2356200" cy="1766880"/>
          </a:xfrm>
          <a:prstGeom prst="rect">
            <a:avLst/>
          </a:prstGeom>
          <a:ln w="0">
            <a:noFill/>
          </a:ln>
        </p:spPr>
      </p:sp>
      <p:sp>
        <p:nvSpPr>
          <p:cNvPr id="24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1F93055-4475-4D11-8A86-005542F7031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4" name="PlaceHolder 1"/>
          <p:cNvSpPr>
            <a:spLocks noGrp="1"/>
          </p:cNvSpPr>
          <p:nvPr>
            <p:ph type="sldImg"/>
          </p:nvPr>
        </p:nvSpPr>
        <p:spPr>
          <a:xfrm>
            <a:off x="536400" y="531720"/>
            <a:ext cx="2356200" cy="17668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E707F1C-59AB-4705-B9C6-D60F3EC3C81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536400" y="531720"/>
            <a:ext cx="2356200" cy="1766880"/>
          </a:xfrm>
          <a:prstGeom prst="rect">
            <a:avLst/>
          </a:prstGeom>
          <a:ln w="0">
            <a:noFill/>
          </a:ln>
        </p:spPr>
      </p:sp>
      <p:sp>
        <p:nvSpPr>
          <p:cNvPr id="24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A5E45E2-FE8D-47FC-B529-F3022671BB5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0" name="PlaceHolder 1"/>
          <p:cNvSpPr>
            <a:spLocks noGrp="1"/>
          </p:cNvSpPr>
          <p:nvPr>
            <p:ph type="sldImg"/>
          </p:nvPr>
        </p:nvSpPr>
        <p:spPr>
          <a:xfrm>
            <a:off x="536400" y="531720"/>
            <a:ext cx="2356200" cy="176688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CD85F12-24E4-4686-B76C-1648B3163D7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3" name="PlaceHolder 1"/>
          <p:cNvSpPr>
            <a:spLocks noGrp="1"/>
          </p:cNvSpPr>
          <p:nvPr>
            <p:ph type="sldImg"/>
          </p:nvPr>
        </p:nvSpPr>
        <p:spPr>
          <a:xfrm>
            <a:off x="536400" y="531720"/>
            <a:ext cx="2356200" cy="1766880"/>
          </a:xfrm>
          <a:prstGeom prst="rect">
            <a:avLst/>
          </a:prstGeom>
          <a:ln w="0">
            <a:noFill/>
          </a:ln>
        </p:spPr>
      </p:sp>
      <p:sp>
        <p:nvSpPr>
          <p:cNvPr id="25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fld id="{32E4B0FA-A111-4F56-AA0E-7A15CC0097FD}"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dividuals and Groups</a:t>
            </a:r>
            <a:endParaRPr b="1" lang="en-US" sz="3600" spc="-1" strike="noStrike">
              <a:solidFill>
                <a:srgbClr val="c6040b"/>
              </a:solidFill>
              <a:latin typeface="Arial"/>
            </a:endParaRPr>
          </a:p>
        </p:txBody>
      </p:sp>
      <p:sp>
        <p:nvSpPr>
          <p:cNvPr id="16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group</a:t>
            </a:r>
            <a:r>
              <a:rPr b="0" lang="en-US" sz="2800" spc="-1" strike="noStrike">
                <a:solidFill>
                  <a:srgbClr val="000000"/>
                </a:solidFill>
                <a:latin typeface="Arial"/>
              </a:rPr>
              <a:t> is an association of two or more individuals who have a shared sense of identity and who interact with each other in structured ways on the basis of a common set of expectations about each other’s behavior</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are common in many Asian societie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estern countries emphasize the individ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dividuals and Groups</a:t>
            </a:r>
            <a:endParaRPr b="1" lang="en-US" sz="3600" spc="-1" strike="noStrike">
              <a:solidFill>
                <a:srgbClr val="c6040b"/>
              </a:solidFill>
              <a:latin typeface="Arial"/>
            </a:endParaRPr>
          </a:p>
        </p:txBody>
      </p:sp>
      <p:sp>
        <p:nvSpPr>
          <p:cNvPr id="16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cieties where the </a:t>
            </a:r>
            <a:r>
              <a:rPr b="0" lang="en-US" sz="2400" spc="-1" strike="noStrike">
                <a:solidFill>
                  <a:srgbClr val="6a96d3"/>
                </a:solidFill>
                <a:latin typeface="Arial"/>
              </a:rPr>
              <a:t>individual</a:t>
            </a:r>
            <a:r>
              <a:rPr b="0" lang="en-US" sz="2400" spc="-1" strike="noStrike">
                <a:solidFill>
                  <a:srgbClr val="000000"/>
                </a:solidFill>
                <a:latin typeface="Arial"/>
              </a:rPr>
              <a:t> is emphasized</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chievement and entrepreneurship are promoted</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can encourage job switching, competition between individuals in a company rather than team building, and a lack of loyalty to the firm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cieties with a strong identification with the </a:t>
            </a:r>
            <a:r>
              <a:rPr b="0" lang="en-US" sz="2400" spc="-1" strike="noStrike">
                <a:solidFill>
                  <a:srgbClr val="6a96d3"/>
                </a:solidFill>
                <a:latin typeface="Arial"/>
              </a:rPr>
              <a:t>group</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and team work are encouraged and life time employment is commo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dividual initiative and creativity may be suppr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ocial Stratification</a:t>
            </a:r>
            <a:endParaRPr b="1" lang="en-US" sz="3600" spc="-1" strike="noStrike">
              <a:solidFill>
                <a:srgbClr val="c6040b"/>
              </a:solidFill>
              <a:latin typeface="Arial"/>
            </a:endParaRPr>
          </a:p>
        </p:txBody>
      </p:sp>
      <p:sp>
        <p:nvSpPr>
          <p:cNvPr id="171" name="PlaceHolder 2"/>
          <p:cNvSpPr>
            <a:spLocks noGrp="1"/>
          </p:cNvSpPr>
          <p:nvPr>
            <p:ph/>
          </p:nvPr>
        </p:nvSpPr>
        <p:spPr>
          <a:xfrm>
            <a:off x="1883880" y="1798560"/>
            <a:ext cx="7031160" cy="4525920"/>
          </a:xfrm>
          <a:prstGeom prst="rect">
            <a:avLst/>
          </a:prstGeom>
          <a:noFill/>
          <a:ln w="0">
            <a:noFill/>
          </a:ln>
        </p:spPr>
        <p:txBody>
          <a:bodyPr anchor="t">
            <a:normAutofit fontScale="98000"/>
          </a:bodyPr>
          <a:p>
            <a:pPr marL="335880" indent="-3358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ocieties are stratified on a hierarchical basis into social categories, or </a:t>
            </a:r>
            <a:r>
              <a:rPr b="0" lang="en-US" sz="2800" spc="-1" strike="noStrike">
                <a:solidFill>
                  <a:srgbClr val="6a96d3"/>
                </a:solidFill>
                <a:latin typeface="Arial"/>
              </a:rPr>
              <a:t>social strata </a:t>
            </a:r>
            <a:r>
              <a:rPr b="0" lang="en-US" sz="2800" spc="-1" strike="noStrike">
                <a:solidFill>
                  <a:srgbClr val="000000"/>
                </a:solidFill>
                <a:latin typeface="Arial"/>
              </a:rPr>
              <a:t>(usually defined by characteristics such as family background, occupation, and income)</a:t>
            </a:r>
            <a:endParaRPr b="0" lang="en-US" sz="2800" spc="-1" strike="noStrike">
              <a:solidFill>
                <a:srgbClr val="000000"/>
              </a:solidFill>
              <a:latin typeface="Arial"/>
            </a:endParaRPr>
          </a:p>
          <a:p>
            <a:pPr marL="335880" indent="-3358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ies differ in terms of </a:t>
            </a:r>
            <a:endParaRPr b="0" lang="en-US" sz="2800" spc="-1" strike="noStrike">
              <a:solidFill>
                <a:srgbClr val="000000"/>
              </a:solidFill>
              <a:latin typeface="Arial"/>
            </a:endParaRPr>
          </a:p>
          <a:p>
            <a:pPr lvl="1" marL="727920" indent="-28008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of mobility between social strata</a:t>
            </a:r>
            <a:endParaRPr b="0" lang="en-US" sz="2800" spc="-1" strike="noStrike">
              <a:solidFill>
                <a:srgbClr val="000000"/>
              </a:solidFill>
              <a:latin typeface="Arial"/>
            </a:endParaRPr>
          </a:p>
          <a:p>
            <a:pPr lvl="1" marL="727920" indent="-28008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ificance attached to social strata in a business context</a:t>
            </a:r>
            <a:r>
              <a:rPr b="0" lang="en-US" sz="2800" spc="-1" strike="noStrike">
                <a:solidFill>
                  <a:srgbClr val="6a96d3"/>
                </a:solidFill>
                <a:latin typeface="Arial"/>
              </a:rPr>
              <a:t>   </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ocial Stratification</a:t>
            </a:r>
            <a:endParaRPr b="1" lang="en-US" sz="36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Social mobility</a:t>
            </a:r>
            <a:r>
              <a:rPr b="0" lang="en-US" sz="2400" spc="-1" strike="noStrike">
                <a:solidFill>
                  <a:srgbClr val="000000"/>
                </a:solidFill>
                <a:latin typeface="Arial"/>
              </a:rPr>
              <a:t> refers to the extent to which individuals can move out of the strata into which they are born</a:t>
            </a:r>
            <a:endParaRPr b="0" lang="en-US" sz="2400" spc="-1" strike="noStrike">
              <a:solidFill>
                <a:srgbClr val="000000"/>
              </a:solidFill>
              <a:latin typeface="Arial"/>
            </a:endParaRPr>
          </a:p>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st rigid system is the </a:t>
            </a:r>
            <a:r>
              <a:rPr b="0" lang="en-US" sz="2400" spc="-1" strike="noStrike">
                <a:solidFill>
                  <a:srgbClr val="6a96d3"/>
                </a:solidFill>
                <a:latin typeface="Arial"/>
              </a:rPr>
              <a:t>caste system</a:t>
            </a:r>
            <a:r>
              <a:rPr b="0" lang="en-US" sz="2400" spc="-1" strike="noStrike">
                <a:solidFill>
                  <a:srgbClr val="000000"/>
                </a:solidFill>
                <a:latin typeface="Arial"/>
              </a:rPr>
              <a:t> (a closed system of stratification in which social position is determined by the family into which a person is born, and change in that position are unlikely) </a:t>
            </a:r>
            <a:endParaRPr b="0" lang="en-US" sz="2400" spc="-1" strike="noStrike">
              <a:solidFill>
                <a:srgbClr val="000000"/>
              </a:solidFill>
              <a:latin typeface="Arial"/>
            </a:endParaRPr>
          </a:p>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ess rigid system is the </a:t>
            </a:r>
            <a:r>
              <a:rPr b="0" lang="en-US" sz="2400" spc="-1" strike="noStrike">
                <a:solidFill>
                  <a:srgbClr val="6a96d3"/>
                </a:solidFill>
                <a:latin typeface="Arial"/>
              </a:rPr>
              <a:t>class system</a:t>
            </a:r>
            <a:r>
              <a:rPr b="0" lang="en-US" sz="2400" spc="-1" strike="noStrike">
                <a:solidFill>
                  <a:srgbClr val="000000"/>
                </a:solidFill>
                <a:latin typeface="Arial"/>
              </a:rPr>
              <a:t> (a form of open social stratification in which the position a person has by birth can be changed through achievement or lu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ocial Stratification</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is the significance of social stratification for busin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ultures where there is a great deal of </a:t>
            </a:r>
            <a:r>
              <a:rPr b="0" lang="en-US" sz="2400" spc="-1" strike="noStrike">
                <a:solidFill>
                  <a:srgbClr val="6a96d3"/>
                </a:solidFill>
                <a:latin typeface="Arial"/>
              </a:rPr>
              <a:t>class consciousness</a:t>
            </a:r>
            <a:r>
              <a:rPr b="1" lang="en-US" sz="2400" spc="-1" strike="noStrike">
                <a:solidFill>
                  <a:srgbClr val="000000"/>
                </a:solidFill>
                <a:latin typeface="Arial"/>
              </a:rPr>
              <a:t> </a:t>
            </a:r>
            <a:r>
              <a:rPr b="0" lang="en-US" sz="2400" spc="-1" strike="noStrike">
                <a:solidFill>
                  <a:srgbClr val="000000"/>
                </a:solidFill>
                <a:latin typeface="Arial"/>
              </a:rPr>
              <a:t>(a condition where people tend to perceive themselves in terms of their class background, and this shapes their relationships with others), the way individuals from different classes work together (i.e. management and labor) may be prescribe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agonism between labor and management can raise the costs of doing busines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ligious and Ethical Systems</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Religion</a:t>
            </a:r>
            <a:r>
              <a:rPr b="0" lang="en-US" sz="2400" spc="-1" strike="noStrike">
                <a:solidFill>
                  <a:srgbClr val="000000"/>
                </a:solidFill>
                <a:latin typeface="Arial"/>
              </a:rPr>
              <a:t> is a system of shared beliefs and rituals that are concerned with the realm of the sacred</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ns with the greatest following are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ity (1.7 billion adheren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lam (1 billion adheren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duism (750 million adheren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350 million adheren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also influences behavior and shapes culture in many parts of As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ligious and Ethical Systems</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t Religions</a:t>
            </a:r>
            <a:endParaRPr b="0" lang="en-US" sz="2800" spc="-1" strike="noStrike">
              <a:solidFill>
                <a:srgbClr val="000000"/>
              </a:solidFill>
              <a:latin typeface="Arial"/>
            </a:endParaRPr>
          </a:p>
        </p:txBody>
      </p:sp>
      <p:pic>
        <p:nvPicPr>
          <p:cNvPr id="180" name="Picture 4" descr="hiL8139X_m0301"/>
          <p:cNvPicPr/>
          <p:nvPr/>
        </p:nvPicPr>
        <p:blipFill>
          <a:blip r:embed="rId1"/>
          <a:stretch/>
        </p:blipFill>
        <p:spPr>
          <a:xfrm>
            <a:off x="1884240" y="2362320"/>
            <a:ext cx="619308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ligious and Ethical Systems</a:t>
            </a:r>
            <a:endParaRPr b="1" lang="en-US" sz="36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thical systems</a:t>
            </a:r>
            <a:r>
              <a:rPr b="0" lang="en-US" sz="2400" spc="-1" strike="noStrike">
                <a:solidFill>
                  <a:srgbClr val="000000"/>
                </a:solidFill>
                <a:latin typeface="Arial"/>
              </a:rPr>
              <a:t> are a set of moral principles, or values, that are used to guide and shape behavior</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hical practices of individuals within a culture are often closely intertwined with their relig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hristianity</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ity is the most widely practiced religion and is common throughout Europe, the Americas, and other countries settled by European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economic implications of Christian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04, Max Weber suggested that it was the Protestant work ethic (focus on hard work, wealth creation, and frugality) that was the driving force of capitalis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slam</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erents of Islam, called Muslims, believe that there is one true omnipotent God</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m is an all-embracing way of life that governs one's be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000" spc="-1" strike="noStrike">
                <a:solidFill>
                  <a:srgbClr val="6a96d3"/>
                </a:solidFill>
                <a:latin typeface="Arial"/>
              </a:rPr>
              <a:t>Question:</a:t>
            </a:r>
            <a:r>
              <a:rPr b="0" lang="en-US" sz="2000" spc="-1" strike="noStrike">
                <a:solidFill>
                  <a:srgbClr val="000000"/>
                </a:solidFill>
                <a:latin typeface="Arial"/>
              </a:rPr>
              <a:t> What is Islamic fundamentalism?</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est, Islamic fundamentalism is associated in the media with militants, terrorists, and violent upheavals, however, the vast majority of Muslims point out that Islam teaches peace, justice, and tolerance</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in response to the influence of Western ideas, some Muslims feel threatened, and are promoting a commitment to traditional beliefs and practice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ists have gained political power in many Muslim countries, and have tried to make Islamic law the law of the land</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3</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a96d3"/>
                </a:solidFill>
                <a:latin typeface="Arial"/>
              </a:rPr>
              <a:t>Differences </a:t>
            </a:r>
            <a:endParaRPr b="0" lang="en-US" sz="4800" spc="-1" strike="noStrike">
              <a:solidFill>
                <a:srgbClr val="000000"/>
              </a:solidFill>
              <a:latin typeface="Arial"/>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a96d3"/>
                </a:solidFill>
                <a:latin typeface="Arial"/>
              </a:rPr>
              <a:t>in Culture</a:t>
            </a:r>
            <a:endParaRPr b="0" lang="en-US" sz="4800" spc="-1" strike="noStrike">
              <a:solidFill>
                <a:srgbClr val="000000"/>
              </a:solidFill>
              <a:latin typeface="Arial"/>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slam</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economic implications of Islam?</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Islam, people do not own property, but only act as stewards for God and thus must take care of that which they have been entrusted with</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slam is supportive of business, the way business is practiced is prescribe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 that are perceived to be making a profit through the exploitation of others, by deception, or by breaking contractual obligations are un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Hinduism</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duism, practiced primarily on the Indian sub-continent, focuses on the importance of achieving spiritual growth and development, which may require material and physical self-den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economic implications of Hinduism?</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dus are valued by their spiritual rather than material achievement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and adding new responsibilities may not be the goal of an employee, or may be infeasible due to the employee's cas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Buddhism</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ts, found mainly in Central and Southeast Asia, China, Korea, and Japan, stress spiritual growth and the afterlife, rather than achievement while in this worl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economic implications of Buddhis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does not support the caste system, so individuals do have some mobility and can work with individuals from different class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preneurial activity is acceptable in Buddhist societ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nfucianism</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practiced mainly in China, teaches the importance of attaining personal salvation through right action</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for high moral and ethical conduct and loyalty to others is central in Confucianis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economic implications of Confucianis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key teachings of Confucianism - loyalty, reciprocal obligations, and honesty - may all lead to a lowering of the cost of doing business in Confucian societ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anguage</a:t>
            </a:r>
            <a:endParaRPr b="1" lang="en-US" sz="36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differ in terms of language or means of communication</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forms language</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ken</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poken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is one of the defining characteristics of cultur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poken Language</a:t>
            </a:r>
            <a:endParaRPr b="1" lang="en-US" sz="36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with more than one </a:t>
            </a:r>
            <a:r>
              <a:rPr b="0" lang="en-US" sz="2800" spc="-1" strike="noStrike">
                <a:solidFill>
                  <a:srgbClr val="6a96d3"/>
                </a:solidFill>
                <a:latin typeface="Arial"/>
              </a:rPr>
              <a:t>spoken language</a:t>
            </a:r>
            <a:r>
              <a:rPr b="0" lang="en-US" sz="2800" spc="-1" strike="noStrike">
                <a:solidFill>
                  <a:srgbClr val="000000"/>
                </a:solidFill>
                <a:latin typeface="Arial"/>
              </a:rPr>
              <a:t> often have more than one culture</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s the mother tongue of the largest number of people in the world</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is the most widely spoken language in the world, and is becoming the language of international busines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knowledge of the local language is beneficial, and in some cases, critical for business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Unspoken Language</a:t>
            </a:r>
            <a:endParaRPr b="1" lang="en-US" sz="36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Unspoken language</a:t>
            </a:r>
            <a:r>
              <a:rPr b="0" lang="en-US" sz="2800" spc="-1" strike="noStrike">
                <a:solidFill>
                  <a:srgbClr val="000000"/>
                </a:solidFill>
                <a:latin typeface="Arial"/>
              </a:rPr>
              <a:t> refers to nonverbal cu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poken language such as facial expressions and hand gestures can be  important for communication</a:t>
            </a:r>
            <a:endParaRPr b="0" lang="en-US" sz="2800" spc="-1" strike="noStrike">
              <a:solidFill>
                <a:srgbClr val="000000"/>
              </a:solidFill>
              <a:latin typeface="Arial"/>
            </a:endParaRPr>
          </a:p>
          <a:p>
            <a:pPr marL="343080" indent="-343080">
              <a:spcBef>
                <a:spcPts val="9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onverbal cues are culturally bound and because they may be interpreted differently, can result in misunderstanding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ducation</a:t>
            </a:r>
            <a:endParaRPr b="1" lang="en-US" sz="36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education is the medium through which individuals learn many of the language, conceptual, and mathematical skills that are indispensable in a modern societ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base, training, and educational opportunities available to a country's citizens can also give it a competitive advantage in the market and make it a more or less attractive place for expanding busines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education level of a country is a good indicator of the types of products that might sell in that location or the type of promotional materials that might be success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lture and the Workplace</a:t>
            </a:r>
            <a:endParaRPr b="1" lang="en-US" sz="3600" spc="-1" strike="noStrike">
              <a:solidFill>
                <a:srgbClr val="c6040b"/>
              </a:solidFill>
              <a:latin typeface="Arial"/>
            </a:endParaRPr>
          </a:p>
        </p:txBody>
      </p:sp>
      <p:sp>
        <p:nvSpPr>
          <p:cNvPr id="204"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es a society's culture impact on the values found in the workplac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famous study undertaken to answer this question was done by Geert Hofstede who isolated four dimensions that he believed summarized different cultures</a:t>
            </a:r>
            <a:endParaRPr b="0" lang="en-US" sz="2400" spc="-1" strike="noStrike">
              <a:solidFill>
                <a:srgbClr val="000000"/>
              </a:solidFill>
              <a:latin typeface="Arial"/>
            </a:endParaRPr>
          </a:p>
          <a:p>
            <a:pPr marL="533520" indent="-53352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distance</a:t>
            </a:r>
            <a:endParaRPr b="0" lang="en-US" sz="2400" spc="-1" strike="noStrike">
              <a:solidFill>
                <a:srgbClr val="000000"/>
              </a:solidFill>
              <a:latin typeface="Arial"/>
            </a:endParaRPr>
          </a:p>
          <a:p>
            <a:pPr marL="533520" indent="-53352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sm versus collectivism</a:t>
            </a:r>
            <a:endParaRPr b="0" lang="en-US" sz="2400" spc="-1" strike="noStrike">
              <a:solidFill>
                <a:srgbClr val="000000"/>
              </a:solidFill>
              <a:latin typeface="Arial"/>
            </a:endParaRPr>
          </a:p>
          <a:p>
            <a:pPr marL="533520" indent="-53352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y avoidance</a:t>
            </a:r>
            <a:endParaRPr b="0" lang="en-US" sz="2400" spc="-1" strike="noStrike">
              <a:solidFill>
                <a:srgbClr val="000000"/>
              </a:solidFill>
              <a:latin typeface="Arial"/>
            </a:endParaRPr>
          </a:p>
          <a:p>
            <a:pPr marL="533520" indent="-533520">
              <a:lnSpc>
                <a:spcPct val="90000"/>
              </a:lnSpc>
              <a:spcBef>
                <a:spcPts val="601"/>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culinity versus femininity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lture and the Workplace</a:t>
            </a:r>
            <a:endParaRPr b="1" lang="en-US" sz="36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a:bodyPr>
          <a:p>
            <a:pPr marL="349200" indent="-34920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Power distance</a:t>
            </a:r>
            <a:r>
              <a:rPr b="0" lang="en-US" sz="2000" spc="-1" strike="noStrike">
                <a:solidFill>
                  <a:srgbClr val="000000"/>
                </a:solidFill>
                <a:latin typeface="Arial"/>
              </a:rPr>
              <a:t> is focused on how a society deals with the fact that people are unequal in physical and intellectual capabilities </a:t>
            </a:r>
            <a:endParaRPr b="0" lang="en-US" sz="2000" spc="-1" strike="noStrike">
              <a:solidFill>
                <a:srgbClr val="000000"/>
              </a:solidFill>
              <a:latin typeface="Arial"/>
            </a:endParaRPr>
          </a:p>
          <a:p>
            <a:pPr marL="349200" indent="-34920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Individualism versus collectivism</a:t>
            </a:r>
            <a:r>
              <a:rPr b="0" lang="en-US" sz="2000" spc="-1" strike="noStrike">
                <a:solidFill>
                  <a:srgbClr val="000000"/>
                </a:solidFill>
                <a:latin typeface="Arial"/>
              </a:rPr>
              <a:t> is focused on the relationship between the individual and his or her fellows </a:t>
            </a:r>
            <a:endParaRPr b="0" lang="en-US" sz="2000" spc="-1" strike="noStrike">
              <a:solidFill>
                <a:srgbClr val="000000"/>
              </a:solidFill>
              <a:latin typeface="Arial"/>
            </a:endParaRPr>
          </a:p>
          <a:p>
            <a:pPr marL="349200" indent="-34920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Uncertainty avoidance</a:t>
            </a:r>
            <a:r>
              <a:rPr b="0" lang="en-US" sz="2000" spc="-1" strike="noStrike">
                <a:solidFill>
                  <a:srgbClr val="000000"/>
                </a:solidFill>
                <a:latin typeface="Arial"/>
              </a:rPr>
              <a:t> measures the extent to which different cultures socialize their members into accepting ambiguous situations and tolerating ambiguity</a:t>
            </a:r>
            <a:endParaRPr b="0" lang="en-US" sz="2000" spc="-1" strike="noStrike">
              <a:solidFill>
                <a:srgbClr val="000000"/>
              </a:solidFill>
              <a:latin typeface="Arial"/>
            </a:endParaRPr>
          </a:p>
          <a:p>
            <a:pPr marL="349200" indent="-34920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Masculinity versus femininity</a:t>
            </a:r>
            <a:r>
              <a:rPr b="0" lang="en-US" sz="2000" spc="-1" strike="noStrike">
                <a:solidFill>
                  <a:srgbClr val="000000"/>
                </a:solidFill>
                <a:latin typeface="Arial"/>
              </a:rPr>
              <a:t> looks at the relationship between gender and work roles</a:t>
            </a:r>
            <a:endParaRPr b="0" lang="en-US" sz="2000" spc="-1" strike="noStrike">
              <a:solidFill>
                <a:srgbClr val="000000"/>
              </a:solidFill>
              <a:latin typeface="Arial"/>
            </a:endParaRPr>
          </a:p>
          <a:p>
            <a:pPr marL="349200" indent="-34920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fstede later added a fifth dimension, </a:t>
            </a:r>
            <a:r>
              <a:rPr b="0" lang="en-US" sz="2000" spc="-1" strike="noStrike">
                <a:solidFill>
                  <a:srgbClr val="6a96d3"/>
                </a:solidFill>
                <a:latin typeface="Arial"/>
              </a:rPr>
              <a:t>Confucian dynamism</a:t>
            </a:r>
            <a:r>
              <a:rPr b="0" lang="en-US" sz="2000" spc="-1" strike="noStrike">
                <a:solidFill>
                  <a:srgbClr val="000000"/>
                </a:solidFill>
                <a:latin typeface="Arial"/>
              </a:rPr>
              <a:t>, to capture attitudes towards time, persistence, ordering by status, protection of face, respect for tradition, and reciprocation of gifts and favors  </a:t>
            </a:r>
            <a:endParaRPr b="0" lang="en-US" sz="2000" spc="-1" strike="noStrike">
              <a:solidFill>
                <a:srgbClr val="000000"/>
              </a:solidFill>
              <a:latin typeface="Arial"/>
            </a:endParaRPr>
          </a:p>
          <a:p>
            <a:pPr marL="34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9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9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r>
              <a:rPr b="1" lang="en-US" sz="3600" spc="-1" strike="noStrike">
                <a:solidFill>
                  <a:srgbClr val="c6040b"/>
                </a:solidFill>
                <a:latin typeface="Arial"/>
              </a:rPr>
              <a:t> </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Cross-cultural literacy</a:t>
            </a:r>
            <a:r>
              <a:rPr b="0" lang="en-US" sz="2800" spc="-1" strike="noStrike">
                <a:solidFill>
                  <a:srgbClr val="000000"/>
                </a:solidFill>
                <a:latin typeface="Arial"/>
              </a:rPr>
              <a:t> (an understanding of how cultural differences across and within nations can affect the way in which business is practiced) is important to success in international busines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a relationship between culture and the costs of doing business in a country or region</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is not static, and the actions of MNEs can contribute to cultura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lture and the Workplace</a:t>
            </a:r>
            <a:endParaRPr b="1" lang="en-US" sz="3600" spc="-1" strike="noStrike">
              <a:solidFill>
                <a:srgbClr val="c6040b"/>
              </a:solidFill>
              <a:latin typeface="Arial"/>
            </a:endParaRPr>
          </a:p>
        </p:txBody>
      </p:sp>
      <p:sp>
        <p:nvSpPr>
          <p:cNvPr id="20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fstede’s Four Dimension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4" descr="hiL8139X_tb0301"/>
          <p:cNvPicPr/>
          <p:nvPr/>
        </p:nvPicPr>
        <p:blipFill>
          <a:blip r:embed="rId1"/>
          <a:stretch/>
        </p:blipFill>
        <p:spPr>
          <a:xfrm>
            <a:off x="2362320" y="2362320"/>
            <a:ext cx="48006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lications for Managers</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403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culture imply that </a:t>
            </a:r>
            <a:endParaRPr b="0" lang="en-US" sz="2800" spc="-1" strike="noStrike">
              <a:solidFill>
                <a:srgbClr val="000000"/>
              </a:solidFill>
              <a:latin typeface="Arial"/>
            </a:endParaRPr>
          </a:p>
          <a:p>
            <a:pPr marL="403200" indent="-403200">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need for managers to develop cross-cultural literacy</a:t>
            </a:r>
            <a:endParaRPr b="0" lang="en-US" sz="2800" spc="-1" strike="noStrike">
              <a:solidFill>
                <a:srgbClr val="000000"/>
              </a:solidFill>
              <a:latin typeface="Arial"/>
            </a:endParaRPr>
          </a:p>
          <a:p>
            <a:pPr marL="403200" indent="-403200">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onnection between culture and national competitive advantage</a:t>
            </a:r>
            <a:endParaRPr b="0" lang="en-US" sz="2800" spc="-1" strike="noStrike">
              <a:solidFill>
                <a:srgbClr val="000000"/>
              </a:solidFill>
              <a:latin typeface="Arial"/>
            </a:endParaRPr>
          </a:p>
          <a:p>
            <a:pPr marL="403200" indent="-403200">
              <a:spcBef>
                <a:spcPts val="700"/>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onnection between culture and ethics in decision making (discussed in the next chap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oss-Cultural Literacy</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and firms must develop cross-cultural literacy</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businesses that are ill informed about the practices of another culture are unlikely to succeed in that culture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must also beware of </a:t>
            </a:r>
            <a:r>
              <a:rPr b="0" lang="en-US" sz="2800" spc="-1" strike="noStrike">
                <a:solidFill>
                  <a:srgbClr val="6a96d3"/>
                </a:solidFill>
                <a:latin typeface="Arial"/>
              </a:rPr>
              <a:t>ethnocentric behavior</a:t>
            </a:r>
            <a:r>
              <a:rPr b="0" lang="en-US" sz="2800" spc="-1" strike="noStrike">
                <a:solidFill>
                  <a:srgbClr val="000000"/>
                </a:solidFill>
                <a:latin typeface="Arial"/>
              </a:rPr>
              <a:t> (a belief in the superiority of one's own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ulture and Competitive Advantage </a:t>
            </a:r>
            <a:endParaRPr b="1" lang="en-US" sz="32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ternational companies, the connection between culture and competitive advantage is important becaus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nection suggests which countries are likely to produce the most viable competitor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nection has implications for the choice of countries in which to locate production facilities and do busines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utline why the culture of a country might influence the costs of doing business in that country.  Illustrate your answer with ex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o you think business practices in an Islamic country are likely to differ from business practices in the United States?  If so, h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are the implications for international business of differences in the dominant religion or ethical system of a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hoose two countries that appear to be culturally diverse.  Compare the culture of those countries and then indicate how cultural differences influence (a) the costs of doing business in each country, (b) the likely future economic development of that country, (c) business practices, and (d) business eth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read the Country Focus on Islamic Capitalism in Turkey.  Then answer the following ques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n you see anything in the value of Islam that is hostile to busi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What does the experience of the region around Kayseri teach us about the relationship between Islam and busi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What are the implications of Islamic values towards business for the participation of a country like Turkey in the global econ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read the Management Focus on DMG-Shanghai and answer the following question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y do you think it is so important to cultivate guanxi and guanxiwang in China?</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hat does the experience of DMG tell us about the way thinks work in China?  What would likely happen to a business that obeyed all of the rules and regulations rather than trying to find a way round them as Dan Mintz apparently do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hat are the ethical issues that might arise when drawing upon guanxiwang to get things done in China?  What does this suggest about the limits of using guanxiwang for a Western business committed to high ethical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hat is Culture?</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is cul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ulture</a:t>
            </a:r>
            <a:r>
              <a:rPr b="0" lang="en-US" sz="2400" spc="-1" strike="noStrike">
                <a:solidFill>
                  <a:srgbClr val="000000"/>
                </a:solidFill>
                <a:latin typeface="Arial"/>
              </a:rPr>
              <a:t> is a system of </a:t>
            </a:r>
            <a:r>
              <a:rPr b="0" lang="en-US" sz="2400" spc="-1" strike="noStrike">
                <a:solidFill>
                  <a:srgbClr val="6a96d3"/>
                </a:solidFill>
                <a:latin typeface="Arial"/>
              </a:rPr>
              <a:t>values </a:t>
            </a:r>
            <a:r>
              <a:rPr b="0" lang="en-US" sz="2400" spc="-1" strike="noStrike">
                <a:solidFill>
                  <a:srgbClr val="000000"/>
                </a:solidFill>
                <a:latin typeface="Arial"/>
              </a:rPr>
              <a:t>(abstract ideas about what a group believes to be good, right, and desirable) and </a:t>
            </a:r>
            <a:r>
              <a:rPr b="0" lang="en-US" sz="2400" spc="-1" strike="noStrike">
                <a:solidFill>
                  <a:srgbClr val="6a96d3"/>
                </a:solidFill>
                <a:latin typeface="Arial"/>
              </a:rPr>
              <a:t>norms</a:t>
            </a:r>
            <a:r>
              <a:rPr b="0" lang="en-US" sz="2400" spc="-1" strike="noStrike">
                <a:solidFill>
                  <a:srgbClr val="000000"/>
                </a:solidFill>
                <a:latin typeface="Arial"/>
              </a:rPr>
              <a:t> (the social rules and guidelines that prescribe appropriate behavior in particular situations) that are shared among a group of people and that when taken together constitute a design for living </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society</a:t>
            </a:r>
            <a:r>
              <a:rPr b="0" lang="en-US" sz="2400" spc="-1" strike="noStrike">
                <a:solidFill>
                  <a:srgbClr val="000000"/>
                </a:solidFill>
                <a:latin typeface="Arial"/>
              </a:rPr>
              <a:t> is a group of people who share a common set of values and n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Values and Norms</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provide the context within which a society’s norms are established and justified</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s are the social rules that govern the actions of people toward one another and can be further subdivided into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folkways</a:t>
            </a:r>
            <a:r>
              <a:rPr b="1" lang="en-US" sz="2400" spc="-1" strike="noStrike">
                <a:solidFill>
                  <a:srgbClr val="000000"/>
                </a:solidFill>
                <a:latin typeface="Arial"/>
              </a:rPr>
              <a:t> </a:t>
            </a:r>
            <a:r>
              <a:rPr b="0" lang="en-US" sz="2400" spc="-1" strike="noStrike">
                <a:solidFill>
                  <a:srgbClr val="000000"/>
                </a:solidFill>
                <a:latin typeface="Arial"/>
              </a:rPr>
              <a:t>(the routine conventions of everyday lif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mores</a:t>
            </a:r>
            <a:r>
              <a:rPr b="0" lang="en-US" sz="2400" spc="-1" strike="noStrike">
                <a:solidFill>
                  <a:srgbClr val="000000"/>
                </a:solidFill>
                <a:latin typeface="Arial"/>
              </a:rPr>
              <a:t> (norms that are seen as central to the functioning of a society and to its social lif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ulture, Society, </a:t>
            </a:r>
            <a:br>
              <a:rPr sz="3200"/>
            </a:br>
            <a:r>
              <a:rPr b="1" lang="en-US" sz="3200" spc="-1" strike="noStrike">
                <a:solidFill>
                  <a:srgbClr val="336699"/>
                </a:solidFill>
                <a:latin typeface="Arial"/>
              </a:rPr>
              <a:t>and the Nation-State</a:t>
            </a:r>
            <a:endParaRPr b="1" lang="en-US" sz="32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ety can be defined as a group of people that share a common set of values and norm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t a strict one-to-one correspondence between a society and a nation-stat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 states are political creations that can contain a single culture or several cultur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ultures embrace several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Determinants of Culture</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s and norms of a culture are the evolutionary product of a number of factors at work in a society including</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iling political and economic philosophi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ety’s social structur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minant religion, language, and edu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Determinants of Culture</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terminants of Cultur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Picture 4" descr="hiL8139X_0301"/>
          <p:cNvPicPr/>
          <p:nvPr/>
        </p:nvPicPr>
        <p:blipFill>
          <a:blip r:embed="rId1"/>
          <a:stretch/>
        </p:blipFill>
        <p:spPr>
          <a:xfrm>
            <a:off x="2057400" y="2438280"/>
            <a:ext cx="57355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ocial Structure</a:t>
            </a:r>
            <a:endParaRPr b="1" lang="en-US" sz="3600" spc="-1" strike="noStrike">
              <a:solidFill>
                <a:srgbClr val="c6040b"/>
              </a:solidFill>
              <a:latin typeface="Arial"/>
            </a:endParaRPr>
          </a:p>
        </p:txBody>
      </p:sp>
      <p:sp>
        <p:nvSpPr>
          <p:cNvPr id="165" name="PlaceHolder 2"/>
          <p:cNvSpPr>
            <a:spLocks noGrp="1"/>
          </p:cNvSpPr>
          <p:nvPr>
            <p:ph/>
          </p:nvPr>
        </p:nvSpPr>
        <p:spPr>
          <a:xfrm>
            <a:off x="1883880" y="1798560"/>
            <a:ext cx="7031160" cy="4525920"/>
          </a:xfrm>
          <a:prstGeom prst="rect">
            <a:avLst/>
          </a:prstGeom>
          <a:noFill/>
          <a:ln w="0">
            <a:noFill/>
          </a:ln>
        </p:spPr>
        <p:txBody>
          <a:bodyPr anchor="t">
            <a:normAutofit/>
          </a:bodyPr>
          <a:p>
            <a:pPr marL="290520" indent="-290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ety's </a:t>
            </a:r>
            <a:r>
              <a:rPr b="0" lang="en-US" sz="2800" spc="-1" strike="noStrike">
                <a:solidFill>
                  <a:srgbClr val="6a96d3"/>
                </a:solidFill>
                <a:latin typeface="Arial"/>
              </a:rPr>
              <a:t>social structure</a:t>
            </a:r>
            <a:r>
              <a:rPr b="0" lang="en-US" sz="2800" spc="-1" strike="noStrike">
                <a:solidFill>
                  <a:srgbClr val="000000"/>
                </a:solidFill>
                <a:latin typeface="Arial"/>
              </a:rPr>
              <a:t> is its basic social organization  </a:t>
            </a:r>
            <a:endParaRPr b="0" lang="en-US" sz="2800" spc="-1" strike="noStrike">
              <a:solidFill>
                <a:srgbClr val="000000"/>
              </a:solidFill>
              <a:latin typeface="Arial"/>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dimensions to consider:</a:t>
            </a:r>
            <a:endParaRPr b="0" lang="en-US" sz="2800" spc="-1" strike="noStrike">
              <a:solidFill>
                <a:srgbClr val="000000"/>
              </a:solidFill>
              <a:latin typeface="Arial"/>
            </a:endParaRPr>
          </a:p>
          <a:p>
            <a:pPr marL="290520" indent="-290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the basic unit of social organization is the individual, as opposed to the group</a:t>
            </a:r>
            <a:endParaRPr b="0" lang="en-US" sz="2800" spc="-1" strike="noStrike">
              <a:solidFill>
                <a:srgbClr val="000000"/>
              </a:solidFill>
              <a:latin typeface="Arial"/>
            </a:endParaRPr>
          </a:p>
          <a:p>
            <a:pPr marL="290520" indent="-290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a society is stratified into classes or castes</a:t>
            </a:r>
            <a:endParaRPr b="0" lang="en-US" sz="2800" spc="-1" strike="noStrike">
              <a:solidFill>
                <a:srgbClr val="000000"/>
              </a:solidFill>
              <a:latin typeface="Arial"/>
            </a:endParaRPr>
          </a:p>
          <a:p>
            <a:pPr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29:36Z</dcterms:modified>
  <cp:revision>16</cp:revision>
  <dc:subject/>
  <dc:title>Slide 1</dc:title>
</cp:coreProperties>
</file>