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A41-5874-4035-968B-0E431C6A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66A1-3E12-43BF-9806-844A42D9829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C09-C519-4B50-B881-AA6A8E72169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AC2E-34C4-48F6-B4BB-978070A871C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BF59-004C-4B8C-95AA-6C464FFA8FA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7E46-5612-411E-B950-1F439B710F5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0032-2FA7-4440-B5E3-C70BD454A36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C688-70F8-41B3-A59F-D2F8E39B4AF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CC60-E00F-4DD4-B875-96C781C9AB6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8D6-04EA-49E6-AB10-73C2FDA4D06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A77-82B3-483E-81D4-A17BD92AC78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7E10-72FC-4B03-89DE-C48375000FD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E87-B2FC-4150-99A8-24A2470DEBF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7096-08EB-45A8-9F21-B15107AE056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AF5-9DE5-4B10-B164-E2B19001F3C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3475-1239-4D37-93F6-ECD12C531E6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A8E6-CAFA-4B12-936F-A06DAEDE8F0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1A66-8E16-44B9-93D9-747174E1CC4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045-A7AC-47A7-9D2A-6C30F6537E3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DFF-838B-463E-B455-C9EBEACE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CB1-8BB5-42E6-A25E-7EECFA3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F43-30FD-4B66-BEAB-AA057259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F16-7DA6-47C7-82E3-19692D2C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A394-2ECE-4741-89C7-64C0BBD5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26F-3214-4DAC-B64D-08E48A6C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46AF-C62F-4C66-90B9-8EB574A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7F1-FD9D-499E-A366-2ED398AE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A8C6-793C-43B6-B11D-D2BA54B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C5DC-F25C-47FB-9923-DC995F6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D68B-808E-4A5C-94D0-FAD9D28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B76-2957-4692-A4C1-222C667D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AF30-7CF7-4DE8-8721-DF4DB9E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7368-5CF3-4CBD-84C3-6F9AD42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D3B-B70E-44CB-9ED9-CF31FE29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8482-0BD6-4D9C-9882-020BE4B9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588E-A767-47F1-BB74-F6384427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7527-F76D-4D85-86A7-AB997B9E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17B3-8FE2-4969-9930-430CF7F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AC0D-0C2E-431A-A351-B928F718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B27E-A262-49CE-BEAD-16CD707E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71E2-CF68-4CD1-B39B-B89CF99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34A-DDE2-4574-BEA0-D5766F9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185E-AB70-44A0-AFE9-6AE0D889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8892-72C8-4B04-BCB7-3A46C23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0457-24AB-4F65-AF0A-C1C1013B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40F9-30E2-41A0-9D90-1F87C96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5E44-2984-4859-A30C-B68C7EB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F818-7462-4D42-AE4F-C9F2C9CD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38BC-39F6-4967-AA32-04CB1974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463F-54F4-48CC-AEBE-3C5FDE8C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449F-2E7B-4D94-BEF1-109A35D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8A37-8DC8-4F1B-A221-594A4BC8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018-A159-4FD2-A811-B785C3E0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809E-D6D1-4EA8-AE22-6BDF164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44CB-C241-451E-A2FF-52267F0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27C8-B224-423B-96BA-FBFFFD69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66D2-9638-4A52-824A-1892B94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CFEB-F6F1-439C-AC25-455F48A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615D-821B-4B6C-B35B-84C7E70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F2A3-9421-4D8C-8AF9-D496F5F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0FAD-8D89-4454-9DC7-AA290115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2535-02CE-4403-B641-8792E0A8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E3E-9F1F-428D-9219-0EF5FF98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9E8-2E42-472A-B268-1DA8103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988-8616-4F41-8DB0-2E6C4BA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1A3-FAFC-473D-B2F0-9D58F40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AC6-BB81-4DA3-BD53-EFD617F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2F96-A265-43F3-A8B2-0A586593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A9F-822A-44B3-A9F6-72E8124F3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C74-4F2F-48C2-90E3-B935CD41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A22-1BB8-42DA-B501-E6A77E22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7360" y="3030480"/>
            <a:ext cx="868680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epts and Cases 9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207040" y="5029200"/>
            <a:ext cx="63244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II:  Strategic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6:  Corporate-Leve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vels of Divers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3. Very High Levels:  Unrelated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ess than 70% of revenue comes from dominant busin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No relationships between busines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vels and Types of Divers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4978440" y="2666880"/>
            <a:ext cx="7039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s for Divers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 number of reasons exist for diversification including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-creating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perational relatedness: sharing activities between busines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rporate relatedness: transferring core competencies into busin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-neutral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-reducing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Creating Diversification Strategies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erational and Corporate Relatedn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Rectangle 3" descr=""/>
          <p:cNvPicPr/>
          <p:nvPr/>
        </p:nvPicPr>
        <p:blipFill>
          <a:blip r:embed="rId1"/>
          <a:stretch/>
        </p:blipFill>
        <p:spPr>
          <a:xfrm>
            <a:off x="4749840" y="2590920"/>
            <a:ext cx="73134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6:  Corporate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and discuss corporate-leve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t levels of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primary reasons firms diversi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Value creation:  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Value creation:  un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centives and resources encouraging value-neutral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ment motives encouraging firm over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Creating Diversification (VCD):  Related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urpose:  Gain market power relative to competito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lated diversification wants to develop and exploit economies of scope between its business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conomies of scope:  Cost savings firm creates by successfully sharing some of its resources and capabilities or transferring one or more corporate-level core competencies that were developed in one of its businesses to another of its business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VCD:  Composed of ‘related’ diversification strategies including Operational and Corporate relatednes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Creating Diversification (VCD):  Related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Operational Relatedness: Sharing activit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an gain economies of scop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hare primary or support activities (in value chain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isky as ties create links between outcom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ed constrained share activities in order to create valu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Not easy, often synergies not realized as plann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Creating Diversification (VCD):  Related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Corporate Relatedness:  Core competency transfe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lex sets of resources and capabilities linking different businesses through managerial and technological knowledge, experience and expertis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wo sources of value cre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pense incurred in first business and knowledge transfer reduces resource allocation for second busin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angible resources difficult for competitors to understand and imitate, so immediate competitive advantage over competi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e related-link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Creating Diversification (VCD):  Related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rket Powe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ists when a firm is able to sell its products above the existing competitive level, to reduce costs of primary and support activities below the competitive level, or both.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ultimarket (or Multipoint) Competi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ists when 2 or more diversified firms simultaneously compete in the same product or geographic markets.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ed diversification strategy may includ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Vertical Integr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Virtual integration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Creating Diversification (VCD):  Unrelated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reates value through two types of financial econom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st savings realized through improved allocations of financial resources based on investments inside or outside fir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fficient internal capital market alloc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structuring of acquired ass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 A buys firm B and restructures assets so it can operate more profitably, then A sells B for a profit in the external marke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trategic Management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4826160" y="2057400"/>
            <a:ext cx="696564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6:  Corporate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and discuss corporate-leve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t levels of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primary reasons firms diversi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 using 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 using un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Incentives and resources encouraging value-neutral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ment motives encouraging firm over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Neutral Diversification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entives and Resourc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Incentives to Diversif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ntitrust Regulation and Tax Law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ow Perform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ncertain Future Cash Flow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ynergy and Firm Risk Redu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sources and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Curvilinear Relationship between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versification and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Rectangle 3" descr=""/>
          <p:cNvPicPr/>
          <p:nvPr/>
        </p:nvPicPr>
        <p:blipFill>
          <a:blip r:embed="rId1"/>
          <a:stretch/>
        </p:blipFill>
        <p:spPr>
          <a:xfrm>
            <a:off x="4826160" y="2895480"/>
            <a:ext cx="731340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6:  Corporate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and discuss corporate-leve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t levels of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primary reasons firms diversi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 using 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 using un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centives and resources encouraging value-neutral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Management motives encouraging firm over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-Reducing Diversification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agerial Motives to Diversif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p-level executives may diversify in order to diversity their own employment risk, as long as profitability does not suffer excessivel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versification adds benefits to top-level managers but not sharehold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is strategy may be held in check by governance mechanisms or concerns for one’s repu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ary Model of the Relationship Between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versification and Firm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tretch/>
        </p:blipFill>
        <p:spPr>
          <a:xfrm>
            <a:off x="4826160" y="2209680"/>
            <a:ext cx="703872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6:  Corporate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and discuss corporate-leve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t levels of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primary reasons firms diversi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: 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: un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centives and resources encouraging value-neutral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ment motives encouraging firm over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ster’s Group Diversification into Wine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ustralian beer produce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ntered wine business for growth potentia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001 purchase of Beringer Wine Estates (California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005 purchase of Southcor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By 2008 wine contributed 76% of sales earning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stly mistak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ne sales force for both beer and win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outhcorp purchased at a premium during period when U.S. dollar was depreciating vs. Australian dolla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6:  Corporate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efine and discuss corporate-leve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t levels of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primary reasons firms diversi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: 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: un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centives and resources encouraging value-neutral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ment motives encouraging firm over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rporate-level strategy:  Specifies actions a firm takes to gain a competitive advantage by selecting and managing a group of different businesses competing in different product marke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pected to help firm earn above-average retur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ultimately determined by degree to which “the businesses in the portfolio are worth more under the management of the company then they would be under any other owne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duct diversification (PD):  primary form of corporate-level strateg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6:  Corporate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and discuss corporate-leve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ifferent levels of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Three primary reasons firms diversi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: 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creation: unrelat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centives and resources encouraging value-neutral 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ment motives encouraging firm overdiversific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vels of Divers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Low Level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ingle Business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rporate-level strategy in which the firm generates 95% or more of its sales revenue from its core business area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ominant Business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rporate-level strategy whereby firm generates 70-95% of total sales revenue within a single business area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96800" y="390240"/>
            <a:ext cx="1095660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vels of Diversific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96800" y="2276280"/>
            <a:ext cx="1095660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Moderate to High Level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ed Constrained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ess than 70% of revenue comes from the dominant busin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rect links (i.e., share products, technology and distribution linkages) between the firm's busines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ed Linked Diversification Strategy (Mixed related and unrelated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ess than 70% of revenue comes from the dominant busin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ixed:  Linked firms sharing fewer resources and assets among their businesses (compared with related constrained, above), concentrating on the transfer of knowledge and competencies among the busines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Laurie Merz</cp:lastModifiedBy>
  <dcterms:modified xsi:type="dcterms:W3CDTF">2010-04-15T22:27:36Z</dcterms:modified>
  <cp:revision>30</cp:revision>
  <dc:subject/>
  <dc:title>PART 2 Strategic Actions:  Strategy Formulation</dc:title>
</cp:coreProperties>
</file>