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9B4F-CBCE-4BEF-81A9-0DABEE768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2B6D-6950-4F6C-ACE8-5E43D5A8CEE1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919F-B80A-4CE6-BB0F-5B81C6402DA9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3C17-E7FF-4C94-B48B-868A408F216D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EF60-5863-4015-B9E7-110D48948F78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0455-E248-4AC9-8E0F-410555A00B42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235B-50EA-4B79-A830-28DAFE737885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A47B-CE5B-42E4-937A-06D36625CFB8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5643-C395-470B-B82A-ADF6DC9CAE03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3C51-E987-484E-B2D0-F95137A26144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EB91-69F0-4759-A1BA-0D62201FA808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4DD3-F6C6-48F1-B961-F26E5C18CF64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8871-0B43-4923-B82D-D1ECCFF492D0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C4C2-95FA-4F3D-8F20-B2CFAD15A0A9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004C-3D10-4A06-BA8D-04EBB9D4816D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BCF2-207F-483E-874C-6E0731A7BD10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AA32-69B7-4745-A872-D47168046C2C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F088-D6A1-4F46-8ADB-9038F7826A04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F9D9-AEF5-4FCC-B2DC-3D21E3BDEC95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CD21-E0C7-4089-BE7D-1CC80E97C6AE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A21C-247D-4793-92B1-0478D23B4CD2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E017-2678-4DED-BD79-3779A5C3C794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21D7-A575-4757-8B6B-364C01340C67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7056-BFCE-4CCF-BF6C-CBBC8BEF463F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DB52-5542-4E0E-9BC4-36DFC5C5B91B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0A54-C658-48FE-A5AC-2786ECC49656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4885-413E-48BA-B393-6AC7C3998D62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05A2-F99F-4ACF-B18E-B0E9FEC52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EFCA-AF1A-4584-A0ED-603BCE1C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028A-3FA3-4544-95FD-3810A5D77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2643-1501-47C2-A50F-8E9C39EA8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29D1-17AE-4727-A702-C70E6CAF6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ED69-D6A5-487C-9516-7FEDE756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3B72-7470-4EE0-8CCA-D32948AB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9CBC-9AA4-49A5-81BB-361BA5E9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6CA1-0898-4992-BBE1-5A183583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73D6D-4081-483F-80A9-844FE4E0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11D7-8EDA-444F-B752-59F4F909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B880-CA4A-40E0-BF8A-056E8DF7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7A0B-1955-4BBA-903C-0BC92984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262B-B2A5-47E1-A574-8554A2F2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E207-0412-4828-A917-A1BDA22B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79F53-C653-4DD3-8B88-2188E6395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4F8D2-F6CA-4416-A184-EC03F87DD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2C32A-33F4-4A85-B855-AFBF53459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8F60B-6F1F-425D-B625-7FA4C5FF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2C3DA-FA26-43E6-9B49-C6FED3C8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7F6F7-C57B-436C-9FF0-B8535A76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4A2E6-7B63-4DCC-9DF9-83E8663D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5EBC-FB22-470C-9D06-955ACDA2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605C4-547D-4EAC-B8B1-F7957049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980E3-FD14-4C0A-84FD-3AAF8DC2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58E9B-F7B3-410E-A7E0-2F037E9C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5926A-25E0-47C4-9BCA-12E80774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A8FA2-0FEA-4154-9823-537D31EA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EE5D4-5803-44A2-81EA-D2300902D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6FF05-3E01-48E5-8E1B-5FA621CA4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C80A9-F65B-4AD3-BB36-D780CC9FB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79FB9-48E6-43E5-915D-42776915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42342-D4AE-414E-9CDE-80BAE9E6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6F9C-CE2F-4374-9CDB-B1D578ED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BB3F7-D41C-4F8B-BC49-AD353152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9552E-6C39-4395-BF11-3B1257F0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EEEE0-D2BE-4A66-BA8A-B3E08CBA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95804-CB4C-4ECD-A6A6-C1B81E06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E12DE-E27C-4329-8005-1FAE891C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96970-BBE5-4021-A50D-A03274FA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5AC04-70CF-49F6-A0A1-FE9A017F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F16D5-7EE5-49F7-B2F0-0F39074ED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7C279-82AB-452D-BFD2-36777AA41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6617-BD3D-418A-9212-93DD83AC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4EB7-E90A-4F75-8B9B-AEB849F1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D1A2-BBB9-4BBC-B37B-18F309FF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ED44-B2F9-44C4-972D-5803E652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344B-3ECC-427D-A326-66251258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58960" y="390240"/>
            <a:ext cx="699444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D383-EC17-4DA6-AEE2-D837BB58C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162920" y="9067680"/>
            <a:ext cx="5105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fefef"/>
                </a:solidFill>
                <a:latin typeface="Verdana"/>
              </a:rPr>
              <a:t>©2011 Cengage Learning. All Rights Reserved. May not be scanned, copied or duplicated, or posted to a publicly accessible website, in whole or in part.</a:t>
            </a:r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1650960" y="9410760"/>
            <a:ext cx="113410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a9d61"/>
                </a:solidFill>
                <a:latin typeface="Verdana"/>
              </a:rPr>
              <a:t>©2011 Cengage Learning. All Rights Reserved. May not be scanned, copied or duplicated, or posted to a publicly accessible website, in whole or in part.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8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8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8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8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8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6E85-DA89-4A7B-8663-4AE18C884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993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3CD5-C0FC-4104-96A1-8BCDB6080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1650960" y="9410760"/>
            <a:ext cx="113410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a9d61"/>
                </a:solidFill>
                <a:latin typeface="Verdana"/>
              </a:rPr>
              <a:t>©2011 Cengage Learning. All Rights Reserved. May not be scanned, copied or duplicated, or posted to a publicly accessible website, in whole or in part.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8"/>
          <p:cNvSpPr/>
          <p:nvPr/>
        </p:nvSpPr>
        <p:spPr>
          <a:xfrm>
            <a:off x="7162920" y="9067680"/>
            <a:ext cx="5105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fefef"/>
                </a:solidFill>
                <a:latin typeface="Verdana"/>
              </a:rPr>
              <a:t>©2011 Cengage Learning. All Rights Reserved. May not be scanned, copied or duplicated, or posted to a publicly accessible website, in whole or in part.</a:t>
            </a:r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58960" y="390240"/>
            <a:ext cx="699444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56E8-7751-44FB-A1A4-1C1EB700B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606840" y="3030480"/>
            <a:ext cx="8229600" cy="20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Management of Strategy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cepts and Cases 9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435640" y="5029200"/>
            <a:ext cx="6477120" cy="29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t II:  Strategic Actions:  Strategy For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5:  Competitive Rival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Competitive Dyna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del of Competitive Rivalr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Model of Competitive Rivalry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Over time firms take competitive actions/reaction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Pattern shows firms are mutually interdependent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Firm level rivalry is usually dynamic and complex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Foundation for successfully building and using capabilities and core competencies to gain an advantageous market posi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Sequence of events (next slide) are the components of this chapter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 Model of Competitive Rivalr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Rectangle 3" descr=""/>
          <p:cNvPicPr/>
          <p:nvPr/>
        </p:nvPicPr>
        <p:blipFill>
          <a:blip r:embed="rId1"/>
          <a:stretch/>
        </p:blipFill>
        <p:spPr>
          <a:xfrm>
            <a:off x="3149640" y="3276720"/>
            <a:ext cx="929628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petitor Analysi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Competitor Analysi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2 components to assess:  Market Commonality and Resource Similarit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The question: ‘To what extent are firms competitors’?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Number of markets in which firms compete against each other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Competitor: High market commonality &amp; resource similarity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I.e., Dell and HP are direct competitor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Direct competition does not always imply intense rivalr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petitor Analysi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Market Commonality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Each industry composed of various markets which can be subdivided into (segments)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I.e., Financial industry 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Resource Similarity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Extent to which firm’s tangible/intangible resources are comparable to competitor’s in type and amount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I.e., FedEx and UPS – both have efficient operations and focus on cost reduction 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Combination of market commonality &amp; resource similarity indicate a firm’s direct competitor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 Framework of Competitor Analysi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Rectangle 3" descr=""/>
          <p:cNvPicPr/>
          <p:nvPr/>
        </p:nvPicPr>
        <p:blipFill>
          <a:blip r:embed="rId1"/>
          <a:stretch/>
        </p:blipFill>
        <p:spPr>
          <a:xfrm>
            <a:off x="4749840" y="2895480"/>
            <a:ext cx="732168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hapter 5:  Competitive Rivalry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petitive Dynamic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Overview:  Six content areas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ompetitors, competitive rivalry, competitive behavior and competitive dynamic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Market commonality and resource similarity:  Building blocks of competitor analysi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Verdana"/>
              </a:rPr>
              <a:t>Competitive actions:  Awareness, motivation 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66cc"/>
                </a:solidFill>
                <a:latin typeface="Verdana"/>
              </a:rPr>
              <a:t>and abilit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Factors driving competitor’s competitive action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ompetitor’s response to actions taken against it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ompetitive dynamics in slow, fast and standard-cycle market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rivers of Competitive Actions/Response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Market commonality &amp; resource similarity influence three drivers (awareness, motivation and ability) of competitive behavior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Awarenes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Prerequisite to any competitive action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Extent competitors recognize degree of mutual interdependence that results from market commonality and resource similarity 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Motiv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Firm's incentive to take action, or to respond to a competitor's attack, as it relates to perceived gains and losse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Abilit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Firm's resources that allow competitive action and flexibility in responsivenes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rivers of Competitive Actions/Response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Other influences include resource dissimilarity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The greater  the resource imbalance between acting firm and competitors or potential responders, the greater will be the delay in respons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i.e.,  Wal-Mart initially used cost leadership strategy to compete only in small communities 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Created a logistics systems and extremely efficient purchasing practices as competitive advantage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hapter 5:  Competitive Rivalry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petitive Dynamic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Overview:  Six content areas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ompetitors, competitive rivalry, competitive behavior and competitive dynamic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Market commonality and resource similarity:  Building blocks of competitor analysi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ompetitive actions:  Awareness, motivation and abilit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Verdana"/>
              </a:rPr>
              <a:t>Factors driving competitor’s competitive action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Verdana"/>
              </a:rPr>
              <a:t>Competitor’s response to actions taken against it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ompetitive dynamics in slow, fast and standard-cycle market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petitive Rivalr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Important to understand competitor’s awareness, motivation and ability in order to predict the likelihood of an attack – study ‘likelihood of attack’ factor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What are the strategic and tactical actions?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Strategic actions/responses: market-based moves that signify a significant commitment of organizational resources to pursue a specific strategy 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Difficult to implement and reverse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Tactical actions/responses: market-based moves that involve fewer resources to fine-tune a strategy that is already in place 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Easy to implement and reverse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Strategic Management Proce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tretch/>
        </p:blipFill>
        <p:spPr>
          <a:xfrm>
            <a:off x="4749840" y="2057400"/>
            <a:ext cx="6956280" cy="64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petitive Rivalr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What are the strategic and tactical actions?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ompetitive Ac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Strategic or tactical action firm takes to build or defend its competitive advantages or improve its market position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ompetitive Response 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Strategic or tactical action the firm takes to counter effects of a competitor's action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Tactical Action (or Response) 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Market-based move the firm takes in order to fine-tune a strategy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firm Rivalry:  Likelihood of Attac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Three possible ‘likelihood of response’ action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1.  First Mover Incentiv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2.  Organizational Siz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3.  Qualit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firm Rivalry:  Likelihood of Attack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Three possible ‘likelihood of response’ action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1. First Mover Incentiv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Firm that takes an initial competitive action to build or to defend its competitive advantages or to improve its market position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Must have readily available resource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Slack – buffer or cushion provided by actual or obtainable resources not currently used by an organization, resources in excess of the minimum needed to produce a given level of output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firm Rivalry:  Likelihood of Attack (Cont’d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Three possible ‘likelihood of response’ actions  </a:t>
            </a:r>
            <a:r>
              <a:rPr b="0" lang="en-US" sz="1200" spc="-1" strike="noStrike">
                <a:solidFill>
                  <a:srgbClr val="99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1. First Mover Incentiv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Often builds upon a strategic foundation of superior research and development skill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Tends to be aggressive and willing to experiment with innovation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Tends to take higher, yet reasonable, risk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Needs to have liquid resources (slack) that can be quickly allocated to support action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Benefits can be substantial, but remember the learning curve!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firm Rivalry:  Likelihood of Attack (Cont’d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Three possible ‘likelihood of response’ actions  </a:t>
            </a:r>
            <a:r>
              <a:rPr b="0" lang="en-US" sz="1200" spc="-1" strike="noStrike">
                <a:solidFill>
                  <a:srgbClr val="99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1.  First Mover Incentives:  Responses to 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Second Mover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Responds to first mover, typically through imitation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Is more cautious than first movers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Tends to study customer reactions to product innovations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Tends to learn from the mistakes of first movers, reducing its risks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Takes advantage of time to develop processes and technologies that are more efficient than first movers, reducing its costs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Will not benefit from first mover advantages, lowering potential returns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Late Mover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Responds to market opportunities only after considerable time has elapsed since first and second movers have taken action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Has substantially reduced risks and returns 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firm Rivalry:  Likelihood of Attack (Cont’d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Three possible ‘likelihood of response’ actions </a:t>
            </a:r>
            <a:r>
              <a:rPr b="0" lang="en-US" sz="1200" spc="-1" strike="noStrike">
                <a:solidFill>
                  <a:srgbClr val="99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2.  Organizational Siz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Small firms 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Act as nimble and flexible competitors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Rely on speed and surprise to defend their competitive advantage 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Have greater variety of competitive behavior options available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Large firms 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Often have greater slack 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Have greater likelihood to initiate competitive and strategic actions over time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Tend to rely on a limited variety of competitive actions, which can ultimately reduce their competitive success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firm Rivalry:  Likelihood of Attack (Cont’d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Three possible ‘likelihood of response’ actions </a:t>
            </a:r>
            <a:r>
              <a:rPr b="0" lang="en-US" sz="1200" spc="-1" strike="noStrike">
                <a:solidFill>
                  <a:srgbClr val="99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3.  Qualit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Customer perception that the firm's goods or services perform in ways that are important to customers, meeting or exceeding their expectations 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firm Rivalry:  Likelihood of Respons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Additional factors affect the likelihood a firm will competitively respond to a competitor’s actions: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1. Types and effectiveness of the competitive ac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2. Actor’s Reput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Actor:  Firm taking an action or response (in the context of competitive rivalry)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Reputation: positive or negative attribute ascribed by one rival to another based on past competitive behavior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3. Dependence on the Market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Extent to which a firm's revenues or profits are derived from a particular market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Finally, if the action significantly strengthens or weakens the firm's competitive position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hapter 5:  Competitive Rivalry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petitive Dynamic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Overview:  Six content areas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ompetitors, competitive rivalry, competitive behavior and competitive dynamic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Market commonality and resource similarity:  Building blocks of competitor analysi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ompetitive actions:  Awareness, motivation and abilit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Factors driving competitor’s competitive action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ompetitor’s response to actions taken against it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Verdana"/>
              </a:rPr>
              <a:t>Competitive dynamics in slow, fast and standard-cycle market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petitive Dynamics: 3 Market Cyc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1.  Slow-Cycle Market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Markets in which the firm's competitive advantages are shielded from imitation for long periods of time, and in which imitation is costl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Build a one-of-a-kind competitive advantage which creates sustainability (I.e., proprietary and difficult for competitors to understand)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Once a proprietary advantage is developed, competitive behavior should be oriented to protecting, maintaining, and extending that advantag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Organizational structure should be used to effectively support strategic effort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hapter 5:  Competitive Rivalry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petitive Dynamic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Overview:  Six content areas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ompetitors, competitive rivalry, competitive behavior and competitive dynamic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Market commonality and resource similarity:  Building blocks of competitor analysi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ompetitive actions:  Awareness, motivation and abilit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Factors driving competitor’s competitive action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ompetitor’s response to actions taken against it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ompetitive dynamics in slow, fast and standard-cycle market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Gradual Erosion of a Sustained Competitive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dvantag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Rectangle 3" descr=""/>
          <p:cNvPicPr/>
          <p:nvPr/>
        </p:nvPicPr>
        <p:blipFill>
          <a:blip r:embed="rId1"/>
          <a:stretch/>
        </p:blipFill>
        <p:spPr>
          <a:xfrm>
            <a:off x="4597560" y="3048120"/>
            <a:ext cx="73134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petitive Dynamics: 3 Market Cycles (Cont’d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2.  Fast-Cycle Market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Markets in which the firm's capabilities that contribute to competitive advantages are not shielded from imitation and where imitation is often rapid and inexpensive 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Focus:  learning how to rapidly and continuously develop new competitive advantages that are superior to those they replace (creating innovation)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Avoid loyalty to any one product, possibly cannibalizing their own current products to launch new ones before competitors learn how to do so through successful imit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ontinually try to move on to another temporary competitive advantage before competitors can respond to the first one 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ing Temporary Advantages to Create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ustained Advantag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Rectangle 3" descr=""/>
          <p:cNvPicPr/>
          <p:nvPr/>
        </p:nvPicPr>
        <p:blipFill>
          <a:blip r:embed="rId1"/>
          <a:stretch/>
        </p:blipFill>
        <p:spPr>
          <a:xfrm>
            <a:off x="4749840" y="3276720"/>
            <a:ext cx="731340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petitive Dynamics: 3 Market Cycles (Cont’d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3.  Standard-Cycle Market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Markets where firm’s competitive advantages are moderately shielded from imitation and where imitation is moderately costl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ompetitive advantages partially sustained as quality is continuously upgraded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Seek to serve many customers and gain a large market shar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Gain brand loyalty through brand nam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areful operational control / manage a consistent experience for the customer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petition in Recession – Let the Bad Times Rol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Competitive rivalry often increases during recession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ustomers change buying behavior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Look for ways to escape daily negative environment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Movie ticket sales increase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Candy consumption increase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Bottled water sales declined 2 percent in 2008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Bottled water distributors introduced new product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Address plastic bottle concern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ompetition from tap water filter manufacturer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hapter 5:  Competitive Rivalry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petitive Dynamic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Overview:  Six content areas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Verdana"/>
              </a:rPr>
              <a:t>Competitors, competitive rivalry, competitive behavior and competitive dynamic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Market commonality and resource similarity:  Building blocks of competitor analysi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ompetitive actions:  Awareness, motivation and abilit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Factors driving competitor’s competitive action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ompetitor’s response to actions taken against it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ompetitive dynamics in slow, fast and standard-cycle market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roduction and Defini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Competitor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Firms operating in the same market, offering similar products and targeting similar customer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Competitive Rivalry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Ongoing set of competitive actions and competitive responses occurring between competitors as they contend with each other for an advantageous market posi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Competitive Behavior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Set of competitive actions and competitive responses the firm takes to build or defend its competitive advantages and to improve its market posi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roduction and Definition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Multimarket Competition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Firms competing against one another in several product or geographic market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Competitive Dynamics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Total set of actions and responses of all firms competing within a market 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rom Competitors to Competitive Dynamic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Rectangle 3" descr=""/>
          <p:cNvPicPr/>
          <p:nvPr/>
        </p:nvPicPr>
        <p:blipFill>
          <a:blip r:embed="rId1"/>
          <a:stretch/>
        </p:blipFill>
        <p:spPr>
          <a:xfrm>
            <a:off x="3149640" y="2438280"/>
            <a:ext cx="9250200" cy="56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hapter 5:  Competitive Rivalry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petitive Dynamic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Overview:  Six content areas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ompetitors, competitive rivalry, competitive behavior and competitive dynamic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Verdana"/>
              </a:rPr>
              <a:t>Market commonality and resource similarity:  Building blocks of competitor analysi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ompetitive actions:  Awareness, motivation and abilit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Factors driving competitor’s competitive action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ompetitor’s response to actions taken against it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ompetitive dynamics in slow, fast and standard-cycle market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llette,Paul</dc:creator>
  <dc:description/>
  <dc:language>en-US</dc:language>
  <cp:lastModifiedBy>Laurie Merz</cp:lastModifiedBy>
  <dcterms:modified xsi:type="dcterms:W3CDTF">2010-04-15T22:27:15Z</dcterms:modified>
  <cp:revision>29</cp:revision>
  <dc:subject/>
  <dc:title>PART 2 Strategic Actions:  Strategy Formulation</dc:title>
</cp:coreProperties>
</file>