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polka_03'27_(810%20ko)_kuschel-polka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FD89-7947-4187-BE07-901AFF4A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B311-C9A1-4B02-9EB1-B0883035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2477-D84F-4C7F-9AF0-BE85F3E8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C526-090D-4085-8328-00690658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77E0-4A44-4DB5-87FE-C8ACA35B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AC26-C11F-48BA-8ADA-615D6F9F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97CF-CED0-45B6-959D-EF883F71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CB58-711D-4C84-B69C-F504C8C8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1D65-7E64-4983-8003-FF3A8EB2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B2C3-A172-456F-A40E-12A1EC61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3C95-3913-403D-8F5B-BAB49343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9610-322A-4473-AA4D-536FED66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FBEF-E147-4D42-B1E4-CAEB92ABA44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olka_03&apos;27_(810%20ko)_kuschel-polk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336600"/>
                </a:solidFill>
                <a:latin typeface="Comic Sans MS"/>
              </a:rPr>
              <a:t>Unbelievable but true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543800" cy="3100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43434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336600"/>
                </a:solidFill>
                <a:latin typeface="Comic Sans MS"/>
              </a:rPr>
              <a:t>The Waldgeist Restaurant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336600"/>
                </a:solidFill>
                <a:latin typeface="Comic Sans MS"/>
              </a:rPr>
              <a:t>at Hofheim am Taunu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3244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Automatic scrolling - Sound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01960" y="0"/>
            <a:ext cx="51386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22860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mic Sans MS"/>
              </a:rPr>
              <a:t>She has NEVER seen anything lik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90680" y="0"/>
            <a:ext cx="45626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562720" y="152280"/>
            <a:ext cx="340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mic Sans MS"/>
              </a:rPr>
              <a:t>the hamburger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mic Sans MS"/>
              </a:rPr>
              <a:t>12“ 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mic Sans MS"/>
              </a:rPr>
              <a:t>Yes: 1 foot wid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65088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78168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mic Sans MS"/>
              </a:rPr>
              <a:t>Bon appéti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97000" y="0"/>
            <a:ext cx="4950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9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909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mic Sans MS"/>
              </a:rPr>
              <a:t>Mein Got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626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952880" y="9907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mic Sans MS"/>
              </a:rPr>
              <a:t>If you are still hungry after tha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2651040"/>
            <a:ext cx="403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0" spc="-1" strike="noStrike">
                <a:solidFill>
                  <a:srgbClr val="336600"/>
                </a:solidFill>
                <a:latin typeface="Comic Sans MS"/>
              </a:rPr>
              <a:t>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90520" y="4876920"/>
            <a:ext cx="40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00"/>
                </a:solidFill>
                <a:latin typeface="Comic Sans MS"/>
              </a:rPr>
              <a:t>www.waldgeist-hofheim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617220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Warning! The music is about to sto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3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21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6600"/>
                </a:solidFill>
                <a:latin typeface="Comic Sans MS"/>
              </a:rPr>
              <a:t>The beer is served in                      in quantities of ½, 1 or 2 litres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1852560"/>
            <a:ext cx="7543800" cy="3100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257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00"/>
                </a:solidFill>
                <a:latin typeface="Comic Sans MS"/>
              </a:rPr>
              <a:t>Hofheim is a town of the Land of Hesse 17 km West of Francf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5120" y="2622600"/>
            <a:ext cx="5486400" cy="2254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5289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00"/>
                </a:solidFill>
                <a:latin typeface="Comic Sans MS"/>
              </a:rPr>
              <a:t>As a specialty, we offer you the "Bembel of Grauens" a mixture of Bacardi rum &amp; cola drink in a </a:t>
            </a:r>
            <a:r>
              <a:rPr b="1" lang="en-GB" sz="2400" spc="-1" strike="noStrike" u="sng">
                <a:solidFill>
                  <a:srgbClr val="336600"/>
                </a:solidFill>
                <a:uFillTx/>
                <a:latin typeface="Comic Sans MS"/>
              </a:rPr>
              <a:t>4 litres glass</a:t>
            </a:r>
            <a:r>
              <a:rPr b="1" lang="en-GB" sz="2400" spc="-1" strike="noStrike">
                <a:solidFill>
                  <a:srgbClr val="33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00"/>
                </a:solidFill>
                <a:latin typeface="Comic Sans MS"/>
              </a:rPr>
              <a:t>(The "Bembel des Todes" version is 8 lit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244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00"/>
                </a:solidFill>
                <a:latin typeface="Comic Sans MS"/>
              </a:rPr>
              <a:t>You‘ll be able to devour a Schnitzel XX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00"/>
                </a:solidFill>
                <a:latin typeface="Comic Sans MS"/>
              </a:rPr>
              <a:t>(You can order ½ or ¼ portions – Yeah! Right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00"/>
                </a:solidFill>
                <a:latin typeface="Comic Sans MS"/>
              </a:rPr>
              <a:t>Or a lumberjack st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00"/>
                </a:solidFill>
                <a:latin typeface="Comic Sans MS"/>
              </a:rPr>
              <a:t>(Approx. 600 grams – just over 1¼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336600"/>
                </a:solidFill>
                <a:latin typeface="Comic Sans MS"/>
              </a:rPr>
              <a:t>l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2895480" y="5562720"/>
            <a:ext cx="6248520" cy="1293120"/>
            <a:chOff x="2895480" y="5562720"/>
            <a:chExt cx="6248520" cy="1293120"/>
          </a:xfrm>
        </p:grpSpPr>
        <p:sp>
          <p:nvSpPr>
            <p:cNvPr id="53" name=""/>
            <p:cNvSpPr/>
            <p:nvPr/>
          </p:nvSpPr>
          <p:spPr>
            <a:xfrm>
              <a:off x="2895480" y="5562720"/>
              <a:ext cx="6248520" cy="12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2895480" y="5562720"/>
              <a:ext cx="6248520" cy="1290960"/>
              <a:chOff x="2895480" y="5562720"/>
              <a:chExt cx="6248520" cy="1290960"/>
            </a:xfrm>
          </p:grpSpPr>
          <p:sp>
            <p:nvSpPr>
              <p:cNvPr id="55" name=""/>
              <p:cNvSpPr/>
              <p:nvPr/>
            </p:nvSpPr>
            <p:spPr>
              <a:xfrm>
                <a:off x="2895480" y="5562720"/>
                <a:ext cx="6248520" cy="12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66"/>
                    </a:solidFill>
                    <a:latin typeface="Comic Sans MS"/>
                  </a:rPr>
                  <a:t>The XXL sautéed escalop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66"/>
                    </a:solidFill>
                    <a:latin typeface="Comic Sans MS"/>
                  </a:rPr>
                  <a:t>with some accompanying chips 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895480" y="5562720"/>
                <a:ext cx="6248520" cy="12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486400" y="990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mic Sans MS"/>
              </a:rPr>
              <a:t>Ooooooohh !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6320" y="5776920"/>
            <a:ext cx="845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Comic Sans MS"/>
              </a:rPr>
              <a:t>The foil is supplied by the restaur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Comic Sans MS"/>
              </a:rPr>
              <a:t>for those who are struggling to clear their plat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0" y="3049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Comic Sans MS"/>
              </a:rPr>
              <a:t>And for those who dislike Schnitzels, why not a sausage and chip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257800" y="838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Comic Sans MS"/>
              </a:rPr>
              <a:t>A 600 grams - 1¼lb – curried sausag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9:36:17Z</dcterms:created>
  <dc:creator>EDAG</dc:creator>
  <dc:description/>
  <dc:language>en-US</dc:language>
  <cp:lastModifiedBy>James Murphy</cp:lastModifiedBy>
  <dcterms:modified xsi:type="dcterms:W3CDTF">2008-02-26T11:24:33Z</dcterms:modified>
  <cp:revision>20</cp:revision>
  <dc:subject/>
  <dc:title>PowerPoint-Präsentation</dc:title>
</cp:coreProperties>
</file>