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AC6-1AA0-4A2D-BEF6-6310A890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B70-F2D2-4A76-B58D-7B3B7184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5FA-6073-4EF2-A110-2FD4CEBD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C97-F26B-402B-BF7C-F471CF37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BD01-7E9A-42E7-BBC6-BF0D4676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8EB-6356-42EA-89BD-7D703487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701-3DE9-440D-A6C0-14EA460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454A-8740-42CC-A863-07C12B59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5A3-D2CE-40A8-8D48-2B75075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903C-B96D-470F-B7F4-50F88222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1A83-62A2-4A7F-9B2F-15030121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3FF-77AA-4B14-92CD-97ADA4B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DEF-51DA-4DB6-A734-FF73707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1AB3-CC34-4EFF-BC18-2ADDB9F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AA8-1177-47BB-A949-955A4F4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77C8-7A0F-4F48-B3E5-F280B078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1D1C-B286-4FE7-8593-AAAA62B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A0D-37C7-4B6A-9D7C-2EFA324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299-16D5-4B0E-88E0-678C76B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0C6-48CE-4556-AA78-A4E72377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DB3-ACD1-4EE5-8B2C-FB727A8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EE5-9BAC-419E-9981-BA54CBA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158-F5DE-4895-A5ED-E3280A8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D85-73F6-48B6-8620-8F6999A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8B1-D7A0-40C9-A6C1-1A0C962E6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44FD-2023-468E-97E3-453F90FE9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0200" y="1357200"/>
            <a:ext cx="4143600" cy="41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 it out, guess no one will get much sleep in August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s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d Planet is about to be spectacular!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onth and next, Earth is catching up with Mars in an  encounter t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ll culminate in the closest  approach between the two planets in recorded  histor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next time Mars may come this close is in 228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ue to the way Jupiter's gravity tugs on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ars and perturbs its orbit, astronomers can only be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ertain that Mars has not come this close to Earth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in the Last 5,000 years, but it may be as long as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60,000 years before it happens agai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e encounter will culminate on August 27th when</a:t>
            </a:r>
            <a:br>
              <a:rPr sz="2400"/>
            </a:b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Mars comes to within 34,649,589 miles of Earth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(next to the moon) the brightest object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ight sky. It will attain a magnitude of -2.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ill appear 25.11 arc seconds wi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a modest 75-power magn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ars will look as large as the full moon to the naked eye.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49604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8776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rs will be easy to spot. At th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ginning of August it will rise in the east at 10p.m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and reach its azimuth at about 3 a.m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By the end of August when the two planets ar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closest, Mars will rise at nightfall and reach it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highest point in the sky at 12:30a.m. That's prett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venient to see something that no human being ha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seen in recorded history. So, mark your calendar at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the beginning of August to see Mars grow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progressively brighter and brighter throughout th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month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Share this with your children and grandchildren.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 ONE ALIVE TODAY WILL EVER SEE THIS AGAIN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  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4:42:02Z</dcterms:created>
  <dc:creator>sadco000019</dc:creator>
  <dc:description/>
  <dc:language>en-US</dc:language>
  <cp:lastModifiedBy>sadco000019</cp:lastModifiedBy>
  <dcterms:modified xsi:type="dcterms:W3CDTF">2005-07-28T06:21:21Z</dcterms:modified>
  <cp:revision>4</cp:revision>
  <dc:subject/>
  <dc:title>Check it out, guess no one will get much sleep in August.  Mars  </dc:title>
</cp:coreProperties>
</file>