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AC8-65CB-46A1-8A93-CBBDD4CC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241-3283-468C-B6EF-B5AFF80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C02-B536-44FE-A4BA-2E852FF8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556-DEE3-485C-99C5-72A91151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2F0-F427-4F65-AA71-2BC39DE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BDF-3370-4F2B-8494-C7CCFDB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383-161E-4561-9E9C-2596244D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064-69EE-44D0-80DD-30BA113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BD7-5405-4CB6-8C9E-79AB8415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B38-523F-4063-906F-F0031E1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F61-A714-415B-AAB9-4C128DD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F18-6E8E-446F-B76F-0AA9991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90AB-5719-4706-978E-C1F7CF40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10" descr="1115.jpg"/>
          <p:cNvPicPr/>
          <p:nvPr/>
        </p:nvPicPr>
        <p:blipFill>
          <a:blip r:embed="rId1"/>
          <a:srcRect l="2398" t="0" r="23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54864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auphin"/>
              </a:rPr>
              <a:t>Good Kha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auphin"/>
              </a:rPr>
              <a:t>This is a nice reading, but short .  Enjoy!  This is what the Dalai Lama  has to say for 2010.  All is takes is a few seconds to read and think over.  Do not keep this message.  The mantra must leave your hands within 96 hours.  You will get a very pleasant surprise.  This is true for all ~ even if you are not superstitious ~ of whatever religious belief……………Faith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Enya - Boadic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Placeholder 6" descr="tigercubs.jpg"/>
          <p:cNvPicPr/>
          <p:nvPr/>
        </p:nvPicPr>
        <p:blipFill>
          <a:blip r:embed="rId1"/>
          <a:srcRect l="0" t="239" r="0" b="2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28840" y="213840"/>
            <a:ext cx="29228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Open your arms to change, but don’t give up your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Placeholder 6" descr="124.jpg"/>
          <p:cNvPicPr/>
          <p:nvPr/>
        </p:nvPicPr>
        <p:blipFill>
          <a:blip r:embed="rId1"/>
          <a:srcRect l="5417" t="0" r="54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5480" y="3785760"/>
            <a:ext cx="828684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member that silence is sometimes the best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Placeholder 4" descr="orca9.jpg"/>
          <p:cNvPicPr/>
          <p:nvPr/>
        </p:nvPicPr>
        <p:blipFill>
          <a:blip r:embed="rId1"/>
          <a:srcRect l="0" t="11520" r="0" b="11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286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Live a good, honorable life.  Then when you get older and think back, you’ll be able to enjoy it a second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Placeholder 4" descr="871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32083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 loving atmosphere in your home  is the foundation for your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Placeholder 8" descr="339.jpg"/>
          <p:cNvPicPr/>
          <p:nvPr/>
        </p:nvPicPr>
        <p:blipFill>
          <a:blip r:embed="rId1"/>
          <a:srcRect l="5309" t="0" r="5309" b="0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071680" y="499680"/>
            <a:ext cx="3422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In disagreements with loved ones, deal only with the current situation.  Don’t bring up the p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Placeholder 6" descr="224.jpg"/>
          <p:cNvPicPr/>
          <p:nvPr/>
        </p:nvPicPr>
        <p:blipFill>
          <a:blip r:embed="rId1"/>
          <a:srcRect l="0" t="19063" r="0" b="19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27795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hare your knowledge.  It is a way to achieve immort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Placeholder 6" descr="611.jpg"/>
          <p:cNvPicPr/>
          <p:nvPr/>
        </p:nvPicPr>
        <p:blipFill>
          <a:blip r:embed="rId1"/>
          <a:srcRect l="5779" t="0" r="57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71760" y="20001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Be gentle with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Placeholder 6" descr="wier-HDR-400.jpg"/>
          <p:cNvPicPr/>
          <p:nvPr/>
        </p:nvPicPr>
        <p:blipFill>
          <a:blip r:embed="rId1"/>
          <a:srcRect l="0" t="3130" r="0" b="3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14800" y="58579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Once a year, go some place you’ve never been bef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Placeholder 4" descr="nature_scenery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14680" y="4785840"/>
            <a:ext cx="5486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Remember the best relationship is  one in which your love for each other exceeds your need for each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Placeholder 10" descr="455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3357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Judge your success by what you had to give up in order to ge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6" descr="Gorilla.jpg"/>
          <p:cNvPicPr/>
          <p:nvPr/>
        </p:nvPicPr>
        <p:blipFill>
          <a:blip r:embed="rId1"/>
          <a:srcRect l="3064" t="0" r="30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85840" y="285480"/>
            <a:ext cx="40006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Take into account that great love and great achievements involve great r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Placeholder 6" descr="1407.jpg"/>
          <p:cNvPicPr/>
          <p:nvPr/>
        </p:nvPicPr>
        <p:blipFill>
          <a:blip r:embed="rId1"/>
          <a:srcRect l="5518" t="0" r="55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643720" y="285480"/>
            <a:ext cx="32083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pproach love and cooking with reckless aband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Placeholder 4" descr="777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Forward this mantra to at least 5 people and your life will impr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0 – 4 people: Your life will improve slightly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5 – 9 people: Your life will improve to your li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0 – 14 people: Your will have at least 5 wonderful surprises in the next 3 wee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5 people &amp; over: Your life will improve drastically and everything you ever dreamed of will begin to take sha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Do not keep this message.  This mantra must leave your hands within 96 ho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You will get a very pleasant surpr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Placeholder 12" descr="11.jpg"/>
          <p:cNvPicPr/>
          <p:nvPr/>
        </p:nvPicPr>
        <p:blipFill>
          <a:blip r:embed="rId1"/>
          <a:srcRect l="5425" t="0" r="54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43840" y="213840"/>
            <a:ext cx="2000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When you lo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don’t lose the lesson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Placeholder 10" descr="pretty pic 28.jpg"/>
          <p:cNvPicPr/>
          <p:nvPr/>
        </p:nvPicPr>
        <p:blipFill>
          <a:blip r:embed="rId1"/>
          <a:srcRect l="7172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56800" y="3786120"/>
            <a:ext cx="5072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Follow the three R’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ect for Self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ect for Other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onsibility for all your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Placeholder 4" descr="pretty pic 25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00360" y="3857760"/>
            <a:ext cx="44938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member that  not getting what you want  is sometimes a wonderful stroke of lu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10" descr="143.jpg"/>
          <p:cNvPicPr/>
          <p:nvPr/>
        </p:nvPicPr>
        <p:blipFill>
          <a:blip r:embed="rId1"/>
          <a:srcRect l="0" t="3124" r="0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0760" y="428760"/>
            <a:ext cx="35654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1de"/>
                </a:solidFill>
                <a:latin typeface="Dauphin"/>
              </a:rPr>
              <a:t>Learn the rules so you know how to break them prope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Placeholder 8" descr="pretty pic 26.jpg"/>
          <p:cNvPicPr/>
          <p:nvPr/>
        </p:nvPicPr>
        <p:blipFill>
          <a:blip r:embed="rId1"/>
          <a:srcRect l="0" t="78" r="0" b="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4200" y="2500200"/>
            <a:ext cx="4857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Don’t let a little dispute injure a great relatio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16" descr="1.jpg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29040" y="214200"/>
            <a:ext cx="49291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Dauphin"/>
              </a:rPr>
              <a:t>When you realize you’ve made a mistake, take immediate steps to correc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2499840"/>
            <a:ext cx="3208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pend some time alone every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5:11:11Z</dcterms:created>
  <dc:creator>Mary-Ann</dc:creator>
  <dc:description/>
  <dc:language>en-US</dc:language>
  <cp:lastModifiedBy>p8wzcah</cp:lastModifiedBy>
  <dcterms:modified xsi:type="dcterms:W3CDTF">2009-12-29T18:42:48Z</dcterms:modified>
  <cp:revision>15</cp:revision>
  <dc:subject/>
  <dc:title>Slide 1</dc:title>
</cp:coreProperties>
</file>