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Richard%20Clayderman%20-%20%20Murmur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748-51FE-4ABA-8413-B0F6F2CE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6DE-5D35-4251-BE6D-5ED43821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53B-8FCC-4E93-B09E-403BD217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05E-284E-481E-ABFE-7513E44D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4A1-54A9-4D7E-9190-206C8AF2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870-5B2D-4490-A4B0-A6431F81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F2B-5CBA-45DE-BA02-FBBD032C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EF0-58BE-4A69-8529-7026785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844-550A-4A7D-BCA5-25D19C82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0A0-F99D-4F72-BF21-41A4EC8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00F-DA00-4BA1-8864-DB9AAD06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546-53F8-48AD-AF5F-C1FAC2A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C451-1629-4FCB-8902-5D1D3B8FD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ichard%20Clayderman%20-%20%20Murmur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972400">
            <a:off x="1186920" y="1699920"/>
            <a:ext cx="6634440" cy="22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n ode to noone"/>
              </a:rPr>
              <a:t>aula de mestr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n ode to noone"/>
              <a:ea typeface="An ode to noon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n ode to noone"/>
              </a:rPr>
              <a:t>               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n ode to noone"/>
              <a:ea typeface="An ode to noon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n ode to noone"/>
              </a:rPr>
              <a:t>(ou, " A goiabada da vovo' "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n ode to noone"/>
              <a:ea typeface="An ode to noone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32000" y="4653000"/>
            <a:ext cx="36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(Prof. Jorge Ferreira da Silva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093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aulo.bouhid@glob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4360" y="609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cli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1772280"/>
            <a:ext cx="7527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nst777 BT"/>
              </a:rPr>
              <a:t>Resumindo, 1kg de bananada é mais caro do que 1kg de banana porque a bananada é igual banana mais tecnologia agregada, e a sua fabricação criou mais empregos do que simplesmente colher o cacho de bananas da bananei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8920" y="8348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gora vamos falar de outro exemplo que acontece no dia-a-dia no comércio mundial de mercado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2421000"/>
            <a:ext cx="67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Em média: 1kg de soja custa US$ 0,10 (dez centavos de dólar), 1kg de automóvel custa US$ 10, isto é, 100 vezes mais, 1kg de aparelho eletrônico custa US$ 100, 1kg de avião custa US$1.000 (10mil quilos de soja) e 1kg de satélite custa US$ 5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51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Vejam, quanto mais tecnologia agregada tem um produto, maior é o seu preço, mais empregos foram gerados na sua fabr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71640" y="975960"/>
            <a:ext cx="748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Os países ricos sabem disso muito bem. Eles investem na pesquisa científica e tecnológ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Por exemplo: eles nos vendem uma placa de computador que pesa 100g por US$ 250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Para pagarmos esta plaquinha eletrônica, o Brasil precisa exportar 20 toneladas de minério de f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 fabricação de placas de computador criou milhares de bons empregos lá no estrangeiro, enquanto que a extração do minério de ferro, cria pouquíssimos e péssimos empregos aqui no Bras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68652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O Japão é pobre em recursos naturais, mas é um país 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O Brasil é rico em energia e recursos naturais, mas é um país po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Os países ricos, são ricos materialmente porque eles produzem riquez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Riqueza vem de rico. Pobreza vem de po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   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País pobre é aquele que não consegue produzir riquezas para o seu po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Se conseguisse, não seria pobre, seria país r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97596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Gostaria de deixar bem claro três coi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1º) quando me refiro à palavra riqueza, não estou me referindo a jóias nem a supérfluos. Estou me referindo àqueles bens necessários para que o ser humano viva com um mínimo de dignidade e confor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2º) não estou defendendo o consumismo materialista como uma forma de vida, muito pelo contrá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3º) e acho abominável aqueles que colocam os valores das riquezas materiais acima dos valores da riqueza interior do ser hum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87280" y="2244960"/>
            <a:ext cx="71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Humnst777 BT"/>
              </a:rPr>
              <a:t>Existem nações que são ricas, mas que agem de forma extremamente pobre e desumana em relação a outros pov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6530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Creio que agora posso falar do ponto princip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Para que o nosso Brasil torne-se um País rico, com o seu povo vivendo com dignidade, temos que produzir mais riquez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Para tal, precisamos de conhecimento, ou tecnologia já que temos abundância de recursos naturais e energ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E quem desenvolve tecnologias são os cientistas e os engenheiros, como estes jovens que estão se formando ho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Infelizmente, o Brasil é muito dependente da tecnologia exte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Quando fabricamos bens com alta tecnologia, fazemos apenas a parte final da prod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68652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Por exemplo: o Brasil produz 5 milhões de televisores por ano e nenhum brasileiro projeta televisor. O miolo da TV, do telefone celular e de todos os aparelhos eletrônicos, é todo importado. 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Somos meros montadores de kits eletrôn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Casos semelhantes também acontecem na indústria mecânica, de remédios e, incrível, até na de al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O Brasil entra com a mão-de-obra barata e os recursos naturais. Os projetos, a tecnologia, o chamado pulo do gato, ficam no estrangeiro, com os verdadeiros donos do negó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Resta ao Brasil lidar com as chamadas caixas pre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1987920"/>
            <a:ext cx="7365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nst777 BT"/>
              </a:rPr>
              <a:t>É importante compreendermos que os donos dos projetos tecnológicos são os donos das decisões econômicas, são os donos do dinheiro, são os donos das riquezas do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268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ssim como as águas dos rios correm para o mar, as riquezas do mundo correm  em direção aos países detentores das tecnologias avanç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 dependência científica e tecnológica acarretou para nós brasileiros a dependência econômica, política e cul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Não podemos admitir a continuação da situação esdrúxula, onde 70% do PIB brasileiro é controlado por não resid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Ninguém pode progredir entregando o seu talão de cheques e a chave de sua casa para o vizinho fazer o que bem ent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1078560"/>
            <a:ext cx="755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umnst777 BT"/>
              </a:rPr>
              <a:t>O professor da PUC / Rio de Janeiro, Jorge Ferreira, deu uma última aula para seus ex-alunos, em 16 de dezembro de 2008. Diante de uma platéia de formandos, acompanhados de seus pais, o professor paraninfo da turma discursou sobre o Bras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9360" y="5229360"/>
            <a:ext cx="77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Humnst777 BT"/>
              </a:rPr>
              <a:t>Leia o que disse o Prof. Jorge Ferreir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625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71640" y="12092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Eu tenho a convicção que desenvolvimento científico e tecnológico aqui no Brasil garantirá aos brasileiros a soberania das decisões econômicas, políticas e cultur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Garantirá trocas mais justas no comércio ex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Garantirá a criação de mais e melhores empreg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1252440"/>
            <a:ext cx="7353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E, se toda a produção de riquezas for bem distribuída, teremos a erradicação dos graves problemas soci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O curso de engenharia da PUC, com todas as suas possíveis deficiências, visa a formar engenheiros capazes de desenvolver tecnolog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É o chamado engenheiro de concepção, ou engenheiro de pro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16000" y="1353600"/>
            <a:ext cx="7353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Infelizmente, o mercado nacionalizado nem sempre aproveita todo este potencial científico dos nossos engenhei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Nós, professores, não podemos nos curvar às deformações do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Temos que continuar formando engenheiros com conhecimentos iguais aos melhores do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05408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Humnst777 BT"/>
              </a:rPr>
              <a:t>Eu posso garantir a todos os presentes, principalmente aos pais, que qualquer um destes formandos é tão ou mais inteligente do que qualquer engenheiro americano, japonês ou alem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Humnst777 BT"/>
              </a:rPr>
              <a:t>Os meus quase trinta anos de magistério, lecionando desde o antigo ginásio até a universidade, dá-me autoridade para afirmar que o brasileiro não é inferior a ninguém, pelo contrário, dizem até que somos muito mais criativos  do que os habitantes</a:t>
            </a:r>
            <a:r>
              <a:rPr b="1" i="1" lang="pt-BR" sz="2800" spc="-1" strike="noStrike">
                <a:solidFill>
                  <a:srgbClr val="ffffff"/>
                </a:solidFill>
                <a:latin typeface="Humnst777 BT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Humnst777 BT"/>
              </a:rPr>
              <a:t>do chamado primeiro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1396440"/>
            <a:ext cx="691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O que me revolta, como professor cidadão, é ver que as decisões políticas tomadas por pessoas despreparadas ou corruptas, são responsáveis pela queima e destruição de inteligências brasileiras que poderiam, com o conhecimento apropriado, transformar o nosso Brasil num país florescente, próspero e socialmente 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1337400"/>
            <a:ext cx="768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credito que o mundo ideal seja aquele totalmente globalizado, mas uma globalização que inclua a democratização das decisões e a distribuição justa do trabalho e das riquez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Infelizmente, isto ainda está longe de acontecer, até por limitações físicas da própria natur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ssim, quem pensa que a solução para os nossos problemas virá lá de fora, está muito enga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1640" y="1610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Humnst777 BT"/>
              </a:rPr>
              <a:t>O dia que um presidente da República, em vez de ficar passeando como um dândi pelos palácios do primeiro mundo, resolver liderar um autêntico projeto de desenvolvimento nacional, certamente o Brasil vai precisar, em todas as áreas, de pessoas bem prepar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26936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Só assim seremos capazes de caminhar com autonomia e tomar decisões que beneficiem verdadeiramente a sociedade brasilei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Será a construção de um Brasil realmente moderno, mais justo, inserido de forma soberana na economia mundial e não como um reles fornecedor de recursos naturais e mão-de-obra avil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627560"/>
            <a:ext cx="741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nst777 BT"/>
              </a:rPr>
              <a:t>Quando isto ocorrer, e eu espero que seja em breve, o nosso País poderá aproveitar de forma muito mais eficaz a inteligência e o preparo intelectual dos brasileiros e, em particular, de todos vocês, meus queridos alunos, porque vocês já foram testados e apro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763920"/>
            <a:ext cx="7559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nst777 BT"/>
              </a:rPr>
              <a:t>Finalmente, gostaria de parabenizar a todos os pais pela contribuição positiva que deram à nossa sociedade possibilitando a formação dos seus filhos no curso de engenharia da PU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nst777 BT"/>
              </a:rPr>
              <a:t>A alegria dos senhores, também é a nossa aleg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nst777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nst777 BT"/>
              </a:rPr>
              <a:t>Muito Obrigado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49004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Humnst777 BT"/>
              </a:rPr>
              <a:t>“</a:t>
            </a:r>
            <a:r>
              <a:rPr b="0" i="1" lang="pt-BR" sz="2800" spc="-1" strike="noStrike">
                <a:solidFill>
                  <a:srgbClr val="ffffff"/>
                </a:solidFill>
                <a:latin typeface="Humnst777 BT"/>
              </a:rPr>
              <a:t>Ilustríssimos Colegas da Mesa, Senhor Presidente, meus queridos alunos, Senhoras e Senhores.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ffffff"/>
                </a:solidFill>
                <a:latin typeface="Humnst777 BT"/>
              </a:rPr>
              <a:t>Para mim é um privilégio ter sido escolhido paraninfo desta turma. Esta é como se fôra a última aula do curso. O último encontro, que já deixa saudades. Um momento festivo, mas também de reflex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Richard%20Clayderman%20-%20%20Murmur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00360" y="5373720"/>
            <a:ext cx="6192720" cy="1152360"/>
          </a:xfrm>
          <a:prstGeom prst="roundRect">
            <a:avLst>
              <a:gd name="adj" fmla="val 16667"/>
            </a:avLst>
          </a:prstGeom>
          <a:solidFill>
            <a:srgbClr val="00cc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5373720"/>
            <a:ext cx="604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Murmures”, por Richard Clayd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Formatação : 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2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87280" y="15868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Se eu fosse escolhido paraninfo de uma turma de direito, talvez eu falasse a importância do advogado que defende a justiça e não apenas o réu. Se eu fosse escolhido paraninfo de uma turma de medicina, talvez eu falasse da importância do médico que coloca o amor ao próximo acima dos seus lucros profissionais. Mas, como sou paraninfo de uma turma de engenheiros, vou falar da importância do engenheiro para o desenvolvimento do Bras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33884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Para começar, vamos falar de bananas e do doce de banana, que eu vou chamar de bananada especial, inventada (ou projetada) pela nossa vovozinha lá em casa, depois que várias receitas prontas não deram c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9640" y="4005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É isso mesmo. Para entendermos a importância do engenheiro vamos falar de bananas, bananadas e vov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1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1052640"/>
            <a:ext cx="75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 banana é um recurso natural, que não sofreu nenhuma transfo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5600" y="24210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 bananada é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86640" y="30686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 banana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28040" y="35002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outros ingredient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35960" y="400536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 energia térmica  fornecida pelo fogão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58920" y="443700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o trabalho da vovó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38400" y="50115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39200" y="544356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o conhecimento, ou tecnologia da vov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2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76360" y="4158720"/>
            <a:ext cx="663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Bem, a vovó é a dona do conhecimento, uma espécie de engenheira da culiná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50120" y="285264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nst777 BT"/>
              </a:rPr>
              <a:t>E a vov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197000"/>
            <a:ext cx="72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A bananada é um produto pronto, que eu vou</a:t>
            </a:r>
            <a:r>
              <a:rPr b="0" lang="en-US" sz="2800" spc="-1" strike="noStrike">
                <a:solidFill>
                  <a:srgbClr val="ffffff"/>
                </a:solidFill>
                <a:latin typeface="Humnst777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chamar de riqu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300"/>
                            </p:stCondLst>
                            <p:childTnLst>
                              <p:par>
                                <p:cTn id="1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9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1558080"/>
            <a:ext cx="741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Agora, vamos supor que a banana e a bananada sejam vend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 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Um quilo de banana custa um real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  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Já um quilo da bananada custa cinco rea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nst777 BT"/>
              </a:rPr>
              <a:t>Por que essa diferença de preç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7280" y="3464280"/>
            <a:ext cx="67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Agora, quando a vovó, ou a indústria, faz a bananada, ela cria empregos na indústria do açúcar, da cana-de-açúcar, do gás de cozinha, na indústria de fogões, de panelas, de colheres e até na de embalagens, porque tudo isto é necessário para se fabricar a ban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1628640"/>
            <a:ext cx="73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umnst777 BT"/>
              </a:rPr>
              <a:t>Porque quando nós colhemos um cacho de bananas na bananeira, criamos apenas um emprego: o de colhedor de ban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10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7:40:53Z</dcterms:created>
  <dc:creator>Marcio</dc:creator>
  <dc:description/>
  <dc:language>en-US</dc:language>
  <cp:lastModifiedBy>brito</cp:lastModifiedBy>
  <dcterms:modified xsi:type="dcterms:W3CDTF">2009-01-05T19:21:52Z</dcterms:modified>
  <cp:revision>105</cp:revision>
  <dc:subject/>
  <dc:title>Slide 1</dc:title>
</cp:coreProperties>
</file>