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E1E-2999-45AA-8D4D-8276746E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64D-58CA-46D7-BB8F-6C5FC49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43B-E87B-47AD-803F-B26DAA7A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8AF-28F3-445A-8939-AFBDEBB5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3A4D-A7A4-4F56-9144-D946616C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5206-962D-46C6-9A26-C083129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101B-0820-4258-BE88-1396A14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F015-877E-468E-B1DD-2624F005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6EE-E9E7-4500-879F-C52C806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6FEC-4E49-4F3C-9EA4-837FBD7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F829-4933-4B2A-9C58-78D9158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FE2-C86B-4F8D-A7A4-650AF6C1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1C75-CC11-4171-AC59-868BD0B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C8A2-DDB5-49B1-BBC9-D25F7793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AC6-3D9C-481E-BD56-C8D2FA4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8B7D-F1AE-4534-A0E1-0671C128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C93-A0AB-42A9-9697-DA228AC4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503-56C9-4509-9537-5CFDB802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92F-FE85-427E-A762-2EE2A4B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FDB-0208-4CFD-BEAB-19C286B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5AC-FAD4-4D43-95C0-6CAADCB9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E54-7D68-45F8-B24A-A865333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1AD-60AE-4E8D-96FB-768F26D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1C6-E9EA-4992-B330-1FCDB611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3241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324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3241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30CA-1DBD-4AFD-9746-C2093CDB30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00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0520" y="6324120"/>
            <a:ext cx="175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3241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E39-7FE7-40B7-92DD-927F4ACE36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4400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ve your job …. But 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eresting speech delivered by  a CEO of a premier IT company of India during an employee session with another IT company in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he was a toddler, if people were visiting the apartment, he’d not fall asleep no matter how long the visit, and no matter what time of day it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uld fight off sleep until the visitors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as if he was afraid that he would miss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our visitors’ left, he would go to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is time, however, he was OVER TIRED and would scream thro’ half the night with nightm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, my wife and I, all paid the price for his fear of miss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some people put in such long hours because they don’t want to miss anything when they leave the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ouble with this is that events will NEVER STOP HAPPENING. That’s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 happen 24 hours a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for little rest is not ultimately prac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take a n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will happen while you’re asleep, but you’ll have the energy to catch up when you w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hen you are gone for good, things will still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indispensable, it may take a while to get a replacement, but you will be re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“LOVE YOUR JOB BUT NEVER FALL IN LOVE WITH YOUR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e is incidentally, one of the top 50 influential people of Asia according the latest Asia week publication and also the new IT Advisor to the Thailand Prime Min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9856"/>
                </a:solidFill>
                <a:latin typeface="Trebuchet MS"/>
              </a:rPr>
              <a:t>Extract of Mr. Narayan Murthy’s speech during Mentor S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Bradley Hand ITC"/>
              </a:rPr>
              <a:t>LOVE YOUR JOB, BUT NEVER FALL IN LOVE WITH YOUR COMPANY BECAUSE YOU NEVER KNOW WHEN COMPANY STOPS LOVING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people who work 12 hours a day, 6 days a week, or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do so because of a work emergency where the long hours are only tempo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eople I know have put in these hours for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know if they are working all these hours, but I do know they are in the office thi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put in long office hours because they are addicted to the work-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the reason for putting in overtime, working long hours over the long term is harmful to the person and to the organ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ings Managers can do to change this for everyone’s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in the office long hours, over long periods of time, makes way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TENTIAL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colleagues who are in the office long hours frequent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KE MISTA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TI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these mistakes requir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IR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 a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een people work Tuesday thro’ Frida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stakes ma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 5:00 p.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blem is that people who are in the office long hours are not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ASANT 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t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ther people </a:t>
            </a:r>
            <a:r>
              <a:rPr b="0" i="1" lang="en-US" sz="2400" spc="-1" strike="noStrike">
                <a:solidFill>
                  <a:srgbClr val="00a800"/>
                </a:solidFill>
                <a:latin typeface="Arial"/>
              </a:rPr>
              <a:t>(who aren’t working as hard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RRITABLE, OR CRANKY, OR EVEN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eople avoid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behavior poses problems, where work goes much better when people work together instead of avoiding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agers, there are things we can do to help people leave the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nd foremost, is to set the example and go home ourse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rk with a Manager who chides people for working long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words quickly lose their meaning when he sends these chiding group e-mails with a time-stamp of 2:00 a.m.,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is to encourage people to put some BALANCE in their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stance, here is a guideline I find helpful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ke up, eat a good breakfast and go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hard and smart for eight or nin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books/comics, watch a funny movie, dig in the dirt, play with your kid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well and sleep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re-creating. Doing steps 1,3,4 and 5 enables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regular hours and re-creating daily are simple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hard for some of us because that requires ‘PERSONAL CHANGE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possible since we all have the power to choose to d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sidering the issue of overtime, I am reminded of my olde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8:57:00Z</dcterms:created>
  <dc:creator>JMalu</dc:creator>
  <dc:description/>
  <cp:keywords/>
  <dc:language>en-US</dc:language>
  <cp:lastModifiedBy>JMalu</cp:lastModifiedBy>
  <dcterms:modified xsi:type="dcterms:W3CDTF">2004-07-01T09:33:56Z</dcterms:modified>
  <cp:revision>2</cp:revision>
  <dc:subject/>
  <dc:title>Love your job …. But 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61033</vt:lpwstr>
  </property>
</Properties>
</file>