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3F9-C7FF-4D9B-97D5-1D54A256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F65-F5B2-42B9-B7E9-85D1814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76A-4498-4BAF-ACC8-BEC39708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162-182B-4461-A3A3-5A725FDA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2F2-8C67-4C06-B1B7-8EB54E90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7D5-ED67-4EF0-89B6-00A7EDF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DC2-3B74-444D-897D-F8D7475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35C-C040-4DE9-AA77-67CDBEAA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C47-A70C-4834-A98A-7AB3C42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AFF-1D57-441D-8246-2989192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D4C-9654-4A3A-83F4-10D9413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B31-3CAD-467F-B5E9-0C1B1BE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A46-0474-49CF-B87D-57992D13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31800" y="0"/>
            <a:ext cx="60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6524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7:11:23Z</dcterms:created>
  <dc:creator>MARTÍN GODDIO</dc:creator>
  <dc:description/>
  <dc:language>en-US</dc:language>
  <cp:lastModifiedBy>Plash</cp:lastModifiedBy>
  <dcterms:modified xsi:type="dcterms:W3CDTF">2009-07-08T08:12:31Z</dcterms:modified>
  <cp:revision>31</cp:revision>
  <dc:subject/>
  <dc:title>Presentación de PowerPoint</dc:title>
</cp:coreProperties>
</file>