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6.jpeg" ContentType="image/jpeg"/>
  <Override PartName="/ppt/media/cortes%20-%2048%2024%205%20-da%206a.%20Symph.wav" ContentType="audio/x-wav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711A-3269-4F44-B580-E5D6DB65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4D2E-F7FD-477A-BCA4-965373CA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EDE3-869F-4E31-9D57-1CFCEBE7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5FC4-B444-4283-8D2D-5EF94B73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4F3C-B17E-4E44-8004-91E9CA3A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63A9-6FCC-44CF-BA03-04913043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3168-C753-4846-ADF4-802F1178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A348-8D90-469E-AD8A-E904ABE5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EC29-60AE-4CCE-A7C8-0C2D6D5C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9589-9C0C-4145-97BC-F5BB806C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B206-9B98-4531-AC0D-966C9E62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11AB-E150-428B-9243-1D98FD86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98A1-287A-472A-9FD0-DC77772C2A8B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ortes%20-%2048%2024%205%20-da%206a.%20Symph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99980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6b000"/>
                </a:solidFill>
                <a:latin typeface="AvantGarde Bk BT"/>
                <a:ea typeface="Times New Roman"/>
              </a:rPr>
              <a:t>Ruske svadbene to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14480"/>
            <a:ext cx="6400800" cy="9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66"/>
                </a:solidFill>
                <a:latin typeface="AvantGarde Bk BT"/>
                <a:ea typeface="Times New Roman"/>
              </a:rPr>
              <a:t>Pasteles artísticos elaborados por </a:t>
            </a:r>
            <a:r>
              <a:rPr b="0" lang="sr-Latn-CS" sz="2000" spc="-1" strike="noStrike">
                <a:solidFill>
                  <a:srgbClr val="cc0066"/>
                </a:solidFill>
                <a:latin typeface="AvantGarde Bk BT"/>
                <a:ea typeface="Times New Roman"/>
              </a:rPr>
              <a:t>Zhan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0066"/>
                </a:solidFill>
                <a:latin typeface="AvantGarde Bk BT"/>
                <a:ea typeface="Times New Roman"/>
              </a:rPr>
              <a:t>St. Petersburg</a:t>
            </a:r>
            <a:r>
              <a:rPr b="0" lang="es-MX" sz="2000" spc="-1" strike="noStrike">
                <a:solidFill>
                  <a:srgbClr val="cc0066"/>
                </a:solidFill>
                <a:latin typeface="AvantGarde Bk BT"/>
                <a:ea typeface="Times New Roman"/>
              </a:rPr>
              <a:t>, Ru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6 Conector recto"/>
          <p:cNvSpPr/>
          <p:nvPr/>
        </p:nvSpPr>
        <p:spPr>
          <a:xfrm>
            <a:off x="857160" y="3643200"/>
            <a:ext cx="72867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5786280"/>
            <a:ext cx="9144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cortes%20-%2048%2024%205%20-da%206a.%20Symp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16000" y="698400"/>
            <a:ext cx="8712000" cy="546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216000" y="1027080"/>
            <a:ext cx="8712000" cy="4803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1405080" y="189000"/>
            <a:ext cx="633384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035000" y="189000"/>
            <a:ext cx="707400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701640" y="189000"/>
            <a:ext cx="774072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216000" y="531720"/>
            <a:ext cx="8712000" cy="5794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585800" y="189000"/>
            <a:ext cx="597240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216000" y="330120"/>
            <a:ext cx="8712000" cy="6197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390680" y="189000"/>
            <a:ext cx="636264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53880" y="189000"/>
            <a:ext cx="843624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0" y="2567160"/>
            <a:ext cx="9144000" cy="17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5050"/>
                </a:solidFill>
                <a:latin typeface="AvantGarde Bk BT"/>
                <a:ea typeface="Times New Roman"/>
              </a:rPr>
              <a:t>En la elaboración de estos pasteles n</a:t>
            </a:r>
            <a:r>
              <a:rPr b="0" lang="sr-Latn-CS" sz="2000" spc="-1" strike="noStrike">
                <a:solidFill>
                  <a:srgbClr val="ff5050"/>
                </a:solidFill>
                <a:latin typeface="AvantGarde Bk BT"/>
                <a:ea typeface="Times New Roman"/>
              </a:rPr>
              <a:t>o</a:t>
            </a:r>
            <a:r>
              <a:rPr b="0" lang="es-MX" sz="2000" spc="-1" strike="noStrike">
                <a:solidFill>
                  <a:srgbClr val="ff5050"/>
                </a:solidFill>
                <a:latin typeface="AvantGarde Bk BT"/>
                <a:ea typeface="Times New Roman"/>
              </a:rPr>
              <a:t> ha sido uti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5050"/>
                </a:solidFill>
                <a:latin typeface="AvantGarde Bk BT"/>
                <a:ea typeface="Times New Roman"/>
              </a:rPr>
              <a:t>ningún material plá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5050"/>
                </a:solidFill>
                <a:latin typeface="AvantGarde Bk BT"/>
                <a:ea typeface="Times New Roman"/>
              </a:rPr>
              <a:t>ni cualquier tipo de relleno artifi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5050"/>
                </a:solidFill>
                <a:latin typeface="AvantGarde Bk BT"/>
                <a:ea typeface="Times New Roman"/>
              </a:rPr>
              <a:t>Absolutamente todo es comest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54120" y="189000"/>
            <a:ext cx="783576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58840" y="189000"/>
            <a:ext cx="862632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689120" y="189000"/>
            <a:ext cx="576576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043000" y="189000"/>
            <a:ext cx="505800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751040" y="189000"/>
            <a:ext cx="564192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16000" y="357120"/>
            <a:ext cx="8712000" cy="6143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338120" y="189000"/>
            <a:ext cx="646776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95200" y="189000"/>
            <a:ext cx="855360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53880" y="189000"/>
            <a:ext cx="843624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669960" y="189000"/>
            <a:ext cx="780408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900080" y="189000"/>
            <a:ext cx="534384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768320" y="189000"/>
            <a:ext cx="560736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798560" y="189000"/>
            <a:ext cx="554688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1963800" y="189000"/>
            <a:ext cx="521640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906560" y="189000"/>
            <a:ext cx="533088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2087640" y="189000"/>
            <a:ext cx="496872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666880" y="189000"/>
            <a:ext cx="381024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017720" y="189000"/>
            <a:ext cx="710856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486080" y="189000"/>
            <a:ext cx="583056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77920" y="189000"/>
            <a:ext cx="858816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264960" y="189000"/>
            <a:ext cx="861408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14200" y="189000"/>
            <a:ext cx="871560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550880" y="189000"/>
            <a:ext cx="604224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30040" y="189000"/>
            <a:ext cx="868392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16000" y="298440"/>
            <a:ext cx="8712000" cy="6261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1509840" y="189000"/>
            <a:ext cx="612432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157400" y="189000"/>
            <a:ext cx="682920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16000" y="968400"/>
            <a:ext cx="8712000" cy="492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071720" y="189000"/>
            <a:ext cx="700056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617400" y="189000"/>
            <a:ext cx="790920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85840" y="189000"/>
            <a:ext cx="857232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6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1:50:40Z</dcterms:created>
  <dc:creator>Rosario</dc:creator>
  <dc:description/>
  <dc:language>en-US</dc:language>
  <cp:lastModifiedBy>Rosario</cp:lastModifiedBy>
  <dcterms:modified xsi:type="dcterms:W3CDTF">2009-03-10T18:52:57Z</dcterms:modified>
  <cp:revision>8</cp:revision>
  <dc:subject/>
  <dc:title>www.laboutiquedelpowerpoint.com</dc:title>
</cp:coreProperties>
</file>