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RichardClayderman_The_sound_of_silence.wav" ContentType="audio/x-wav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34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034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03600" cy="33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800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034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034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D2B56-6A09-4870-BB78-239BD91E6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98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297-4A1E-4FB9-800E-EBB0590F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40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4280"/>
            <a:ext cx="77040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D1B-0240-4BA8-98C0-C1A6534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3560" y="198072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428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3560" y="409428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EBC-E59A-4BB8-93CA-56204AA5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804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980720"/>
            <a:ext cx="24804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5360" y="1980720"/>
            <a:ext cx="24804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4280"/>
            <a:ext cx="24804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4094280"/>
            <a:ext cx="24804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5360" y="4094280"/>
            <a:ext cx="24804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973-63CB-45AE-947D-E52D6674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040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094-9663-4C2B-B81F-273FC28E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CAB-05F6-46BE-9449-77A2FDA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594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3560" y="1980720"/>
            <a:ext cx="37594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F6E-21FE-4E66-8F3F-D1D14E3B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E26-D4F1-4B23-95EB-76EAFFA1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040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5BB-2495-41C9-93F9-43F0D6D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980720"/>
            <a:ext cx="37594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428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D9B-919D-43A4-B1B0-E8F3C96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594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3560" y="198072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3560" y="409428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67D-2D5B-440C-834D-48B2F7E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3560" y="1980720"/>
            <a:ext cx="37594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4280"/>
            <a:ext cx="770400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ABD-02C8-40E0-BCD7-079AB78D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40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36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27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36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32D54-64D0-4870-9F37-AB9B6AFE5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ardClayderman_The_sound_of_silence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523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llinois É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640" y="1600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8 millions d’habi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752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160720" y="720720"/>
            <a:ext cx="4859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CHICAGO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20000">
    <p:diamond/>
    <p:sndAc>
      <p:stSnd>
        <p:snd r:embed="rId2" name="RichardClayderman_The_sound_of_sile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66600" y="-63360"/>
            <a:ext cx="9389880" cy="6921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2138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ars  T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535800" y="1440000"/>
            <a:ext cx="1744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ir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986120"/>
            <a:ext cx="1619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59000" y="6427800"/>
            <a:ext cx="232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illennium P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84720" y="5580000"/>
            <a:ext cx="3959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llennium  Park  Promen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50920"/>
            <a:ext cx="4629240" cy="6172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3532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06560" y="5940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llennium 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0160" y="55227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rown Fou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32000" y="360360"/>
            <a:ext cx="4248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uge Stainless Steel T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611964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ldier's  Field  -  Chicago  Bear's  Sta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0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360000" cy="701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17760" y="63007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hicago  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6360" y="-162000"/>
            <a:ext cx="918036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9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76160" y="59929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ke Shore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52920" y="3419640"/>
            <a:ext cx="210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ke Michig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60360" y="611964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79280"/>
            <a:ext cx="41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an H. Orr –   N. Ireland – May 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13440" y="179280"/>
            <a:ext cx="37065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1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 Narrow"/>
              </a:rPr>
              <a:t>Music :   The  Sound  of  Si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diamond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5001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216000" y="-155520"/>
            <a:ext cx="9360000" cy="7013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67000" y="22860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hicago's   Buckingham    Foun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52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16000" y="-162000"/>
            <a:ext cx="9576000" cy="7182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briel</dc:creator>
  <dc:description/>
  <dc:language>en-US</dc:language>
  <cp:lastModifiedBy>Roberto</cp:lastModifiedBy>
  <cp:revision>0</cp:revision>
  <dc:subject/>
  <dc:title>Chicago</dc:title>
</cp:coreProperties>
</file>