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FED-DB95-408B-9822-01FC1E4A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1EB-7E75-4582-B340-B2ADA7DE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8F3-C8BE-4856-B77F-E94F8570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DB8-3F6A-467A-B12B-9FEB3125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2ED-9B4B-45CB-8388-AA6D53BA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D19-69C3-4AAB-9FEE-7D237504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3FE-69EC-4612-A555-FCB544F5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A35-B98D-4272-9A37-57FECE4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202-8EF8-4337-8DEF-115E1893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F52-FECB-4718-A2AE-10771B16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7F7-9080-479C-9024-12834B15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43E-FDF5-4149-9B65-3EEBA49D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2229-2956-4F5A-8D67-DFF7D6D832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612720" y="20520"/>
            <a:ext cx="10298160" cy="686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2:00Z</dcterms:created>
  <dc:creator>Ge -- http://groups.yahoo.com/group/adultPPSfiles/</dc:creator>
  <dc:description/>
  <dc:language>en-US</dc:language>
  <cp:lastModifiedBy>Administrador</cp:lastModifiedBy>
  <dcterms:modified xsi:type="dcterms:W3CDTF">2007-08-22T15:43:40Z</dcterms:modified>
  <cp:revision>9</cp:revision>
  <dc:subject/>
  <dc:title>Dia 1</dc:title>
</cp:coreProperties>
</file>