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A76-6575-463A-BD6A-E69A1A2B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31B-F9FB-4E40-99B0-F27E92BD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961-A3CA-4572-AB2E-4C49AA96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8AE-633E-4AC3-B015-57A574AE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44A-CFD6-470B-A56B-10BCE774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FE0-D022-4083-8AE3-FF096B1F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658-C1C0-4905-A29A-5FCAC20F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7A6-0008-421D-A4FA-5A8E45A7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836-862F-474C-A911-4746459B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DCD-F6A8-4138-9A98-773B75B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235-E897-481D-A763-82C25BA7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4D4-A32F-43CE-8F8B-BA39988B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B97A-F78A-4AAD-B04F-A4D3231ADFA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659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153280" cy="6116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5256360" cy="6381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05920" cy="6230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4753080" cy="666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6920" y="304920"/>
            <a:ext cx="7417080" cy="6292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342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077320" cy="605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96080" cy="5770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772400" cy="583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287280"/>
            <a:ext cx="84247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507"/>
            </a:gs>
            <a:gs pos="100000">
              <a:srgbClr val="6b70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12:25:17Z</dcterms:created>
  <dc:creator>Javier García</dc:creator>
  <dc:description/>
  <dc:language>en-US</dc:language>
  <cp:lastModifiedBy>Cejas</cp:lastModifiedBy>
  <dcterms:modified xsi:type="dcterms:W3CDTF">2008-06-05T14:16:58Z</dcterms:modified>
  <cp:revision>8</cp:revision>
  <dc:subject/>
  <dc:title>Presentación de PowerPoint</dc:title>
</cp:coreProperties>
</file>