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D48-2442-45DE-8D9F-97AFC259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043-51EF-41BE-B234-D292971A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2F9-1C1B-4C03-9050-0ED5BCEB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807-F785-4424-8AD6-48620EF5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16E-4AE8-4847-BCD2-A04CB2BD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DDB-8723-451B-9A06-4ED262BC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97A-96FC-44E7-BDB9-CE2BBF2A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FFE-4C7A-41B1-A5A6-DF7E7CD9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1BE-1F30-405D-B33A-F36C5498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48B-D1F9-4DDC-9E5E-A1348BA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69D-97D4-4613-AC1C-C985591A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46E-3AA3-46FB-8F37-897E4064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B068-5ABF-4187-8E6D-CC355049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MISTER N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6597720"/>
            <a:ext cx="212400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ISTER N @ Produções.com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1600" y="0"/>
            <a:ext cx="4600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2440"/>
            <a:ext cx="9144000" cy="610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3680" y="0"/>
            <a:ext cx="4614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1600" y="0"/>
            <a:ext cx="4600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57560" y="0"/>
            <a:ext cx="4628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8680"/>
            <a:ext cx="9144000" cy="620064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85920" y="0"/>
            <a:ext cx="4772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02:21:58Z</dcterms:created>
  <dc:creator>MISTER N</dc:creator>
  <dc:description>PODEM REPASSAR , MAS O FAÇAM SEM MODIFICAR OS SLIDES , GRATO . NUNES.  </dc:description>
  <dc:language>en-US</dc:language>
  <cp:lastModifiedBy>Administrador</cp:lastModifiedBy>
  <dcterms:modified xsi:type="dcterms:W3CDTF">2007-08-18T14:56:34Z</dcterms:modified>
  <cp:revision>15</cp:revision>
  <dc:subject/>
  <dc:title>(N) ROSÂNGELA</dc:title>
</cp:coreProperties>
</file>