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ENYA_If%20I%20Could%20Be%20Where%20You%20Are_(16)_3'56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143-9FC2-4296-B1AD-F7A95BF8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FD2-63A8-471D-8BDB-0832B139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141-81A4-477D-8DDA-1C4CE144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B2E-A9D6-4011-AF98-B4575145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4A9-9145-4475-91A5-2E7D7835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F66-9247-410F-9B24-2876094C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496-3FCD-4032-BC1E-39E6D38A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CC0-4904-4D80-83AD-EFF4E202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0CF-699B-4BD1-9C5D-9A39725D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790-9DC8-4799-A736-A571C50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EAC-7EA8-4191-B19A-F3C8E587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C12-5D7F-4903-BD9A-2CBEC4AD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B75B-5E61-4614-8079-52EA4D56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YA_If%20I%20Could%20Be%20Where%20You%20Are_(16)_3&apos;56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est_photo_2007_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4936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0000"/>
                </a:solidFill>
                <a:latin typeface="Arial"/>
              </a:rPr>
              <a:t>Fot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522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de periodis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est_photo_200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est_photo_2007_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est_photo_2007_1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est_photo_2007_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ress_photo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ress_photo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ress_photo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ress_photo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est_photo_2007_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ress_photo_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ress_photo_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ress_photo_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ress_photo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ress_photo_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ress_photo_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ress_photo_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press_photo_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press_photo_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ress_photo_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est_photo_2007_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ress_photo_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ress_photo_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press_photo_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press_photo_59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ress_photo_36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ress_photo_71"/>
          <p:cNvPicPr/>
          <p:nvPr/>
        </p:nvPicPr>
        <p:blipFill>
          <a:blip r:embed="rId1"/>
          <a:stretch/>
        </p:blipFill>
        <p:spPr>
          <a:xfrm>
            <a:off x="971640" y="0"/>
            <a:ext cx="7056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 Rectángulo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est_photo_2007_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est_photo_2007_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est_photo_2007_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est_photo_2007_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est_photo_2007_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st_photo_2007_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2:26:09Z</dcterms:created>
  <dc:creator>since</dc:creator>
  <dc:description/>
  <dc:language>en-US</dc:language>
  <cp:lastModifiedBy>.</cp:lastModifiedBy>
  <dcterms:modified xsi:type="dcterms:W3CDTF">2009-04-20T02:35:48Z</dcterms:modified>
  <cp:revision>0</cp:revision>
  <dc:subject/>
  <dc:title>Fotos de periodistas</dc:title>
</cp:coreProperties>
</file>