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708-433D-4D68-B563-E8CB920B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0E4-448E-47E6-ACE6-9106DE1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7C8-9219-4C44-856F-5D560321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BD4-6A58-4662-B5B7-A7790200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D7F-6740-4525-8DC5-79DE5F5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85E-B2A0-40D5-A761-51A403A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B59-ECA5-4229-80A1-4C80ACD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1F4-0BE2-4AB7-A522-BAA4164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37E-D6AE-4E13-8B14-173881E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835-BB44-4D01-9417-6041579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5D5-9C71-4B0C-A679-664B353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E2E-51FD-4D84-9C46-2802573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5C9-B6CB-455F-8A11-4FBEEA8F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6:00:01Z</dcterms:created>
  <dc:creator>Marcos</dc:creator>
  <dc:description/>
  <dc:language>en-US</dc:language>
  <cp:lastModifiedBy>Administrador</cp:lastModifiedBy>
  <dcterms:modified xsi:type="dcterms:W3CDTF">2007-08-18T14:39:25Z</dcterms:modified>
  <cp:revision>6</cp:revision>
  <dc:subject/>
  <dc:title>PowerPoint Presentation</dc:title>
</cp:coreProperties>
</file>