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7D8-1F95-48DB-9061-EF100A7E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E22-2189-44A5-B11A-1D141E06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548-D9B7-4128-9979-203115B1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D9B-B5D5-4BD9-8508-76ECE530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E7B-3DBF-40C5-842F-6F06E635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858-9C57-4CC3-A337-95E767FE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8D9-A041-465A-8D51-77D6C0A4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A00-8DFC-43BA-9B9F-168A345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5D7-9698-445B-8CA0-399D893B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8B7-7893-4B65-BBC1-6D267CD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525-CE15-43C5-8420-8228A3DD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DDB-5915-4CB0-8692-6EECC8C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805-777C-453D-858D-A1CFB8DB35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346040"/>
            <a:ext cx="8532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2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8682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80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2:29:01Z</dcterms:created>
  <dc:creator>Faculdades Integradas Fafibe</dc:creator>
  <dc:description/>
  <dc:language>en-US</dc:language>
  <cp:lastModifiedBy>.</cp:lastModifiedBy>
  <dcterms:modified xsi:type="dcterms:W3CDTF">2005-11-18T16:15:41Z</dcterms:modified>
  <cp:revision>1</cp:revision>
  <dc:subject/>
  <dc:title>Slide 1</dc:title>
</cp:coreProperties>
</file>