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Blade%20runner.wav" ContentType="audio/x-wav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A98-363E-40BF-B25A-B4BCDC7E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734-00C6-466A-B94A-7B8FE202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483-F507-491F-9990-0BF64090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69B-7F92-4C31-8F37-5CB68D9C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837-8A76-4177-8AE3-22B32804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ED97-D7B2-4354-81C3-E48C9ED9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9FC-8FF0-490A-A8C8-28CCA496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F09-A2A9-4BE7-8A27-45CFBC7C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DF4-F119-4BDD-BB7E-D5ABEDAE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797-154A-4AA3-9488-9674231C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996-0AD7-4C08-9902-C70DE850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BB4-6EBB-4A6E-BE49-3C2478F4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4498-12B9-4DD3-82E7-F5817EFC4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lade%20runner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92360" y="836640"/>
            <a:ext cx="5543640" cy="18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s bellezas</a:t>
            </a:r>
            <a:endParaRPr b="1" i="1" lang="en-US" sz="66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7280" y="299736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l espectaculo</a:t>
            </a:r>
            <a:endParaRPr b="1" i="1" lang="en-US" sz="96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936720" cy="439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40360" y="522936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ff"/>
                </a:solidFill>
                <a:latin typeface="Arial"/>
              </a:rPr>
              <a:t>ALEJANDRA GU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2784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TATI CANT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65800" y="433440"/>
            <a:ext cx="467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También las hay  Internacionales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05440" y="4797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ICOLE KID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148360" y="44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VA LO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G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206064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HEATHER LOCK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148360" y="285264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HEIDI K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05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314172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AMELA AND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18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56000" y="44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IANE KEA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771640" y="270828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2492280"/>
            <a:ext cx="57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500" spc="-1" strike="noStrike">
                <a:solidFill>
                  <a:srgbClr val="ffffff"/>
                </a:solidFill>
                <a:latin typeface="Arial"/>
              </a:rPr>
              <a:t>Veamos ahora que tan perfectas so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6160" y="-27000"/>
            <a:ext cx="516420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40000" y="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NA LAYEV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Blade%20runne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79800" y="-27000"/>
            <a:ext cx="516420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4360" y="-27000"/>
            <a:ext cx="516600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9888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32000" y="260280"/>
            <a:ext cx="640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01960" y="-27000"/>
            <a:ext cx="516240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0016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4360" y="-27000"/>
            <a:ext cx="5162760" cy="688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56000" y="44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INEL CO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81600" y="0"/>
            <a:ext cx="5162400" cy="6885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1052640"/>
            <a:ext cx="338436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La mejor de todas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pinche cara de cruda que tiene la cabron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516420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1263600"/>
            <a:ext cx="33843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Ay wey, no manches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por eso no la quiso Jorge Salin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9888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1052640"/>
            <a:ext cx="3384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Otra cruda, pero contenta, con todo y alkazeltser en 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16276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40360" y="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LIZABETH ALVA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216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90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360" y="0"/>
            <a:ext cx="514224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2193840"/>
            <a:ext cx="338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La hermana gemela de la chimoltruf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71640" y="2163600"/>
            <a:ext cx="7200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l milagro del maquillaje, bendito maquillaje, ya lo dice el dicho  no hay mujeres feas, hay mujeres de bajo pre$upue$to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4500720" cy="6885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56000" y="44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NA LAYEV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11280" y="602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NTES DEL 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PUES DEL 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4957920" cy="6885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6853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56000" y="4428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NA DE LA REGU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840" y="-27000"/>
            <a:ext cx="4537080" cy="6885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00720" y="-27000"/>
            <a:ext cx="4643280" cy="6885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56000" y="4428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LIZABETH ALVA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556000" y="44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IANE KEA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1280" y="602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NTES DEL 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PUES DEL 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44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HEIDI K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11280" y="602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NTES DEL 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PUES DEL 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4627440" cy="6889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3708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56000" y="44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ff"/>
                </a:solidFill>
                <a:latin typeface="Arial"/>
              </a:rPr>
              <a:t>REBECA DE AL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7800" y="98100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ANA DE LA REGU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11280" y="602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NTES DEL 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PUES DEL 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56000" y="4428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AMELA AND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602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NTES DEL 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0364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PUES DEL 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47322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1440" y="0"/>
            <a:ext cx="446256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56000" y="44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NDREA N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11280" y="602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NTES DEL 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364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PUES DEL 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4535280" cy="6885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56000" y="4428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ff"/>
                </a:solidFill>
                <a:latin typeface="Arial"/>
              </a:rPr>
              <a:t>ALEJANDRA GU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4643280" cy="688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27440" y="0"/>
            <a:ext cx="451656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11280" y="602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NTES DEL 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PUES DEL 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56000" y="44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HEATHER LOCK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4348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56000" y="44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ff"/>
                </a:solidFill>
                <a:latin typeface="Arial"/>
              </a:rPr>
              <a:t>EVA LONG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11280" y="602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NTES DEL 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PUES DEL 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4500720" cy="6865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56000" y="44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ICOLE KID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11280" y="602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NTES DEL 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0364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PUES DEL 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556000" y="44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INEL CO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782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-15840" y="0"/>
            <a:ext cx="451656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556000" y="4428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ff"/>
                </a:solidFill>
                <a:latin typeface="Arial"/>
              </a:rPr>
              <a:t>PATRICIA MANTE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4680000" cy="6970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81440" y="0"/>
            <a:ext cx="446256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56000" y="44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TATI CANT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408560" y="0"/>
            <a:ext cx="473544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3544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56000" y="44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DITH GONZA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40360" y="177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DITH GONZA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60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Recuerden mujeres solo hay 5 cosas para ser perfect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21337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2720" y="213984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Jab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92720" y="213372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MAQUILL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342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3429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Di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4365720"/>
            <a:ext cx="8209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Por eso ahora ya saben porque las mujeres ya no usan bolso de mano, sino pañaleras … envía esto a todas las mujeres que conozcan y a todos los hombres para que sepan porque las mujeres se tardan tando en arreglar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73280" y="2700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16360" y="609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INEL CO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03704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181080" y="191628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ff"/>
                </a:solidFill>
                <a:latin typeface="Arial"/>
              </a:rPr>
              <a:t>PATRICIA MANTE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63640" y="18900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Trebuchet MS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2602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40360" y="28494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ff"/>
                </a:solidFill>
                <a:latin typeface="Arial"/>
              </a:rPr>
              <a:t>REBECA DE AL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781360"/>
            <a:ext cx="41036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NDREA NOL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unque esta no sea tan bella.. Aquí la inclui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5:10:54Z</dcterms:created>
  <dc:creator>Administrator</dc:creator>
  <dc:description/>
  <dc:language>en-US</dc:language>
  <cp:lastModifiedBy>Administrator</cp:lastModifiedBy>
  <dcterms:modified xsi:type="dcterms:W3CDTF">2009-07-22T05:14:04Z</dcterms:modified>
  <cp:revision>1</cp:revision>
  <dc:subject/>
  <dc:title>Slide 1</dc:title>
</cp:coreProperties>
</file>