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4B3A-08DC-4C29-B490-A53B5D97E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C94A-F650-494D-9EE6-E7F1EACD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2DC2-7A43-482F-B870-C4E8C075B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50C2-83F9-4EC4-ADB9-0A8621D4D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3394-898C-40D8-A077-C9C40C1E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C41D-09E1-4391-B190-20C6C394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666A-7987-4F95-AA2B-5C4F0668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9F82-C575-4902-9802-4B6B491C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1AFF-B067-4E1B-8880-9577B64C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1948-AB8F-4349-BC32-9E08ABB5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ED24-03AE-4191-9C3D-63F2D2C6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94D2-A36A-41C9-A280-9AB7EDFB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265A-E40F-45E9-9EFA-4C0A06CAC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066680"/>
            <a:ext cx="7772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na esposa descontenta con su coche le dice a su marido: "Cariño, el día de S. Valentín sorpréndeme y regálame algo que acelere de 0 a 100 en 4 segundos, a ser posible de color azul" El día de S. Valentín, como todos los años, el marido satisface los deseos de su querida espo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KW" descr=""/>
          <p:cNvPicPr/>
          <p:nvPr/>
        </p:nvPicPr>
        <p:blipFill>
          <a:blip r:embed="rId1"/>
          <a:stretch/>
        </p:blipFill>
        <p:spPr>
          <a:xfrm>
            <a:off x="855720" y="639720"/>
            <a:ext cx="743112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09:39:47Z</dcterms:created>
  <dc:creator>Olga Gurski</dc:creator>
  <dc:description/>
  <dc:language>en-US</dc:language>
  <cp:lastModifiedBy>Olga Gurski</cp:lastModifiedBy>
  <dcterms:modified xsi:type="dcterms:W3CDTF">2006-08-31T09:44:11Z</dcterms:modified>
  <cp:revision>1</cp:revision>
  <dc:subject/>
  <dc:title>Sin título de diapositiva</dc:title>
</cp:coreProperties>
</file>