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C038-7892-4243-80F7-68BF24975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F352-124D-462C-8517-9DF8D152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8730-A58A-4881-AD8F-503585015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A5FF-F6E8-4476-98ED-3AB5B349D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C9EF-E0A5-497E-BABF-DC2337D7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12A9-FA18-47C9-9EEF-27E099D1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F459-32EA-4817-A11B-8D9FBACE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1D49-D80F-420F-B4AE-A72BD283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CA26-CA8C-43A5-9864-FE582080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E2ED-8F97-434E-840C-8F618BF9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75E7-9DB4-4E47-B736-E32CA975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965A-AEBF-460E-867C-8868DD19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EF3A-9BF4-4B85-A7D3-56EF8D1DA01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0" y="260280"/>
            <a:ext cx="4349880" cy="65246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5T15:14:33Z</dcterms:created>
  <dc:creator>Ge -- http://groups.yahoo.com/group/adultPPSfiles/</dc:creator>
  <dc:description/>
  <dc:language>en-US</dc:language>
  <cp:lastModifiedBy>Administrador</cp:lastModifiedBy>
  <dcterms:modified xsi:type="dcterms:W3CDTF">2007-08-18T14:48:25Z</dcterms:modified>
  <cp:revision>10</cp:revision>
  <dc:subject/>
  <dc:title>Dia 1</dc:title>
</cp:coreProperties>
</file>