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936-8910-4121-9E20-0E48F673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2CF-E4D6-40FF-9B3F-F838D34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40B-01F7-4DAF-85B6-B2E74EB9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DAF-8542-4B4D-9FC8-1F5672F5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1E9-8F6A-4920-9F35-7FAF33C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400-C80D-4650-B6B5-4D1B4CE9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C80-DF8F-41E0-BDCF-660A84D5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A91-2702-4510-BAF2-83A3CAC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CDF-0C9F-4230-B6EF-69139B47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6F1-2499-45E0-B3A0-3B8807A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E00-BBE8-4D24-BB60-2100389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7FE-410C-4FD6-8871-3E9F146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DA09-DC74-4D36-BF9F-DDE19FD1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1360" y="2135160"/>
            <a:ext cx="8801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lques dessins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assalvy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17720" y="0"/>
            <a:ext cx="53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82720" y="266760"/>
            <a:ext cx="542124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8640" y="293760"/>
            <a:ext cx="543708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86080" y="358920"/>
            <a:ext cx="615780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8560" y="266760"/>
            <a:ext cx="600408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9320" y="476280"/>
            <a:ext cx="55501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7040" y="345960"/>
            <a:ext cx="57880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2880" y="189000"/>
            <a:ext cx="5875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7360" y="268200"/>
            <a:ext cx="563400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3680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65360" y="281160"/>
            <a:ext cx="557676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60680" y="358920"/>
            <a:ext cx="57434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000" y="-543420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63840" y="198360"/>
            <a:ext cx="5580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20840" y="0"/>
            <a:ext cx="65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54040" y="0"/>
            <a:ext cx="623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46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6:42:22Z</dcterms:created>
  <dc:creator>JeanF</dc:creator>
  <dc:description/>
  <dc:language>en-US</dc:language>
  <cp:lastModifiedBy>CV10234</cp:lastModifiedBy>
  <dcterms:modified xsi:type="dcterms:W3CDTF">2009-03-24T07:53:22Z</dcterms:modified>
  <cp:revision>4</cp:revision>
  <dc:subject/>
  <dc:title>Diapositive 1</dc:title>
</cp:coreProperties>
</file>