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Nabuco%20(COROS).wav" ContentType="audio/x-wav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90E-F3A0-4533-B6CC-AFDE5154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A592-B326-42E6-A49A-E5F2F4C2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C02-22DF-4945-B7E5-5D6904EE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E7C-84D2-4FAB-8B68-3B08B49C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6FE-B9AB-4611-976E-ACCB60E1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1FD-D37B-4E5B-BFBE-8B2690E2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653C-320D-4CB7-ACB1-8351830F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CE7-DE7D-41B3-A872-49EB448B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CB2-0FF9-4819-8282-A00107BC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F3E-3487-4298-84AB-474EC41D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BB74-704B-4DE6-8397-D0405511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698A-3ABB-4854-8BF6-E3F9C4E7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0B41-AA05-4461-9DD6-081542033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Nabuco%20(COROS).wav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256536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ataneo BT"/>
              </a:rPr>
              <a:t>La copa de la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7389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00720" y="189000"/>
            <a:ext cx="4643280" cy="7434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92360" y="0"/>
            <a:ext cx="5759280" cy="69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" sz="3600" spc="-1" strike="noStrike">
                <a:solidFill>
                  <a:srgbClr val="ffffff"/>
                </a:solidFill>
                <a:latin typeface="Arial Black"/>
              </a:rPr>
              <a:t>LA OPERA DE PARIS</a:t>
            </a:r>
            <a:r>
              <a:rPr b="1" lang="es-ES" sz="60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6381720"/>
            <a:ext cx="828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Black"/>
              </a:rPr>
              <a:t>NO USES EL RATON Y CONECTA LOS ALTAVOCES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30"/>
                                  </p:iterate>
                                  <p:childTnLst>
                                    <p:animMotion origin="layout" path="M 3.61111E-006 -2.96296E-006 C 0.06892 -2.96296E-006 0.125 0.02454 0.125 0.05672 C 0.125 0.0882 0.06892 0.11551 3.61111E-006 0.11551 C -0.0691 0.11551 -0.125 0.0882 -0.125 0.05672 C -0.125 0.02454 -0.0691 -2.96296000000008E-006 0.00989 0.0132 E">
                                      <p:cBhvr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66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69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72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75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78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81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84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87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90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93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96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99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102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105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108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111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114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117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120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123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395360"/>
            <a:ext cx="9144000" cy="8253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126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130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304920" y="166680"/>
            <a:ext cx="9753840" cy="6524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133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136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139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Cortina azul 2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7389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Cortina azul 1"/>
          <p:cNvPicPr/>
          <p:nvPr/>
        </p:nvPicPr>
        <p:blipFill>
          <a:blip r:embed="rId3"/>
          <a:stretch/>
        </p:blipFill>
        <p:spPr>
          <a:xfrm>
            <a:off x="0" y="0"/>
            <a:ext cx="4572000" cy="7389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447920" y="1066680"/>
            <a:ext cx="61722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66ff"/>
                </a:solidFill>
                <a:latin typeface="Arial"/>
              </a:rPr>
              <a:t>L’Opéra national de Paris, également connu sous le nom d’Opéra Garnier ou du Palais Garnier a été bâti en de 1862 à 1875 sur l'ordre de Napoleon III,    et dessiné par l'architecte français Charles Garnier (1825-1898),       qui lui a donné son nom.               Le plafond de l’Opera a été peint par Marc Shagall en 196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565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 Rounded MT Bold"/>
              </a:rPr>
              <a:t>F</a:t>
            </a:r>
            <a:r>
              <a:rPr b="1" lang="en-US" sz="9600" spc="-1" strike="noStrike">
                <a:solidFill>
                  <a:srgbClr val="ffffff"/>
                </a:solidFill>
                <a:latin typeface="Arial Rounded MT Bold"/>
              </a:rPr>
              <a:t>i</a:t>
            </a:r>
            <a:r>
              <a:rPr b="1" lang="en-US" sz="9600" spc="-1" strike="noStrike">
                <a:solidFill>
                  <a:srgbClr val="ff0000"/>
                </a:solidFill>
                <a:latin typeface="Arial Rounded MT Bold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7000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xit" presetID="7" presetSubtype="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3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52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55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60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80880" y="6504120"/>
            <a:ext cx="106704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0">
                  <a:noFill/>
                </a:ln>
                <a:solidFill>
                  <a:srgbClr val="c0c0c0"/>
                </a:solidFill>
                <a:latin typeface="Pristina"/>
              </a:rPr>
              <a:t>- Miki Pitish</a:t>
            </a:r>
            <a:endParaRPr b="1" i="1" lang="en-US" sz="800" spc="1" strike="noStrike">
              <a:ln w="0">
                <a:noFill/>
              </a:ln>
              <a:solidFill>
                <a:srgbClr val="c0c0c0"/>
              </a:solidFill>
              <a:latin typeface="Pristina"/>
              <a:ea typeface="Pristina"/>
            </a:endParaRPr>
          </a:p>
        </p:txBody>
      </p:sp>
      <p:sp>
        <p:nvSpPr>
          <p:cNvPr id="63" name=""/>
          <p:cNvSpPr/>
          <p:nvPr/>
        </p:nvSpPr>
        <p:spPr>
          <a:xfrm>
            <a:off x="-457200" y="6095880"/>
            <a:ext cx="137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c0c0c0"/>
                </a:solidFill>
                <a:latin typeface="Guttman Logo1"/>
                <a:ea typeface="Guttman Logo1"/>
              </a:rPr>
              <a:t>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13:06:00Z</dcterms:created>
  <dc:creator>EL LOLO</dc:creator>
  <dc:description/>
  <dc:language>en-US</dc:language>
  <cp:lastModifiedBy>EL LOLO</cp:lastModifiedBy>
  <dcterms:modified xsi:type="dcterms:W3CDTF">2009-06-21T14:29:03Z</dcterms:modified>
  <cp:revision>2</cp:revision>
  <dc:subject/>
  <dc:title>Diapositiva 1</dc:title>
</cp:coreProperties>
</file>