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F43-3282-4C9B-B300-AB1947FE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1513-C1BC-470C-895A-501AD22C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027-5FB9-4E77-9E5F-1E73F8BE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5FC4-AB8D-41D6-AE86-6F476A61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41F0-1094-4679-817F-6C3C2F3C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97F7-2B6A-461E-BA69-D7BD17D3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D6BB-1616-442A-B3A7-49984EF3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B70-F8BB-4860-BBF0-79B5A6C3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7D2-9B6E-4B21-BC3C-ACE49F17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FC0-2289-41EC-8662-14B30E1C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3226-AF2B-46C7-A3B2-3FB38C0B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EB1-13C3-4CA9-839F-41FE9BA4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44DB-4CCA-459A-A4D6-A253862EEC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17:44:36Z</dcterms:created>
  <dc:creator>Ge -- http://groups.yahoo.com/group/adultPPSfiles/</dc:creator>
  <dc:description/>
  <dc:language>en-US</dc:language>
  <cp:lastModifiedBy>Administrador</cp:lastModifiedBy>
  <dcterms:modified xsi:type="dcterms:W3CDTF">2007-08-18T14:40:32Z</dcterms:modified>
  <cp:revision>13</cp:revision>
  <dc:subject/>
  <dc:title>Dia 1</dc:title>
</cp:coreProperties>
</file>