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8D7-D52F-4109-999C-88C88657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F66-6F41-4AE3-888A-3F94D96B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5FC-33A2-431D-A464-AF61054B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C10-3251-47C3-884C-4A90A563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502-20BA-4542-B31E-E610225F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4E7-E5F5-4689-8EE2-8EC8C9F6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74B-74FE-45BA-B91B-B0605BAA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FA3-9B17-48BF-AB3F-5F8B4150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0BB-9D2C-4F66-B9ED-7B63A06D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D70-898F-42E3-A064-C2640EB5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802-DCA5-41DF-85D5-976132CD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F30-4902-419E-AEAA-A9FCE234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6449-9647-4EAF-BDF0-621B2ACD54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4573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4560" y="0"/>
            <a:ext cx="4573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4560" y="0"/>
            <a:ext cx="4573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16000" y="0"/>
            <a:ext cx="51102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4560" y="0"/>
            <a:ext cx="4573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9440"/>
            <a:ext cx="9144000" cy="6099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4560" y="0"/>
            <a:ext cx="4573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79440"/>
            <a:ext cx="9144000" cy="6099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9440"/>
            <a:ext cx="9144000" cy="6099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79440"/>
            <a:ext cx="9144000" cy="6099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79440"/>
            <a:ext cx="9144000" cy="6099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11560" y="0"/>
            <a:ext cx="45208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7:45:03Z</dcterms:created>
  <dc:creator>Ge -- http://groups.yahoo.com/group/adultPPSfiles/</dc:creator>
  <dc:description/>
  <dc:language>en-US</dc:language>
  <cp:lastModifiedBy>Administrador</cp:lastModifiedBy>
  <dcterms:modified xsi:type="dcterms:W3CDTF">2007-08-18T14:56:03Z</dcterms:modified>
  <cp:revision>13</cp:revision>
  <dc:subject/>
  <dc:title>Dia 1</dc:title>
</cp:coreProperties>
</file>