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C11-114C-496A-A0F5-9373417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D70-5B3E-4C0D-B3E5-6D3A7D4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E50-ED95-45D7-B019-D6F1ED0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BDE-0EC6-4697-A68F-7EF63C23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2A2-CE75-4B83-862C-507E0F5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505-C698-4790-AC96-D9E0D3B3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E42-CFD1-421D-A58E-91F77397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386-E177-404B-ACB0-61C9778D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FEA-F069-4801-AE40-2B120CC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E50-C992-485F-BE7A-D7976C7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CFC-4152-4ECB-AE3D-B05ECA4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517-9FC4-4BE5-B877-DB2F8B1C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8C478-D041-4D09-AFE5-0E4CAE1D7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47880" y="0"/>
            <a:ext cx="58928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94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87640" y="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08160" y="0"/>
            <a:ext cx="57038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761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8928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60720" y="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lém Zoubek</dc:creator>
  <dc:description/>
  <dc:language>en-US</dc:language>
  <cp:lastModifiedBy>Vilém Zoubek</cp:lastModifiedBy>
  <cp:revision>0</cp:revision>
  <dc:subject/>
  <dc:title/>
</cp:coreProperties>
</file>