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8.gif" ContentType="image/gi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BABD-D391-40C9-AD97-29DADC14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27E-1FC0-4973-92F5-4A2FB73B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3739-C687-4067-81D9-C97A0F5C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D33-2179-4DB4-8C3B-CF6171B3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152-413B-43A1-8AC1-1C767A9B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D58F-5200-48A7-95D9-AC376EFF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1B9-8AAE-49EC-9705-F0A1CED3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4F2B-BD5A-4C9E-9556-C0272AA2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9089-8874-4431-BF19-4D240BEF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309E-BAF6-43C7-9FBD-AF779F63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888-8295-440D-8A25-A7D4D68A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823F-E80F-45E3-BED8-0E45055E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E55E-E36D-4B44-A024-4E698834C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hyperlink" Target="http://www.incredimail.com/index.asp?lang=10&amp;version=5002185&amp;setup_id=10000007&amp;aff_id=1&amp;addon=IncrediMail&amp;id=95202&amp;guid=4DAE5108-6417-44FF-B1FC-FE3A44DBC6EF" TargetMode="External"/><Relationship Id="rId4" Type="http://schemas.openxmlformats.org/officeDocument/2006/relationships/image" Target="../media/image8.gif"/><Relationship Id="rId5" Type="http://schemas.openxmlformats.org/officeDocument/2006/relationships/hyperlink" Target="http://www.incredimail.com/index.asp?lang=10&amp;version=5002185&amp;setup_id=10000007&amp;aff_id=1&amp;addon=IncrediMail&amp;id=95202&amp;guid=4DAE5108-6417-44FF-B1FC-FE3A44DBC6EF" TargetMode="External"/><Relationship Id="rId6" Type="http://schemas.openxmlformats.org/officeDocument/2006/relationships/image" Target="../media/image8.gif"/><Relationship Id="rId7" Type="http://schemas.openxmlformats.org/officeDocument/2006/relationships/hyperlink" Target="http://www.incredimail.com/index.asp?lang=10&amp;version=5002185&amp;setup_id=10000007&amp;aff_id=1&amp;addon=IncrediMail&amp;id=95202&amp;guid=4DAE5108-6417-44FF-B1FC-FE3A44DBC6EF" TargetMode="External"/><Relationship Id="rId8" Type="http://schemas.openxmlformats.org/officeDocument/2006/relationships/image" Target="../media/image8.gif"/><Relationship Id="rId9" Type="http://schemas.openxmlformats.org/officeDocument/2006/relationships/hyperlink" Target="http://www.incredimail.com/index.asp?lang=10&amp;version=5002185&amp;setup_id=10000007&amp;aff_id=1&amp;addon=IncrediMail&amp;id=95202&amp;guid=4DAE5108-6417-44FF-B1FC-FE3A44DBC6EF" TargetMode="External"/><Relationship Id="rId10" Type="http://schemas.openxmlformats.org/officeDocument/2006/relationships/image" Target="../media/image8.gif"/><Relationship Id="rId11" Type="http://schemas.openxmlformats.org/officeDocument/2006/relationships/hyperlink" Target="http://www.incredimail.com/index.asp?lang=10&amp;version=5002185&amp;setup_id=10000007&amp;aff_id=1&amp;addon=IncrediMail&amp;id=95202&amp;guid=4DAE5108-6417-44FF-B1FC-FE3A44DBC6EF" TargetMode="External"/><Relationship Id="rId12" Type="http://schemas.openxmlformats.org/officeDocument/2006/relationships/image" Target="../media/image8.gif"/><Relationship Id="rId13" Type="http://schemas.openxmlformats.org/officeDocument/2006/relationships/hyperlink" Target="http://www.incredimail.com/index.asp?lang=10&amp;version=5002185&amp;setup_id=10000007&amp;aff_id=1&amp;addon=IncrediMail&amp;id=95202&amp;guid=4DAE5108-6417-44FF-B1FC-FE3A44DBC6EF" TargetMode="External"/><Relationship Id="rId14" Type="http://schemas.openxmlformats.org/officeDocument/2006/relationships/image" Target="../media/image8.gif"/><Relationship Id="rId15" Type="http://schemas.openxmlformats.org/officeDocument/2006/relationships/hyperlink" Target="http://www.incredimail.com/index.asp?lang=10&amp;version=5002185&amp;setup_id=10000007&amp;aff_id=1&amp;addon=IncrediMail&amp;id=95202&amp;guid=4DAE5108-6417-44FF-B1FC-FE3A44DBC6EF" TargetMode="External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2200" y="47628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CHISTE DE LA SUERTE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000" y="292428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DICEN QUE SOLO CON LEERLO DA SUERTE.....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84600" cy="623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459400" y="0"/>
            <a:ext cx="3684600" cy="623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6234120"/>
            <a:ext cx="3684600" cy="623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459400" y="6234120"/>
            <a:ext cx="3684600" cy="62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556000" y="6234120"/>
            <a:ext cx="3684600" cy="623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627280" y="0"/>
            <a:ext cx="3684600" cy="62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3706920" y="1844640"/>
            <a:ext cx="17287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6560" y="40464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Ella contesto "Nada, solo que he apostado con el </a:t>
            </a:r>
            <a:br>
              <a:rPr sz="2400"/>
            </a:b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100,000.00 US$ a que hoy a las 10:00 de la mañana tendría las pelotas del Presidente de Bancomer en mis manos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43280" y="270828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Nota: El origen de este chiste es desconocido, 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pero trae buena suerte a cualquiera que lo reciba y lo haga circu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4653000"/>
            <a:ext cx="54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e dice que la persona que rompa la cadena 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endrá mala suer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5589720"/>
            <a:ext cx="194328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7280" y="18900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No guardes este chiste lo único que tienes que 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hacer es enviarlo a los que quieras desearles bue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82920" y="1341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suerte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1523880" cy="2016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156360" y="981000"/>
            <a:ext cx="1716120" cy="2087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76200" y="3200400"/>
            <a:ext cx="65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I SON GERENTES, CON MAYOR RAZ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63640" y="42210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 veras como algo bueno te sucederá dentro d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próximos cuatro (4) días si no rompes l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en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476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00"/>
                </a:solidFill>
                <a:latin typeface="Arial"/>
              </a:rPr>
              <a:t>Una viejecita fue un día al Banco del Comercio </a:t>
            </a:r>
            <a:br>
              <a:rPr sz="3600"/>
            </a:br>
            <a:r>
              <a:rPr b="1" lang="es-ES" sz="3600" spc="-1" strike="noStrike">
                <a:solidFill>
                  <a:srgbClr val="336600"/>
                </a:solidFill>
                <a:latin typeface="Arial"/>
              </a:rPr>
              <a:t>Bancomer" llevando un bolso lleno hasta el tope de dinero en efectiv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87640" y="2637000"/>
            <a:ext cx="29116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18900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00"/>
                </a:solidFill>
                <a:latin typeface="Arial"/>
              </a:rPr>
              <a:t>Insistía ante la ventanilla, solicitando que quería hablar única y exclusivamente con el Presidente del Banco para abrir una cuenta de ahorros, para lo cual decía comprenda Ud., es mucho dinero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43640" y="2657520"/>
            <a:ext cx="2278080" cy="1541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2560" y="4508640"/>
            <a:ext cx="77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Después de mucho discutir, la llevaron ante el Presidente del Banco, </a:t>
            </a:r>
            <a:br>
              <a:rPr sz="2800"/>
            </a:b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respetando el concepto de que el cliente tiene siempre la raz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4046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6600"/>
                </a:solidFill>
                <a:latin typeface="Arial"/>
              </a:rPr>
              <a:t>El Presidente del Banco inquirió, cual es la </a:t>
            </a:r>
            <a:br>
              <a:rPr sz="2800"/>
            </a:br>
            <a:r>
              <a:rPr b="1" lang="es-ES" sz="2800" spc="-1" strike="noStrike">
                <a:solidFill>
                  <a:srgbClr val="336600"/>
                </a:solidFill>
                <a:latin typeface="Arial"/>
              </a:rPr>
              <a:t>cantidad que Ud. desea ingres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1916280"/>
            <a:ext cx="748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Ella dijo que $165,000.00 US$ y automát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vació su bolso encima de la me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640" y="4149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El Presidente, naturalmente, sintió una gran curiosidad por saber de donde habría sacado la viejita tanto dinero y le pregunto: 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eñora, me sorprende que lleve tanto dinero encima, por ser mucha cantidad y acto seguido le pregunto: como lo ha conseguid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92360" y="3068640"/>
            <a:ext cx="151632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3333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a viejecita contesto: " es simple, hago apuesta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981000"/>
            <a:ext cx="70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puestas? pregunto el Presiden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que tipo de apuesta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2565360"/>
            <a:ext cx="842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La viejecita contesto: "Bueno, todo tipo de apuestas;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por ejemplo le apuesto a Ud., $25,000.00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a que sus pelotas son cuadradas!"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221000"/>
            <a:ext cx="7056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El Presidente soltó una carcajada y dijo: "Esa </a:t>
            </a:r>
            <a:br>
              <a:rPr sz="2400"/>
            </a:b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es una apuesta entupida.... Ud., nunca podrá ganar una apuesta de ese tipo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1806840" cy="1769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5805360"/>
            <a:ext cx="127080" cy="144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5640" y="5805360"/>
            <a:ext cx="142920" cy="16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58920" y="5877000"/>
            <a:ext cx="142920" cy="16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979640" y="5805360"/>
            <a:ext cx="142920" cy="16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771640" y="5877000"/>
            <a:ext cx="142920" cy="162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419640" y="5877000"/>
            <a:ext cx="142560" cy="162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435640" y="5805360"/>
            <a:ext cx="142920" cy="16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4067280" y="5877000"/>
            <a:ext cx="14292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95640" y="3333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a viejecita lo desafi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1052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Bueno ya le dije que hago apuestas; esta Ud., </a:t>
            </a:r>
            <a:br>
              <a:rPr sz="2400"/>
            </a:b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dispuesto a aceptar mi apuest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8000" y="2133720"/>
            <a:ext cx="91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Por supuesto, respondió el Presidente. </a:t>
            </a:r>
            <a:br>
              <a:rPr sz="2400"/>
            </a:b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Apuesto 25,000.00 US$ a que mis pelotas no son cuadr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3933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306864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a viejecita dijo: "De acuerdo, pero como hay 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cho dinero en juego, puedo venir mañana a las 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10.00 AM con mi abogado para que nos sirva de testig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537372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Por supuesto, respondió el Presidente, 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eniendo en cuenta que se apostaba dine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20000" y="4365720"/>
            <a:ext cx="187308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4200" y="333360"/>
            <a:ext cx="8713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quella noche el Presidente estaba muy nervioso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por la apuesta, paso largo tiempo mirándose sus pelotas en el espejo; volviéndose de un lado para otro, una y otra vez. Se hizo un riguroso examen y quedo absolutamente convencido de que sus pelotas 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no eran cuadradas y que ganaría la apues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860640"/>
            <a:ext cx="2139840" cy="16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333360"/>
            <a:ext cx="8893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A la mañana siguiente a las 10:00 en punto, la </a:t>
            </a:r>
            <a:br>
              <a:rPr sz="2400"/>
            </a:b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viejecita apareció con su Abogado en la Oficina </a:t>
            </a:r>
            <a:br>
              <a:rPr sz="2400"/>
            </a:b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del Presidente. Hizo las pertinentes presentaciones y repitió la apuesta de 25,000.00 US$ a que las pelotas del Presidente son cuadr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978120" cy="1944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087640" y="242100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El Presidente acepto nuevamente la apuesta y 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a viejecita le pidió que se bajara los pantalones para mostrar sus pelot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4437000"/>
            <a:ext cx="748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El Presidente se bajo sus pantalones y la viejita </a:t>
            </a:r>
            <a:br>
              <a:rPr sz="2400"/>
            </a:b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se acerco y miro sus pelotas detenidamente y le pregunto tímidamente si las podía tocar; expresando: tenga Ud., en cuenta que es </a:t>
            </a:r>
            <a:br>
              <a:rPr sz="2400"/>
            </a:b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mucho dinero y debo cerciorar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524720" y="4797360"/>
            <a:ext cx="12621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8920" y="404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Bien de acuerdo, dijo el Presidente convencido, </a:t>
            </a:r>
            <a:br>
              <a:rPr sz="2400"/>
            </a:b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25,000.00 US$ es mucho dinero y comprendo que quiera estar absolutamente segura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916280"/>
            <a:ext cx="65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a viejita se acerco al Presidente y agarrándole 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empezó a palpar sus bolas; paralelo a lo cual el Presidente se dio cuenta de que el Abogado estaba golpeándose la cabeza contra la pa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1820880" cy="1484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35280" y="4653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El Presidente pregunto a la viejita: y ahora 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que le pasa a su Abogad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1T16:40:50Z</dcterms:created>
  <dc:creator>eduardo</dc:creator>
  <dc:description/>
  <dc:language>en-US</dc:language>
  <cp:lastModifiedBy>Daniel Rodriguez</cp:lastModifiedBy>
  <dcterms:modified xsi:type="dcterms:W3CDTF">2007-05-11T16:05:24Z</dcterms:modified>
  <cp:revision>3</cp:revision>
  <dc:subject/>
  <dc:title>Diapositiva 1</dc:title>
</cp:coreProperties>
</file>