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27.gif" ContentType="image/gif"/>
  <Override PartName="/ppt/media/image6.png" ContentType="image/png"/>
  <Override PartName="/ppt/media/image26.gif" ContentType="image/gif"/>
  <Override PartName="/ppt/media/image10.png" ContentType="image/png"/>
  <Override PartName="/ppt/media/AlisonKrauss_InThePalmOfYourHand.wav" ContentType="audio/x-wav"/>
  <Override PartName="/ppt/media/image5.png" ContentType="image/png"/>
  <Override PartName="/ppt/media/image25.gif" ContentType="image/gif"/>
  <Override PartName="/ppt/media/image24.gif" ContentType="image/gif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4.jpeg" ContentType="image/jpeg"/>
  <Override PartName="/ppt/media/image2.png" ContentType="image/pn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F1A-A338-4C3B-958D-BE1344A8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DE4-7A23-4A2C-A2B0-B89EA276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F48-69DF-4176-A049-2F8196E5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E82-6773-48FB-BBBD-ED9DB931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C48-6FD1-464C-85E5-4ADD7605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21B-1802-4BFA-B6FF-4AE3E631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CB8-FBDF-4DB1-958B-A2DE5649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989-0AC8-4D55-A372-E09DA5EE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102-56BD-47EA-A784-3FEB7524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F94-1894-4F65-AC14-BADD45F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1C5-5502-4B32-BFD4-93E65A7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E0B-7543-4FB5-9D9A-9479156D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737B-BDD4-4217-95E3-6A51C5F09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lisonKrauss_InThePalmOfYourHand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image" Target="../media/image19.gif"/><Relationship Id="rId22" Type="http://schemas.openxmlformats.org/officeDocument/2006/relationships/image" Target="../media/image19.gif"/><Relationship Id="rId23" Type="http://schemas.openxmlformats.org/officeDocument/2006/relationships/image" Target="../media/image19.gif"/><Relationship Id="rId24" Type="http://schemas.openxmlformats.org/officeDocument/2006/relationships/image" Target="../media/image19.gif"/><Relationship Id="rId25" Type="http://schemas.openxmlformats.org/officeDocument/2006/relationships/image" Target="../media/image19.gif"/><Relationship Id="rId26" Type="http://schemas.openxmlformats.org/officeDocument/2006/relationships/image" Target="../media/image19.gif"/><Relationship Id="rId27" Type="http://schemas.openxmlformats.org/officeDocument/2006/relationships/image" Target="../media/image19.gif"/><Relationship Id="rId28" Type="http://schemas.openxmlformats.org/officeDocument/2006/relationships/image" Target="../media/image19.gif"/><Relationship Id="rId29" Type="http://schemas.openxmlformats.org/officeDocument/2006/relationships/image" Target="../media/image19.gif"/><Relationship Id="rId30" Type="http://schemas.openxmlformats.org/officeDocument/2006/relationships/image" Target="../media/image19.gif"/><Relationship Id="rId31" Type="http://schemas.openxmlformats.org/officeDocument/2006/relationships/image" Target="../media/image19.gif"/><Relationship Id="rId32" Type="http://schemas.openxmlformats.org/officeDocument/2006/relationships/image" Target="../media/image19.gif"/><Relationship Id="rId33" Type="http://schemas.openxmlformats.org/officeDocument/2006/relationships/image" Target="../media/image19.gif"/><Relationship Id="rId34" Type="http://schemas.openxmlformats.org/officeDocument/2006/relationships/image" Target="../media/image19.gif"/><Relationship Id="rId35" Type="http://schemas.openxmlformats.org/officeDocument/2006/relationships/image" Target="../media/image19.gif"/><Relationship Id="rId36" Type="http://schemas.openxmlformats.org/officeDocument/2006/relationships/image" Target="../media/image19.gif"/><Relationship Id="rId37" Type="http://schemas.openxmlformats.org/officeDocument/2006/relationships/image" Target="../media/image19.gif"/><Relationship Id="rId38" Type="http://schemas.openxmlformats.org/officeDocument/2006/relationships/image" Target="../media/image19.gif"/><Relationship Id="rId39" Type="http://schemas.openxmlformats.org/officeDocument/2006/relationships/image" Target="../media/image19.gif"/><Relationship Id="rId40" Type="http://schemas.openxmlformats.org/officeDocument/2006/relationships/image" Target="../media/image19.gif"/><Relationship Id="rId41" Type="http://schemas.openxmlformats.org/officeDocument/2006/relationships/image" Target="../media/image19.gif"/><Relationship Id="rId4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image" Target="../media/image20.gif"/><Relationship Id="rId23" Type="http://schemas.openxmlformats.org/officeDocument/2006/relationships/image" Target="../media/image20.gif"/><Relationship Id="rId24" Type="http://schemas.openxmlformats.org/officeDocument/2006/relationships/image" Target="../media/image20.gif"/><Relationship Id="rId25" Type="http://schemas.openxmlformats.org/officeDocument/2006/relationships/image" Target="../media/image20.gif"/><Relationship Id="rId26" Type="http://schemas.openxmlformats.org/officeDocument/2006/relationships/image" Target="../media/image20.gif"/><Relationship Id="rId27" Type="http://schemas.openxmlformats.org/officeDocument/2006/relationships/image" Target="../media/image20.gif"/><Relationship Id="rId28" Type="http://schemas.openxmlformats.org/officeDocument/2006/relationships/image" Target="../media/image20.gif"/><Relationship Id="rId29" Type="http://schemas.openxmlformats.org/officeDocument/2006/relationships/image" Target="../media/image22.gif"/><Relationship Id="rId30" Type="http://schemas.openxmlformats.org/officeDocument/2006/relationships/image" Target="../media/image22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image" Target="../media/image23.gif"/><Relationship Id="rId14" Type="http://schemas.openxmlformats.org/officeDocument/2006/relationships/image" Target="../media/image23.gif"/><Relationship Id="rId15" Type="http://schemas.openxmlformats.org/officeDocument/2006/relationships/image" Target="../media/image23.gif"/><Relationship Id="rId16" Type="http://schemas.openxmlformats.org/officeDocument/2006/relationships/image" Target="../media/image23.gif"/><Relationship Id="rId17" Type="http://schemas.openxmlformats.org/officeDocument/2006/relationships/image" Target="../media/image23.gif"/><Relationship Id="rId18" Type="http://schemas.openxmlformats.org/officeDocument/2006/relationships/image" Target="../media/image23.gif"/><Relationship Id="rId19" Type="http://schemas.openxmlformats.org/officeDocument/2006/relationships/image" Target="../media/image23.gif"/><Relationship Id="rId20" Type="http://schemas.openxmlformats.org/officeDocument/2006/relationships/image" Target="../media/image23.gif"/><Relationship Id="rId21" Type="http://schemas.openxmlformats.org/officeDocument/2006/relationships/image" Target="../media/image23.gif"/><Relationship Id="rId22" Type="http://schemas.openxmlformats.org/officeDocument/2006/relationships/image" Target="../media/image23.gif"/><Relationship Id="rId23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42840" y="419040"/>
            <a:ext cx="725832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958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b0"/>
                </a:solidFill>
                <a:latin typeface="Kristen ITC"/>
              </a:rPr>
              <a:t>A una persona </a:t>
            </a:r>
            <a:br>
              <a:rPr sz="4000"/>
            </a:br>
            <a:r>
              <a:rPr b="1" lang="en-US" sz="4000" spc="-1" strike="noStrike">
                <a:solidFill>
                  <a:srgbClr val="b000b0"/>
                </a:solidFill>
                <a:latin typeface="Kristen ITC"/>
              </a:rPr>
              <a:t>estup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56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Hoy te digo que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espero recibir esto de vue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2800" y="1600200"/>
            <a:ext cx="5916600" cy="50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712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Creo que sin un amigo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uno se pierde much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65320" y="1447920"/>
            <a:ext cx="5013360" cy="50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¡ No confundas amigos con conocido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74640" y="1447920"/>
            <a:ext cx="5992920" cy="50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000b0"/>
                </a:solidFill>
                <a:latin typeface="Kristen ITC"/>
              </a:rPr>
              <a:t>¡ Hay una gran diferencia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000b0"/>
                </a:solidFill>
                <a:latin typeface="Kristen ITC"/>
              </a:rPr>
              <a:t>Porque me importas y ésta es la semana internacional de todo lo important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7040" y="2133720"/>
            <a:ext cx="286848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9920" y="54864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Entonces significa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que también tú les importas. 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492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000b0"/>
                </a:solidFill>
                <a:latin typeface="Kristen ITC"/>
              </a:rPr>
              <a:t>Tienes que enviar mensajes a tus amig@s para decirles lo importantes que son pa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000b0"/>
                </a:solidFill>
                <a:latin typeface="Kristen ITC"/>
              </a:rPr>
              <a:t>Y si ellos te contestan... aunque sea una vez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70080" y="1627200"/>
            <a:ext cx="300204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4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Si yo te mandase una sonrisa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te gustaría, ¿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70080" y="2133720"/>
            <a:ext cx="3002040" cy="36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Pero creo que mereces más que e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95760" y="2938320"/>
            <a:ext cx="1752480" cy="1438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7200" y="2938320"/>
            <a:ext cx="1752480" cy="143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934320" y="2938320"/>
            <a:ext cx="1752480" cy="1438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95760" y="4800600"/>
            <a:ext cx="1752480" cy="1438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695760" y="1295280"/>
            <a:ext cx="1752480" cy="143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1752480" cy="1438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457200" y="1295280"/>
            <a:ext cx="1752480" cy="1438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533520" y="4800600"/>
            <a:ext cx="175248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6934320" y="4724280"/>
            <a:ext cx="1752480" cy="143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5410080" y="2938320"/>
            <a:ext cx="1752840" cy="1438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2057400" y="2938320"/>
            <a:ext cx="1752480" cy="1438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752480" cy="143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5334120" y="4800600"/>
            <a:ext cx="1752480" cy="1438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2133720" y="1371600"/>
            <a:ext cx="1752480" cy="14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>
            <a:off x="5257800" y="1371600"/>
            <a:ext cx="17524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Entonces decidí hacer 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12128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492360" y="12193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425680" y="12193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359000" y="12193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638680" y="12128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705720" y="12128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91960" y="12193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7772400" y="12128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572000" y="2286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492360" y="229248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2425680" y="229248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1359000" y="22924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5638680" y="2286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6705720" y="2286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291960" y="229248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7772400" y="2286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4572000" y="33465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3492360" y="3352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2425680" y="3352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1"/>
          <a:stretch/>
        </p:blipFill>
        <p:spPr>
          <a:xfrm>
            <a:off x="1359000" y="33526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2"/>
          <a:stretch/>
        </p:blipFill>
        <p:spPr>
          <a:xfrm>
            <a:off x="5638680" y="33465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3"/>
          <a:stretch/>
        </p:blipFill>
        <p:spPr>
          <a:xfrm>
            <a:off x="6705720" y="334656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4"/>
          <a:stretch/>
        </p:blipFill>
        <p:spPr>
          <a:xfrm>
            <a:off x="291960" y="33526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5"/>
          <a:stretch/>
        </p:blipFill>
        <p:spPr>
          <a:xfrm>
            <a:off x="7772400" y="33465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6"/>
          <a:stretch/>
        </p:blipFill>
        <p:spPr>
          <a:xfrm>
            <a:off x="4572000" y="441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7"/>
          <a:stretch/>
        </p:blipFill>
        <p:spPr>
          <a:xfrm>
            <a:off x="3492360" y="44258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8"/>
          <a:stretch/>
        </p:blipFill>
        <p:spPr>
          <a:xfrm>
            <a:off x="2425680" y="44258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9"/>
          <a:stretch/>
        </p:blipFill>
        <p:spPr>
          <a:xfrm>
            <a:off x="1359000" y="44258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0"/>
          <a:stretch/>
        </p:blipFill>
        <p:spPr>
          <a:xfrm>
            <a:off x="5638680" y="441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1"/>
          <a:stretch/>
        </p:blipFill>
        <p:spPr>
          <a:xfrm>
            <a:off x="6705720" y="4419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2"/>
          <a:stretch/>
        </p:blipFill>
        <p:spPr>
          <a:xfrm>
            <a:off x="291960" y="44258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3"/>
          <a:stretch/>
        </p:blipFill>
        <p:spPr>
          <a:xfrm>
            <a:off x="7772400" y="441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4"/>
          <a:stretch/>
        </p:blipFill>
        <p:spPr>
          <a:xfrm>
            <a:off x="4572000" y="54799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5"/>
          <a:stretch/>
        </p:blipFill>
        <p:spPr>
          <a:xfrm>
            <a:off x="3492360" y="54864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6"/>
          <a:stretch/>
        </p:blipFill>
        <p:spPr>
          <a:xfrm>
            <a:off x="2425680" y="54864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7"/>
          <a:stretch/>
        </p:blipFill>
        <p:spPr>
          <a:xfrm>
            <a:off x="1359000" y="54864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8"/>
          <a:stretch/>
        </p:blipFill>
        <p:spPr>
          <a:xfrm>
            <a:off x="5638680" y="54799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9"/>
          <a:stretch/>
        </p:blipFill>
        <p:spPr>
          <a:xfrm>
            <a:off x="6705720" y="547992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0"/>
          <a:stretch/>
        </p:blipFill>
        <p:spPr>
          <a:xfrm>
            <a:off x="291960" y="54864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1"/>
          <a:stretch/>
        </p:blipFill>
        <p:spPr>
          <a:xfrm>
            <a:off x="7772400" y="547992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146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743200" y="306864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867280" y="306864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 flipH="1">
            <a:off x="3541680" y="3068640"/>
            <a:ext cx="2059200" cy="72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004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8288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385272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11430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4572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45720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52578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59436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66294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73152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8001000" y="685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25146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32004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18288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385272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1"/>
          <a:stretch/>
        </p:blipFill>
        <p:spPr>
          <a:xfrm>
            <a:off x="11430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2"/>
          <a:stretch/>
        </p:blipFill>
        <p:spPr>
          <a:xfrm>
            <a:off x="4572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3"/>
          <a:stretch/>
        </p:blipFill>
        <p:spPr>
          <a:xfrm>
            <a:off x="45720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4"/>
          <a:stretch/>
        </p:blipFill>
        <p:spPr>
          <a:xfrm>
            <a:off x="52578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5"/>
          <a:stretch/>
        </p:blipFill>
        <p:spPr>
          <a:xfrm>
            <a:off x="59436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6"/>
          <a:stretch/>
        </p:blipFill>
        <p:spPr>
          <a:xfrm>
            <a:off x="66294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7"/>
          <a:stretch/>
        </p:blipFill>
        <p:spPr>
          <a:xfrm>
            <a:off x="73152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8"/>
          <a:stretch/>
        </p:blipFill>
        <p:spPr>
          <a:xfrm>
            <a:off x="8001000" y="54100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9"/>
          <a:stretch/>
        </p:blipFill>
        <p:spPr>
          <a:xfrm flipH="1">
            <a:off x="456840" y="3068640"/>
            <a:ext cx="20588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0"/>
          <a:stretch/>
        </p:blipFill>
        <p:spPr>
          <a:xfrm flipH="1">
            <a:off x="6629040" y="3068640"/>
            <a:ext cx="20588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1"/>
          <a:stretch/>
        </p:blipFill>
        <p:spPr>
          <a:xfrm>
            <a:off x="457200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2"/>
          <a:stretch/>
        </p:blipFill>
        <p:spPr>
          <a:xfrm>
            <a:off x="3919680" y="4148280"/>
            <a:ext cx="618840" cy="718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3"/>
          <a:stretch/>
        </p:blipFill>
        <p:spPr>
          <a:xfrm>
            <a:off x="532440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4"/>
          <a:stretch/>
        </p:blipFill>
        <p:spPr>
          <a:xfrm>
            <a:off x="6012000" y="4148280"/>
            <a:ext cx="618840" cy="718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5"/>
          <a:stretch/>
        </p:blipFill>
        <p:spPr>
          <a:xfrm>
            <a:off x="672948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6"/>
          <a:stretch/>
        </p:blipFill>
        <p:spPr>
          <a:xfrm>
            <a:off x="320040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7"/>
          <a:stretch/>
        </p:blipFill>
        <p:spPr>
          <a:xfrm>
            <a:off x="251604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8"/>
          <a:stretch/>
        </p:blipFill>
        <p:spPr>
          <a:xfrm>
            <a:off x="178596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9"/>
          <a:stretch/>
        </p:blipFill>
        <p:spPr>
          <a:xfrm>
            <a:off x="106524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0"/>
          <a:stretch/>
        </p:blipFill>
        <p:spPr>
          <a:xfrm>
            <a:off x="34452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1"/>
          <a:stretch/>
        </p:blipFill>
        <p:spPr>
          <a:xfrm>
            <a:off x="7461360" y="4148280"/>
            <a:ext cx="618840" cy="71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2"/>
          <a:stretch/>
        </p:blipFill>
        <p:spPr>
          <a:xfrm>
            <a:off x="8180280" y="4148280"/>
            <a:ext cx="619200" cy="718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3"/>
          <a:stretch/>
        </p:blipFill>
        <p:spPr>
          <a:xfrm>
            <a:off x="457200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4"/>
          <a:stretch/>
        </p:blipFill>
        <p:spPr>
          <a:xfrm>
            <a:off x="3919680" y="1989000"/>
            <a:ext cx="618840" cy="719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5"/>
          <a:stretch/>
        </p:blipFill>
        <p:spPr>
          <a:xfrm>
            <a:off x="532440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6"/>
          <a:stretch/>
        </p:blipFill>
        <p:spPr>
          <a:xfrm>
            <a:off x="6012000" y="1989000"/>
            <a:ext cx="61884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7"/>
          <a:stretch/>
        </p:blipFill>
        <p:spPr>
          <a:xfrm>
            <a:off x="672948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8"/>
          <a:stretch/>
        </p:blipFill>
        <p:spPr>
          <a:xfrm>
            <a:off x="320040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9"/>
          <a:stretch/>
        </p:blipFill>
        <p:spPr>
          <a:xfrm>
            <a:off x="251604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0"/>
          <a:stretch/>
        </p:blipFill>
        <p:spPr>
          <a:xfrm>
            <a:off x="178596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1"/>
          <a:stretch/>
        </p:blipFill>
        <p:spPr>
          <a:xfrm>
            <a:off x="106524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2"/>
          <a:stretch/>
        </p:blipFill>
        <p:spPr>
          <a:xfrm>
            <a:off x="344520" y="1989000"/>
            <a:ext cx="619200" cy="7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3"/>
          <a:stretch/>
        </p:blipFill>
        <p:spPr>
          <a:xfrm>
            <a:off x="7461360" y="1989000"/>
            <a:ext cx="6188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4"/>
          <a:stretch/>
        </p:blipFill>
        <p:spPr>
          <a:xfrm>
            <a:off x="8180280" y="1989000"/>
            <a:ext cx="6192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¿ Me entiendes ahor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000b0"/>
                </a:solidFill>
                <a:latin typeface="Kristen ITC"/>
              </a:rPr>
              <a:t>¡Manda sonrisas a todos tus amig@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95560" y="2971800"/>
            <a:ext cx="6752160" cy="2690280"/>
            <a:chOff x="1195560" y="2971800"/>
            <a:chExt cx="6752160" cy="269028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1195560" y="4223880"/>
              <a:ext cx="3781080" cy="143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2581200" y="2971800"/>
              <a:ext cx="5366520" cy="2690280"/>
              <a:chOff x="2581200" y="2971800"/>
              <a:chExt cx="5366520" cy="2690280"/>
            </a:xfrm>
          </p:grpSpPr>
          <p:pic>
            <p:nvPicPr>
              <p:cNvPr id="1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1200" y="2971800"/>
                <a:ext cx="3781080" cy="143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66640" y="4223880"/>
                <a:ext cx="3781080" cy="143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6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59080" y="1371600"/>
            <a:ext cx="6225840" cy="5035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¡ Hola, Persona Estupenda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00b0"/>
                </a:solidFill>
                <a:latin typeface="Kristen ITC"/>
              </a:rPr>
              <a:t>¡ Alguien te quiere much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15640" y="28954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000b0"/>
                </a:solidFill>
                <a:latin typeface="Kristen ITC"/>
              </a:rPr>
              <a:t>¡Sonrí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704000" y="2708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905120" y="2708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867280" y="2708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3851280" y="13366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3851280" y="5418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0" y="13366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770400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1828800" y="5418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5867280" y="5418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0" y="5418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7704000" y="5418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0" y="41148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7704000" y="40384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1981080" y="13366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7704000" y="13366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3851280" y="3657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5867280" y="40384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5867280" y="13366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2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b000b0"/>
                </a:solidFill>
                <a:latin typeface="Kristen ITC"/>
              </a:rPr>
              <a:t>¡Serás más feliz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2309760" cy="2878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181480" y="2971800"/>
            <a:ext cx="1857600" cy="2882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3429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238880" y="2759040"/>
            <a:ext cx="138744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9480" y="1447920"/>
            <a:ext cx="6845040" cy="503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¿ Alguna vez te dijeron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que eres muy especial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¿Que la luz que emites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hasta podría encender una estrell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4280" y="1523880"/>
            <a:ext cx="7974000" cy="503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76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¿Alguna vez te dijeron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 …lo importante que haces sentirse a los otr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59040" y="1523880"/>
            <a:ext cx="3624120" cy="503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120" y="609120"/>
            <a:ext cx="89154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¿ Alguna vez te dijeron 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que cuando estaban tristes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tus e-mails los hicieron sonreír un poquito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porque los hicieron alegrars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5029200"/>
            <a:ext cx="359100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73080" y="2590920"/>
            <a:ext cx="35989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 </a:t>
            </a: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Por el tiempo que pasas enviando cosas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y compartiendo todo lo que encuentras,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no hay palabras para agradec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63720" y="1819440"/>
            <a:ext cx="5416560" cy="50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76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¿ Alguna vez te dijeron…</a:t>
            </a:r>
            <a:br>
              <a:rPr sz="2800"/>
            </a:br>
            <a:r>
              <a:rPr b="0" lang="en-US" sz="2800" spc="-1" strike="noStrike">
                <a:solidFill>
                  <a:srgbClr val="b000b0"/>
                </a:solidFill>
                <a:latin typeface="Kristen ITC"/>
              </a:rPr>
              <a:t>…cuánto te aprecian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706840" y="1523880"/>
            <a:ext cx="3728880" cy="503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000b0"/>
                </a:solidFill>
                <a:latin typeface="Kristen ITC"/>
              </a:rPr>
              <a:t>Bueno, mi querid@ amig@ “onl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55960" y="1523880"/>
            <a:ext cx="3232080" cy="503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80,0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01:30Z</dcterms:created>
  <dc:creator>ROMULO ESPINAR</dc:creator>
  <dc:description>Modificaciones: Marce</dc:description>
  <dc:language>en-US</dc:language>
  <cp:lastModifiedBy>Marcela.</cp:lastModifiedBy>
  <dcterms:modified xsi:type="dcterms:W3CDTF">2008-11-15T22:17:18Z</dcterms:modified>
  <cp:revision>11</cp:revision>
  <dc:subject/>
  <dc:title>A UNA PERSONA ESTUPENDA</dc:title>
</cp:coreProperties>
</file>