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274-648A-4015-A40E-E9B17EE2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D22-0CF4-4B9F-AC54-606382CA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005-CC6B-4BC2-B2F5-D2BC9594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56C-6887-4387-A8BD-0B393A99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F8E-24D1-4DD8-8351-BFB5A190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9F7-03BF-411B-BFC5-637BAB24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DCB-974B-44F8-857E-FE2E6565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701-95AE-4087-8D46-7CE19C79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807-575F-4350-8028-23540254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A0C-AFE2-43C8-8FC1-7F4C9473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316-5BBF-49B5-93EF-F64805B4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FAC-1BBC-4450-89DF-EA1BDE5D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7848-FB50-4361-B08B-82B209EC04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Comic Sans MS"/>
              </a:rPr>
              <a:t>Ocasiones en las que está permitido dec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0066"/>
                </a:solidFill>
                <a:latin typeface="Comic Sans MS"/>
              </a:rPr>
              <a:t>¡¡¡ Ay Güey...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000160" y="0"/>
            <a:ext cx="513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6215040" y="1500120"/>
            <a:ext cx="4098960" cy="3936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0" y="1643040"/>
            <a:ext cx="70722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071800" y="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258920" y="-243000"/>
            <a:ext cx="5610240" cy="74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95280" y="-352440"/>
            <a:ext cx="8497800" cy="74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042920" y="0"/>
            <a:ext cx="5829480" cy="78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071800" y="0"/>
            <a:ext cx="507204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7:31:18Z</dcterms:created>
  <dc:creator>JRomeroH</dc:creator>
  <dc:description/>
  <dc:language>en-US</dc:language>
  <cp:lastModifiedBy>Juan José Coronado Chavira</cp:lastModifiedBy>
  <dcterms:modified xsi:type="dcterms:W3CDTF">2009-05-03T18:32:07Z</dcterms:modified>
  <cp:revision>6</cp:revision>
  <dc:subject/>
  <dc:title>OCASIONES EN LAS QUE ESTA PERMITIDO DECIR</dc:title>
</cp:coreProperties>
</file>