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0DBC-A898-4ED3-A994-622A149C4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A71F-B1D4-40D9-BB7E-FB89D6DCC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2999-495E-4C70-9217-9DBD84EC8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A9CC-EAED-4904-AC73-7614E11FB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D3A9-E6E8-4AA0-ADEA-660A8BEF3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6623-CCC4-4E28-9345-8C60D8ECD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40F6-073F-4F69-A2DB-2B2AA8B1D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4635-16E0-437D-978D-86012B0EA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76CD-8517-4D9D-89AB-14E10F472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5DD4-CA72-4C9F-9B9B-D07E49AA7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C687-598D-4612-B2BD-DC9134DEF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5228-24AD-4837-9669-734584D06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7EAEC-40B3-4B88-80AD-FF36286F73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 txBox="1"/>
          <p:nvPr/>
        </p:nvSpPr>
        <p:spPr>
          <a:xfrm>
            <a:off x="8028000" y="0"/>
            <a:ext cx="111600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000000">
                      <a:alpha val="80000"/>
                    </a:srgbClr>
                  </a:outerShdw>
                </a:effectLst>
                <a:latin typeface="Impact"/>
              </a:rPr>
              <a:t>MISTER N</a:t>
            </a:r>
            <a:endParaRPr b="1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00000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" name=""/>
          <p:cNvSpPr txBox="1"/>
          <p:nvPr/>
        </p:nvSpPr>
        <p:spPr>
          <a:xfrm>
            <a:off x="0" y="6597720"/>
            <a:ext cx="2124000" cy="26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Impact"/>
              </a:rPr>
              <a:t>MISTER N @ Produções.com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Impact"/>
              <a:ea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08000" y="0"/>
            <a:ext cx="474048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250920" cy="260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489040" y="0"/>
            <a:ext cx="416412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231840"/>
            <a:ext cx="9144000" cy="6394320"/>
          </a:xfrm>
          <a:prstGeom prst="rect">
            <a:avLst/>
          </a:prstGeom>
          <a:blipFill rotWithShape="0">
            <a:blip r:embed="rId2"/>
            <a:srcRect/>
            <a:stretch/>
          </a:blip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0"/>
            <a:ext cx="4572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27200" y="0"/>
            <a:ext cx="40878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0" y="0"/>
            <a:ext cx="4572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92480" y="0"/>
            <a:ext cx="45576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0"/>
            <a:ext cx="4572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85680"/>
            <a:ext cx="9144000" cy="6686640"/>
          </a:xfrm>
          <a:prstGeom prst="rect">
            <a:avLst/>
          </a:prstGeom>
          <a:blipFill rotWithShape="0">
            <a:blip r:embed="rId2"/>
            <a:srcRect/>
            <a:stretch/>
          </a:blip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378000"/>
            <a:ext cx="9144000" cy="6100560"/>
          </a:xfrm>
          <a:prstGeom prst="rect">
            <a:avLst/>
          </a:prstGeom>
          <a:blipFill rotWithShape="0">
            <a:blip r:embed="rId2"/>
            <a:srcRect/>
            <a:stretch/>
          </a:blip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1000" fill="hold"/>
                                        <p:tgtEl>
                                          <p:spTgt spid="61"/>
                                        </p:tgtEl>
                                      </p:cBhvr>
                                      <p:to x="170000" y="17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7T03:48:16Z</dcterms:created>
  <dc:creator>MISTER N</dc:creator>
  <dc:description>PODEM REPASSAR , MAS O FAÇAM SEM MODIFICAR OS SLIDES , GRATO . NUNES.  </dc:description>
  <dc:language>en-US</dc:language>
  <cp:lastModifiedBy>Administrador</cp:lastModifiedBy>
  <dcterms:modified xsi:type="dcterms:W3CDTF">2007-08-18T14:56:23Z</dcterms:modified>
  <cp:revision>57</cp:revision>
  <dc:subject/>
  <dc:title>(N) ROSSANE BOM</dc:title>
</cp:coreProperties>
</file>