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Amapola.wav" ContentType="audio/x-wav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94BD-D836-4A52-967C-4110E1E16F68}" type="slidenum">
              <a:rPr b="0" lang="es-H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8A97-EECB-4B60-BA57-AE271EEE7377}" type="slidenum">
              <a:rPr b="0" lang="es-H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3E9-5AD4-48EA-A88C-C131040646A3}" type="slidenum">
              <a:rPr b="0" lang="es-H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D54-CDA3-4A4F-98B0-C15CB70E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352-6989-4E85-9D5F-EB5114B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A9A-FC8E-4DA3-A7CC-5651E13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023-2E00-4C77-8CDF-6117D682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E5C-7852-470B-8E83-9A284589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0D6-3782-437E-AD94-53EFC9D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705-EBDA-43B5-B900-EFDFCA77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655-68D4-47DC-B417-32CF013C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22B-2059-43D7-A1ED-8C3F3B2D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49E-568C-4441-9F47-03969C5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46C-50C5-479F-830F-25D7C02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456-8CEE-4A93-AAF2-52F2CAA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CED-D629-4A95-9146-67AE8D14A9C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pol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Picture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8"/>
          <p:cNvSpPr/>
          <p:nvPr/>
        </p:nvSpPr>
        <p:spPr>
          <a:xfrm>
            <a:off x="1724040" y="26172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escripciones del Gran Mé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5371560" y="515160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az click para continuar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Amapo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374120" y="5950440"/>
            <a:ext cx="63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Además, tú no eres el mensaje, solo el mensajer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icture14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55640" y="6023520"/>
            <a:ext cx="781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cc00"/>
                </a:solidFill>
                <a:latin typeface="Arial"/>
              </a:rPr>
              <a:t>En el Círculo del Amor de Dios, Él quiere utilizar todas tus capacidad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Picture18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icture16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43560" y="5734080"/>
            <a:ext cx="54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o, hay 10 cosas que necesitas ente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89080" y="4731840"/>
            <a:ext cx="856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Dios espera frutos espirituales, no obras relig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No hay una llave para la felicidad. La puerta siempre está abi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l silencio muchas veces es malinterpretado, pero nunca inoportu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Haz los cálculos... cuenta tus ben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Fe es la habilidad de no entrar en pá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loat Plane2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757880" y="5661000"/>
            <a:ext cx="62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cc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Si te preocupas, es que no ora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Y si oraste, entonces no te preocu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Picture23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403280" y="58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cc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cc00"/>
                </a:solidFill>
                <a:latin typeface="Arial"/>
              </a:rPr>
              <a:t>Para un hijo de Dios, la oración es como llamar a casa todos los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Boy &amp; his Dog"/>
          <p:cNvPicPr/>
          <p:nvPr/>
        </p:nvPicPr>
        <p:blipFill>
          <a:blip r:embed="rId1"/>
          <a:stretch/>
        </p:blipFill>
        <p:spPr>
          <a:xfrm>
            <a:off x="2598840" y="777960"/>
            <a:ext cx="394632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11280" y="6165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cc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Lo más importante en tu casa son las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Picture8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44640" y="5627520"/>
            <a:ext cx="72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cc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Cuando te enredes en tus problemas, quédate quieto. 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Dios quiere que nos quedemos quietos, así  Él puede deshacer el n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Picture17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Picture18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820800" y="5935680"/>
            <a:ext cx="75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cc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El rencor y la amargura son como las granadas de mano. Debes soltarlas antes de que te destruy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5364000" y="2637000"/>
            <a:ext cx="31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¡¡¡Que tengas un gran dí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l Hijo está iluminando tu vida y todavía puede usar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icture4"/>
          <p:cNvPicPr/>
          <p:nvPr/>
        </p:nvPicPr>
        <p:blipFill>
          <a:blip r:embed="rId1"/>
          <a:stretch/>
        </p:blipFill>
        <p:spPr>
          <a:xfrm>
            <a:off x="0" y="0"/>
            <a:ext cx="485928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476360" y="587916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a próxima vez que sientas como que Dios no puede usarte, recuer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icture1"/>
          <p:cNvPicPr/>
          <p:nvPr/>
        </p:nvPicPr>
        <p:blipFill>
          <a:blip r:embed="rId2"/>
          <a:stretch/>
        </p:blipFill>
        <p:spPr>
          <a:xfrm>
            <a:off x="2484360" y="620640"/>
            <a:ext cx="4476960" cy="88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icture5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768240" y="5877000"/>
            <a:ext cx="760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e más amable de lo necesario, porque cada persona que conozcas está luchando sus propias bata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148360" y="242100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Vive con sencillez, ama generosamente, preocupate sinceramente, habla con amabilid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l resto, déjaselo a Dio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strips dir="l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3344040" y="60930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¡Dios te bendiga!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strips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Picture3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5515200" y="2648160"/>
            <a:ext cx="304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oé se emborrachab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braham era muy viejo,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Isaac era un soñador,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Jacob era mentiroso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ture13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124000" y="5228280"/>
            <a:ext cx="47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eah era fea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sé  fue abus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oisés era tartamudo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Gedeón era miedoso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85600" y="5234400"/>
            <a:ext cx="534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ansón tenía el pelo largo y era mujeriego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eremías y Timoteo eran muy jóvenes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David fue adúltero y asesino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lías tenía un temperamento suicid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1 Sea Scene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3290400" y="5099400"/>
            <a:ext cx="354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Isaías predicó desnu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nás huyó de Dios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Nohemí era viu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b estaba en bancarrota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Henens Bay Co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315520" y="5019840"/>
            <a:ext cx="464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Pedro negó a Cristo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os discípulos abandonaron a Cris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arta se preocupaba por to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a mujer samaritana era divorciada,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ás de una vez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524200" y="2356200"/>
            <a:ext cx="333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Zaqueo era muy pequeño,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Pablo era muy religio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imoteo tenía úlce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¡Y Lázaro estaba muert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298840" y="564552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ún as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¡¡¡Jesús los ayudó a todo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076720" y="2497320"/>
            <a:ext cx="328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cc00"/>
                </a:solidFill>
                <a:latin typeface="Arial"/>
              </a:rPr>
              <a:t>Así q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cc00"/>
                </a:solidFill>
                <a:latin typeface="Arial"/>
              </a:rPr>
              <a:t>¡No más excusa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cc00"/>
                </a:solidFill>
                <a:latin typeface="Arial"/>
              </a:rPr>
              <a:t>Dios puede usarte a tu máxim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Picture3"/>
          <p:cNvPicPr/>
          <p:nvPr/>
        </p:nvPicPr>
        <p:blipFill>
          <a:blip r:embed="rId1"/>
          <a:stretch/>
        </p:blipFill>
        <p:spPr>
          <a:xfrm>
            <a:off x="-252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4:57:49Z</dcterms:created>
  <dc:creator/>
  <dc:description/>
  <dc:language>en-US</dc:language>
  <cp:lastModifiedBy>GNovaterra</cp:lastModifiedBy>
  <dcterms:modified xsi:type="dcterms:W3CDTF">2009-05-22T14:32:08Z</dcterms:modified>
  <cp:revision>344</cp:revision>
  <dc:subject/>
  <dc:title>Diapositive 1</dc:title>
</cp:coreProperties>
</file>