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A13-263D-4E76-8D46-4D42E7CB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000C-860B-444C-8802-C3F9A6BD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1A0B-BAC0-4853-835F-AA6AB5B4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2A27-6321-4CE2-A7BB-2CA4FCAD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2261-57E0-42C4-AC38-6E47FF4A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074-F6A1-460B-B594-4D63530F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DE1-2C09-4B64-9BFF-C574003D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6A57-8FA6-4B89-A6D0-0BE1878E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520-6068-43BA-B67E-D370451C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725B-BB4D-4468-92FD-BA6DC03E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C4F3-4005-4BD3-9693-E7DA0E18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DB7-6367-4367-8BB2-1F6492F2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2842-01DF-4110-8EF1-8877625027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15:49:21Z</dcterms:created>
  <dc:creator>Ge -- http://groups.yahoo.com/group/adultPPSfiles/</dc:creator>
  <dc:description/>
  <dc:language>en-US</dc:language>
  <cp:lastModifiedBy>Administrador</cp:lastModifiedBy>
  <dcterms:modified xsi:type="dcterms:W3CDTF">2007-08-18T14:56:14Z</dcterms:modified>
  <cp:revision>10</cp:revision>
  <dc:subject/>
  <dc:title>Dia 1</dc:title>
</cp:coreProperties>
</file>