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48B-DAE9-4AB9-8466-D3AAFF1E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A87-9C4C-4CFC-84C2-93D665E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73B-0DA0-4EC1-873A-258AB730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66C-0A79-4708-9CB7-D31F6929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6FB-C443-41DE-B8BA-B25E3032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510-8F16-430B-AA0D-440863A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C77-E759-41E9-A356-183D1953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B2C-053F-47BA-8D7A-282AB42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72F-026C-49BF-9008-905A659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BBC-0FB3-4CE9-AD09-67532D2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170-734D-4BE4-94BC-AA7EC71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AB8-23A7-49CB-8FED-0A788AE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E9F-4394-4963-9C72-709B14F91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36:30Z</dcterms:created>
  <dc:creator/>
  <dc:description/>
  <dc:language>en-US</dc:language>
  <cp:lastModifiedBy>Administrador</cp:lastModifiedBy>
  <dcterms:modified xsi:type="dcterms:W3CDTF">2007-08-18T14:55:06Z</dcterms:modified>
  <cp:revision>4</cp:revision>
  <dc:subject/>
  <dc:title>Diapositiva 1</dc:title>
</cp:coreProperties>
</file>