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4.jpeg" ContentType="image/jpeg"/>
  <Override PartName="/ppt/media/image2.jpeg" ContentType="image/jpeg"/>
  <Override PartName="/ppt/media/image3.jpeg" ContentType="image/jpeg"/>
  <Override PartName="/ppt/media/Dan%C3%A7a%20com%20Lobos%20-%20Andr%C3%A9%20Rieu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88"/>
              </a:spcBef>
              <a:buClr>
                <a:srgbClr val="000000"/>
              </a:buClr>
              <a:buFont typeface="Arial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an&#231;a%20com%20Lobos%20-%20Andr&#233;%20Rieu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450080" y="3809880"/>
            <a:ext cx="617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sible atravesar la vida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8120" y="2286000"/>
            <a:ext cx="748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Uno crece cuando enfrenta el invi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unque pierda las hoj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Recoge flores aunque teng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espinas y marca camino aun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levante el pol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20" y="4024440"/>
            <a:ext cx="8991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Uno crece cuando se es capaz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afianzarse con residuos de ilusiones,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apaz de perfumarse, con residuos de flor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¡Y de encenderse con residuos de amor.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75080" y="533520"/>
            <a:ext cx="7593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Uno crece ayudando a s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emejantes,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onociéndose a sí mismo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ándole a la vida más de lo que recibe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Uno crece cuando se plan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para no retroced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3800" y="3537000"/>
            <a:ext cx="6438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uando se defiende como águ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para no dejar de vola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uando se clava como ancla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e ilumina como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Entonc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Uno Crece</a:t>
            </a:r>
            <a:r>
              <a:rPr b="0" lang="es-E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3108240"/>
            <a:ext cx="89154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Y CRECE CUANDO CRE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ESPERA Y CONFIA EN SU CREADO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Que pasen un feliz día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úsica: Danza com Lobos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ndré Ri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57880" y="2743200"/>
            <a:ext cx="753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in que un trabajo salga mal hech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in que una amistad cause decepció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in padecer algún quebranto de salu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5160" y="380880"/>
            <a:ext cx="680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in que un amor nos abandon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in que nadie de la familia fallezc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in equivocarse en un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533520"/>
            <a:ext cx="38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Uno crece cuando no hay vací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e esperanza,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ni debilitamiento de volunt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ni pérdida de f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99072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Uno crece cuando acept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realidad y tiene aplomo para vivirl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uando acepta su destino, pero tiene la voluntad de trabajar para cambiar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320" y="609480"/>
            <a:ext cx="4876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Uno crece asimilando lo que deja por detrás,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onstruyendo lo que tiene por delante y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proyectando lo que puede ser el porvenir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2286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  <a:ea typeface="Times New Roman"/>
              </a:rPr>
              <a:t>Crece cuando se supera, se valor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  <a:ea typeface="Times New Roman"/>
              </a:rPr>
              <a:t>y sabe dar fru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4560" y="4923000"/>
            <a:ext cx="74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Verdana"/>
                <a:ea typeface="Times New Roman"/>
              </a:rPr>
              <a:t>Crece cuando se abre camino dejando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Verdana"/>
                <a:ea typeface="Times New Roman"/>
              </a:rPr>
              <a:t>huellas, asimilando experienci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Verdana"/>
                <a:ea typeface="Times New Roman"/>
              </a:rPr>
              <a:t>¡Y sembrando raíc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9080" y="152280"/>
            <a:ext cx="7331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Uno crece cuando se impone metas,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in importarle comentarios neg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ni prejuicios, cuando da ejemplos 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importarle burlas, ni desdenes,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uando cumple con su lab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0080" y="4024440"/>
            <a:ext cx="6729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Uno crece cuando se es fuerte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arácter,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ostenido por formació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ensible por temperamento..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¡Y humano por nacimiento!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ce.</cp:lastModifiedBy>
  <dcterms:modified xsi:type="dcterms:W3CDTF">2008-04-23T22:57:04Z</dcterms:modified>
  <cp:revision>36</cp:revision>
  <dc:subject/>
  <dc:title>Presentación de PowerPoint</dc:title>
</cp:coreProperties>
</file>