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uaa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30AC-E0AC-43C8-8001-25EC1988AC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9DD4-5301-4878-86F4-0792149724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D3C2-0485-4FE5-AC44-6CB9DAD841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C33F-8459-46C0-981F-C21ABC3D4A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7F59-C2B4-4BD7-B81B-5DCE7BC506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8034-3D50-46E9-968A-222A056585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AC0E-F51A-41EF-B808-6CC400DE06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4475-CE31-4125-B6C3-2636F3FA40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37C7-92E0-4975-BF35-323E310ADA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6249-7FB1-4FA9-88BC-C0E95AA5B8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FF79-7D32-4281-96AD-1BDE37CE98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4932-EEFC-4705-A4AB-A334C2A7C7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05D9-D345-4E98-B74E-74CD6269EE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A981-99B0-4531-B950-23C74153AA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B691-3AB4-4A48-A406-00D1015F6B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4D8A-2243-4AC1-BCAE-5618560E36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CC2E-53BE-45E9-859D-14A9C99AC0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C24F-8C02-4742-92CA-9AC90AB7E9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B8E4-B0CE-4201-80D4-0CECEAAE9D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5C66-EACC-4044-8BCD-615E0E0D64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95B3-6219-4F4B-98E8-F350EB64EC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3C73-5D2A-40E6-BDB9-A4435CE0ED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297F-AD68-447C-B0E8-750AC71140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368-2D1B-4DFB-AC5A-8B506803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AA0-4856-4312-ABFD-C66B88B6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9B4-187B-44A8-A645-88798C3E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D5C-907A-4B7F-A548-613D57B3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B7D-B0B6-4123-9871-4149641C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B2F8-1F22-47C3-8BE8-26EDFA3B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182-22DD-4B8C-A57D-E9C0A30D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B76-B01D-4CF4-8D11-A2897809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7C5-453E-47D4-A761-43FDF1A8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3A6-38FF-42CC-83D3-153D9D69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256-66AE-4B73-BA81-7AE12830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542-F041-47AE-90A5-034F71B4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116D-9F1E-4D7E-82E4-3A8485F67F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aa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Black"/>
              </a:rPr>
              <a:t>SUPER TEST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 para contin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 que si no lo mandabas ibas a tener desgracias en tu vida????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me chingues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ecnologia aun no esta tan avanzada como para hacer que un trinche puñado de bits de un email o de una presentación te cambie la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Yo mandaria esta presentacion a tus compañeros y amigos, para chingarlos como me han hecho a mi, y yo te lo hice a ti con este email!!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 cuantos? Y yo que se cuantos pinches amigos tienes!?!?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eno chao!!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Y suerte en la vida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(Aunque tendras la misma suerte te lo diga o n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hh! y una ultima cosa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uaaa"/>
          <p:cNvPicPr/>
          <p:nvPr/>
        </p:nvPicPr>
        <p:blipFill>
          <a:blip r:embed="rId1"/>
          <a:stretch/>
        </p:blipFill>
        <p:spPr>
          <a:xfrm>
            <a:off x="0" y="0"/>
            <a:ext cx="9325080" cy="69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 me podía aguantar a poner esta pendejada que ha espantado a medio mundo!!!!!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(Entre todos esos yo por que la neta si me asuste!!!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Fin de la presentación, haga clic para continu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 cual es tu fruta favorit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T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Se ha detectado un virus fatal err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Windows se a cerrado por su segu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Haga clic para iniciar volcado de memori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Código de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D2X000000000000012687F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HAL.DLL F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pperplate Gothic Light"/>
              </a:rPr>
              <a:t>JA JA JA….</a:t>
            </a: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 ERA B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APOCO NO TE CAGASTE DE MIED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gency FB"/>
              </a:rPr>
              <a:t>JA JA JA JA JA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AAAAJAJAJAJAJ!!!!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y cabron!!!! 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 me hace que comi payaso!!!!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y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Black"/>
              </a:rPr>
              <a:t>RESULTAD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760" y="121428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legiste NARANJA: eres alguien al que le gustan las naran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legiste PLATANO: eres alguien al que le gustan los plát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legiste MELON: eres alguien al que le gustan los me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legiste FRESA: eres alguien al que le gustan las f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e te creías??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e diciéndole a un email una puta fruta te iba a decir quien te ama o una pendejada de esas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99680" y="2957400"/>
            <a:ext cx="77151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CHINGUES… AAAJA JA JA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eno esto es una caden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o si no la envías, tu vida seguirá siendo la misma, no pasa ni madres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e te creias???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e enviando este powerpoint  a 10 personas te ibas a casar mañana o que pedo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26:07Z</dcterms:created>
  <dc:creator>pedro</dc:creator>
  <dc:description/>
  <dc:language>en-US</dc:language>
  <cp:lastModifiedBy>Rodrigo Herrera</cp:lastModifiedBy>
  <dcterms:modified xsi:type="dcterms:W3CDTF">2009-05-26T18:23:21Z</dcterms:modified>
  <cp:revision>12</cp:revision>
  <dc:subject/>
  <dc:title>SUPER TEST!!!!</dc:title>
</cp:coreProperties>
</file>