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ach%20-%20Brandenburg%20Concert%20No.%203.wav" ContentType="audio/x-wav"/>
  <Override PartName="/ppt/media/Vivaldi%20-%20The%204%20Seasons%20The%20Spring%20Op,%208%20%20No.1.wav" ContentType="audio/x-wav"/>
  <Override PartName="/ppt/media/image1.wmf" ContentType="image/x-wmf"/>
  <Override PartName="/ppt/media/STRAUSS%20-%20Die%20Fledermaus%20Waltz.wav" ContentType="audio/x-wav"/>
  <Override PartName="/ppt/media/MOZART%20-%20Sinfonia%20No.40%20Sol%20menor.wav" ContentType="audio/x-wav"/>
  <Override PartName="/ppt/media/image2.wmf" ContentType="image/x-wmf"/>
  <Override PartName="/ppt/media/BEETHOVEN%20-%20Sinfonia%20No.9.wav" ContentType="audio/x-wav"/>
  <Override PartName="/ppt/media/CHOPIN%20-%20Polonaise%20%20Heroic.wav" ContentType="audio/x-wav"/>
  <Override PartName="/ppt/media/Bolero%20-%20Ravel.wav" ContentType="audio/x-wav"/>
  <Override PartName="/ppt/media/TCHAIKOVSKY%20-%20%20Piano%20Concert%20No.1.wav" ContentType="audio/x-wav"/>
  <Override PartName="/ppt/media/image3.wmf" ContentType="image/x-wmf"/>
  <Override PartName="/ppt/media/Shostakovich%20-%20Waltz%20No.2%20Extrait%20of%20the%20Suite%20Jazz%20No.2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F02-C1B3-4CFE-BE91-8DAD1FB3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EA8-4921-4A61-9C9D-DE86995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6EF-2CE9-448E-B9F9-B5254099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121-FDB4-4047-AE9F-4EFFF561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D3DA-EC68-48F6-B668-07FFA177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B109-8747-4B9F-95EB-276B535A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74FB-DB00-46CE-99E9-222F86B7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07B8-D8FC-4F3B-8957-F3B9356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B472-C50E-4258-A5CE-3E44F23F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45D4-9CD0-4030-AE5F-B5F9F49A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7F9-CB02-4962-B954-843B053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EF5-6953-4A0D-8055-3C15EA17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A87E-C962-43D8-96AE-617DD45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65BC-CA7B-4890-9A86-5DEC19B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99F6-912E-4396-901A-169478F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A948-2599-4E19-9A67-0E145397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2707-D2CB-4193-94B2-96D1347F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528-5971-4C09-95CC-842BD6B3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91B-8ED2-4AA4-A0DD-0805B312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4B6-5F22-4D29-868F-DDD58B8E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728-6B06-4FAA-A28D-A2656A3A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52F-AAAB-4455-9721-6C96952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786-DBC6-4086-A1FC-E96A91BD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092-2B38-4DD2-9325-E5AAF1E2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B1E3-A0D8-495A-A1CC-332FA17DDC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735B-472A-4E35-8DD4-17B25E46BA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ach%20-%20Brandenburg%20Concert%20No.%20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CHAIKOVSKY%20-%20%20Piano%20Concert%20No.1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TRAUSS%20-%20Die%20Fledermaus%20Waltz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lero%20-%20Ravel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hostakovich%20-%20Waltz%20No.2%20Extrait%20of%20the%20Suite%20Jazz%20No.2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ivaldi%20-%20The%204%20Seasons%20The%20Spring%20Op,%208%20%20No.1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OZART%20-%20Sinfonia%20No.40%20Sol%20men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EETHOVEN%20-%20Sinfonia%20No.9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OPIN%20-%20Polonaise%20%20Heroic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907920"/>
            <a:ext cx="7632720" cy="3816360"/>
          </a:xfrm>
          <a:prstGeom prst="rect">
            <a:avLst/>
          </a:prstGeom>
          <a:solidFill>
            <a:srgbClr val="993366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Historia de la Música Cl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( 1600 – 2000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623736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ahoma"/>
              </a:rPr>
              <a:t>Bach - Concierto de Brandenburgo No.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Bach%20-%20Brandenburg%20Concert%20No.%20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907920"/>
            <a:ext cx="7345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a música vivió grandes cambios durante la época románt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los compositores expandieron las formas musicales existentes y desarrollaron nuevas formas para expresar su propia person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 eliminaron las restric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cuanto a la duración de la obra, el número de movimientos, el número de instrumentos ó voces usada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 vivió un ambiente de libertad creativ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el que florecieron una gran cantidad y variedad de obras tanto instrumentales como voc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en este período cuando se introdujeron la mayoría de los instrumentos de la orquesta tal y como los conocemos en la actu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83664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invención y el uso extendido de lás válvulas en los instrumentos de bronce y los nuevos sistemas de teclado e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instrumen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aire y madera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hicieron más fáciles de tocar, animando a los compositores a componer más música para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Sinfonía Romántica se convirtió en una versión expandida de la Sinfonía Clásica. Su duración es mucho mayor y añade muchos más instrumentos a la orquesta y se compone de más de cuatro movimi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parecieron también en este período obras miniatura, tales como el nocturno, el impromptu, el estudio y la bala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los cuales se hicieron muy populares por ser de corta duración y fáciles de escuchar y recor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56000" y="630864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ahoma"/>
              </a:rPr>
              <a:t>Tchaikovsky - Concierto para Piano y Orquesta No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TCHAIKOVSKY%20-%20%20Piano%20Concert%20No.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765000"/>
            <a:ext cx="698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compositores Románticos también lograron reunir la poesía con la mús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Las óperas se dedicaron a exponer dramas humanos más que mitológicos, simbólicos ó platón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pareció una nueva tendencia al “Nacionalismo” que inspiró a los compositores a incorporar en su música canciones y estilos populares de sus paí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Rusia fue el líder de este movimiento Nacion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compositores como Tchaikovsky, Borodin y Rimsky Korsako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mbién Antonin Dvorak, compositor Checoslovaco se apoyó fuertemente en tonadas y danzas populares de su país para componer sus sinfonías y sus conciertos de cáma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836640"/>
            <a:ext cx="7345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randes compositores de esta época fueron Franz Schubert, Johann Strauss, Johann Strauss II, Richard Strauss, Franz Liszt, Serguei Rachmaninov, Robert Schumann, Richard Wagner, Johannes Brahms, Giuseppe Verdi, Hector Berlioz y Bedrich Smet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a música del período románt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fue la que tuvo mayor aceptación y difusión para el público en general y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cruzó las fronteras de todos los países para convertirse en música univers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y en día, los valses de Strauss y Tchaikovsky, los nocturnos de Chopin, las óperas de Verdi, las danzas Húngaras de Brahms forman parte de la cultura de todos los pueb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0560" y="609300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ahoma"/>
              </a:rPr>
              <a:t>Vals de la Ópera “El Murciélago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ahoma"/>
              </a:rPr>
              <a:t>Johann Strauss 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STRAUSS%20-%20Die%20Fledermaus%20Waltz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8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341360"/>
            <a:ext cx="7128000" cy="3745080"/>
          </a:xfrm>
          <a:prstGeom prst="rect">
            <a:avLst/>
          </a:prstGeom>
          <a:solidFill>
            <a:srgbClr val="993366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Música Moderna y Contemporáne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( 1920 - 2000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61657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aurice Ravel - Bol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Bolero%20-%20Rave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58920" y="692280"/>
            <a:ext cx="66960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 Impresion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úsica impresionista es una rama derivada de la música romántica que no sigue patrones definidos, se expresa la melodía en forma disper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otros casos se repiten las melodías pero se cambia la intensidad del sonido y cambia también drásticamente el número de instrumentos que participan en la orq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ompositores mas famosos de este estilo de música fuero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Claude Debussy y Maurice Ra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476280"/>
            <a:ext cx="741672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eo-Clasic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ilo Neo-Clásico es una música similar a al que se componía en el período clásico, usa sonidos e instrumentos más modernos, pero sigue los ideales y formatos del período clásico origi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mas famoso compositor de este estilo e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Igor Stravinsky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úsica At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un nuevo estilo de música, desarrollado por el compositor Arnold Schoenberg, que usa una escala de 12 notas cromáticas. Su ritmo es irregular e impredec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602136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Shostakovic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Vals No.2 de la Suite de Jazz No.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Shostakovich%20-%20Waltz%20No.2%20Extrait%20of%20the%20Suite%20Jazz%20No.2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8920" y="549360"/>
            <a:ext cx="68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han desarrollado mas tipos y estilos y se ha escrito mas música en el Siglo XX que durante todos los siglos anteriores, el único límite del compositor ha sido su imagi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ompositores mas famosos de la música impresionista y contemporánea son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8207280" cy="319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16360" y="2492280"/>
            <a:ext cx="3384360" cy="1008360"/>
          </a:xfrm>
          <a:prstGeom prst="rect">
            <a:avLst/>
          </a:prstGeom>
          <a:solidFill>
            <a:srgbClr val="993366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Arial Unicode MS"/>
              </a:rPr>
              <a:t>F I 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6021360"/>
            <a:ext cx="1728720" cy="368280"/>
          </a:xfrm>
          <a:prstGeom prst="rect">
            <a:avLst/>
          </a:prstGeom>
          <a:solidFill>
            <a:srgbClr val="6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M   1002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197000"/>
            <a:ext cx="7128000" cy="3240000"/>
          </a:xfrm>
          <a:prstGeom prst="rect">
            <a:avLst/>
          </a:prstGeom>
          <a:solidFill>
            <a:srgbClr val="993366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l Período Barro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( 1600 – 1750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620640"/>
            <a:ext cx="71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eriodo Barroco ocupó una época importante en la historia de la humanidad.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Galileo, Kepler y Newto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taban descubriendo nuevas formas de explicar el univer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música, las artes, la arquitectura y la moda,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a decoración y ornamentación sofisticada se convirtieron en nor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rante el período Barroco los compositores eran empleados principalmente por las autoridades eclesiásticas y los miembros de la noblez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esto se le llamó el sistema de patronatos. Y como el patrón le pagaba al compositor por cada trabajo y decidía que tipo de música debía componer, esto limitó seriamente la creatividad y libertad del art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609300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ahoma"/>
              </a:rPr>
              <a:t>Vivaldi - Las Cuatro Es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ahoma"/>
              </a:rPr>
              <a:t>La Primav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Vivaldi%20-%20The%204%20Seasons%20The%20Spring%20Op,%208%20%20No.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765000"/>
            <a:ext cx="770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úsica instrumental llegó a ser tan importante como la música vocal individual ó co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período Barroco floreció la música para violín, órgano, arpa, flauta, oboe, trombón y trompetas. No se usaban todavía los instrumentos de percu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ás importantes compositores de esta época fueron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20908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1197000"/>
            <a:ext cx="7128000" cy="3384360"/>
          </a:xfrm>
          <a:prstGeom prst="rect">
            <a:avLst/>
          </a:prstGeom>
          <a:solidFill>
            <a:srgbClr val="993366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l Período Clás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( 1750 – 1820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6237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ozart - Sinfonía No. 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MOZART%20-%20Sinfonia%20No.40%20Sol%20men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76360" y="1052640"/>
            <a:ext cx="66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ños del período clásico se vivieron en una época de grandes cambios en el mundo. La Revolución Francesa y las Guerras Napoleónicas cambiaron la faz de Eur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Durante este período se logró que el público en general tuviera más acceso a la cultur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participara en las actividades artíst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mundo de la música, el sistema de patronatos empezó a desaparecer y fue reemplazado por los primeros conciertos públicos donde la gente tenía que pagar por asistir al ev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58920" y="1052640"/>
            <a:ext cx="712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ugar de los rápidos cambios de estilo y adornos del período Barroco,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a música del período clásico se caracterizó por ser simple, balanceada y no muy emo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ocida como “música absoluta”, las obras clásicas eran escritas no para bailar ni para celebraciones especiales sino por el placer de disfrutar la belleza de la mú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obras musicales se presentaban en salones especiales para conciertos ó recit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Tres nuevas formas instrumentales fueron desarroll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: el concierto, la sinfonía y la son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4000" y="6308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Beethoven - Sinfonía No. 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BEETHOVEN%20-%20Sinfonia%20No.9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87280" y="620640"/>
            <a:ext cx="66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sinfonías constaban de tres movimientos, el primero era rápido, el segundo era lento y el tercero terminaba también a un ritmo ráp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s sinfonías añadían un movimiento tipo bailable ó danza antes del último movimien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ena era el centro musical de Europa y la mayoría de los grandes compositores vivían buena parte de su tiempo en esa ciu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813780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197000"/>
            <a:ext cx="7128000" cy="3384360"/>
          </a:xfrm>
          <a:prstGeom prst="rect">
            <a:avLst/>
          </a:prstGeom>
          <a:solidFill>
            <a:srgbClr val="993366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l Período Román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( 1820 – 1920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63086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Chopin - Polonesa “ Heroica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CHOPIN%20-%20Polonaise%20%20Heroic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0:11:16Z</dcterms:created>
  <dc:creator>Alfredo Vazquez</dc:creator>
  <dc:description/>
  <dc:language>en-US</dc:language>
  <cp:lastModifiedBy>Alfredo Vazquez</cp:lastModifiedBy>
  <dcterms:modified xsi:type="dcterms:W3CDTF">2009-05-27T23:47:46Z</dcterms:modified>
  <cp:revision>12</cp:revision>
  <dc:subject/>
  <dc:title>Diapositiva 1</dc:title>
</cp:coreProperties>
</file>