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712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3804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0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712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3804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04000" y="301320"/>
            <a:ext cx="90716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200" indent="0">
              <a:lnSpc>
                <a:spcPct val="95000"/>
              </a:lnSpc>
              <a:spcAft>
                <a:spcPts val="1111"/>
              </a:spcAft>
              <a:tabLst>
                <a:tab algn="l" pos="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646200" indent="-216000">
              <a:lnSpc>
                <a:spcPct val="95000"/>
              </a:lnSpc>
              <a:spcAft>
                <a:spcPts val="83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861840" indent="-214200">
              <a:lnSpc>
                <a:spcPct val="95000"/>
              </a:lnSpc>
              <a:spcAft>
                <a:spcPts val="5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  <a:tab algn="l" pos="7893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077840" indent="-216000">
              <a:lnSpc>
                <a:spcPct val="95000"/>
              </a:lnSpc>
              <a:spcAft>
                <a:spcPts val="264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  <a:tab algn="l" pos="7893000"/>
                <a:tab algn="l" pos="8251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077840" indent="-216000"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077840" indent="-216000"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152360" y="466560"/>
            <a:ext cx="849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600" spc="-1" strike="noStrike">
                <a:solidFill>
                  <a:srgbClr val="000000"/>
                </a:solidFill>
                <a:latin typeface="Times New Roman"/>
              </a:rPr>
              <a:t>Por caridad…! salven a la rubia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303640" y="0"/>
            <a:ext cx="5976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735280" y="0"/>
            <a:ext cx="532908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69920" y="922320"/>
            <a:ext cx="3809880" cy="5715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164200" y="922320"/>
            <a:ext cx="380988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160720" y="971640"/>
            <a:ext cx="7416720" cy="57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es-ES_tradnl" sz="9600" spc="-1" strike="noStrike">
                <a:solidFill>
                  <a:srgbClr val="000000"/>
                </a:solidFill>
                <a:latin typeface="Times New Roman"/>
              </a:rPr>
              <a:t>Ya es tarde...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3135240" y="922320"/>
            <a:ext cx="381024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2182680" y="187488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58760" y="922320"/>
            <a:ext cx="3810240" cy="5715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148360" y="922320"/>
            <a:ext cx="383832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0440" y="922320"/>
            <a:ext cx="5162760" cy="5715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559480" y="922320"/>
            <a:ext cx="413388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51520" y="1071720"/>
            <a:ext cx="4133880" cy="5715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79480" y="1060560"/>
            <a:ext cx="371484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93760" y="1874880"/>
            <a:ext cx="5715000" cy="3809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932440" y="922320"/>
            <a:ext cx="380988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016000" y="0"/>
            <a:ext cx="612000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74600" y="922320"/>
            <a:ext cx="3810240" cy="5715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170320" y="922320"/>
            <a:ext cx="3810240" cy="5715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0T01:21:20Z</dcterms:created>
  <dc:creator>Juan</dc:creator>
  <dc:description/>
  <dc:language>en-US</dc:language>
  <cp:lastModifiedBy>Juan</cp:lastModifiedBy>
  <dcterms:modified xsi:type="dcterms:W3CDTF">2006-05-10T01:22:38Z</dcterms:modified>
  <cp:revision>1</cp:revision>
  <dc:subject/>
  <dc:title>Diapositiva 1</dc:title>
</cp:coreProperties>
</file>