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16.jpeg" ContentType="image/jpeg"/>
  <Override PartName="/ppt/media/image15.jpeg" ContentType="image/jpeg"/>
  <Override PartName="/ppt/media/75%20Clasica%20Beethoven%20-%20Silence%20piano.wav" ContentType="audio/x-wav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69A-9F5B-49D1-8EC7-849953E8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E47-AA93-44A0-8F59-D955BBA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D1C-6851-46CB-9D05-91436686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061-6A4A-41A0-9B4E-1BF089AA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D2B5A-230B-47C2-85C3-C706D4E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F4669-74C9-472D-898E-442E794A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FBE0-E339-49F0-9244-E8EDAD6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947CE-F3D1-43F2-B980-BFBF520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2B7F5-BF7A-449D-913B-1AADE45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F7F2-9BB7-4F08-9E18-384DBD4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4928-5EF8-4645-B446-443BE32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BBC-AE3C-4F60-8159-24CF76B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3189-B127-483D-BC54-C367BF1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FF7C-A8C1-4D9D-AAC4-AE34DA9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AA26E-881C-4EFE-A98A-B0AD0CB3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5FAD-3074-461B-BADE-A25BB243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35CDE-257B-456D-9826-8673E74F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D4C9-FB3A-4C9F-A2AA-7FAC3195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EBF5-8F83-4BD8-9EB2-F02BB99B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BF9A-5864-4DB4-AECE-E0B93347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7AB7-1712-4987-87D3-6A5C7792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D2B5-C518-42E1-BCCA-6941D63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063-5ABD-4F88-B478-7AFF4DD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1EC9-D0E9-4F99-8486-937698E5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662F-DA65-42B2-9BC5-EF96C7F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8051-C520-4147-9F8F-37452CE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0DAE-9E24-4AB7-B69C-3AF206B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6DED-CAA0-412F-A8A4-DC750DD1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706B-4BF1-44BA-9F31-14C04C75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6512-0F71-4349-9CC9-167765A6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2FA69-B851-4CDD-BD8E-3F147084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6859D-E464-4A8D-826A-396AEAAD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3EE89-5783-4E30-B0E5-31052C74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335-E4E4-4914-BDB9-0FF57C8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F696D-0818-4513-8092-E1CAFE06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650A9-669F-47BE-BB8E-DE291BA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18DAA-BDCE-452C-93AA-F086794B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48804-E4A4-4C9C-A109-FEEC8C53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7C14A-147F-487C-9D13-F026977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61CB8-3573-4B9A-B154-CFCD5E81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73475-557A-41FC-ACB5-4AC4BA2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BB378-B87F-450A-8B84-5EDE30D2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A1A76-8DD5-4D13-BE15-46D6D4D5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379F-A286-44E8-8C1D-91E537D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744-155F-4A7B-9473-97F63E5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75D0-D53B-4679-AE2C-B251685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AF2C-3024-4DAF-B625-20FA7CA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6CB8-4E62-47B3-873A-37A02B9B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9501-4AB3-42E4-A5CC-75B1248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C5DA-878A-4529-94E8-4D66C69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0495-A12E-4F54-A705-5B7BF82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F80D-A75B-4D47-85C8-23BC200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AFF3-65FE-4C74-A4C3-7D501BF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FCC6-5308-4A48-BC55-3C28EDB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CCC3-C0FB-43AB-9C55-BAFBC4D0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008-43A9-4751-A4ED-BE87FDE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9EFB-355B-41F5-B70F-3F1B8F3E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4E1-B037-4BA8-B2F8-D831E53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1AD-564A-4B37-81A3-F082FA9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ED7-D0CD-4564-A0DF-D30A455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D09-E247-43CE-A294-C379B276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BFCF-687A-4A6B-8028-AAF171C07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D51B-F842-4891-9818-1FCD052C9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2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318-24EE-492B-8437-E941C49D4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8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CB1-D693-46F4-8481-B87C14F6D9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75%20Clasica%20Beethoven%20-%20Silence%20piano.wav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990720"/>
            <a:ext cx="7772400" cy="55623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RTA DE  UN AMIGO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1905120"/>
            <a:ext cx="7391520" cy="34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Tahoma"/>
              </a:rPr>
              <a:t>¿</a:t>
            </a: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Como estás? Te escribo para decirte que te quiero y que me interesas muc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Te vi ayer cuando estábas platicando con tus amigos y aguardé todo el día con la esperanza de que quisieras platicar conmigo tambié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29200" y="6095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trega inmedi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75%20Clasica%20Beethoven%20-%20Silence%20pian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6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6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2590920"/>
            <a:ext cx="4343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Jesús te ama tanto que dió Su vida por ti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Él quiere ser parte de tu vida… Tu mejor amigo, tu guía y tu confidente.</a:t>
            </a:r>
            <a:br>
              <a:rPr sz="2800"/>
            </a:b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 </a:t>
            </a:r>
            <a:br>
              <a:rPr sz="2800"/>
            </a:br>
            <a:r>
              <a:rPr b="0" lang="es-SV" sz="2800" spc="-1" strike="noStrike">
                <a:solidFill>
                  <a:srgbClr val="cc9900"/>
                </a:solidFill>
                <a:latin typeface="Tahoma"/>
              </a:rPr>
              <a:t>¿</a:t>
            </a: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Te gustaría abrir la puerta de tu corazón y dejarlo entrar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Todo lo que tienes que hacer es decir la siguiente oración con sincer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28600" y="2743200"/>
            <a:ext cx="4343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Querido Jesús, 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Gracias por tu Amor incondicional y por todas tus bendiciones, perdóname por ignorarte tantas veces.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Yo sé que eres el Hijo de Dios y te pido que entres en mi corazón y perdones todos mis pecados. Guía mis pasos y ayúdame a incluirte en mi vida cotidiana y a compartir tu amor con otros. Amé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gradFill rotWithShape="0">
            <a:gsLst>
              <a:gs pos="0">
                <a:srgbClr val="f3cd63"/>
              </a:gs>
              <a:gs pos="50000">
                <a:srgbClr val="efba25"/>
              </a:gs>
              <a:gs pos="100000">
                <a:srgbClr val="f3cd63"/>
              </a:gs>
            </a:gsLst>
            <a:lin ang="5400000"/>
          </a:gra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2577960"/>
            <a:ext cx="7620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ECESITO MENSAJEROS PARA  ENTREGAR ESTA  MISIV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 FAVOR REMITELA A TODOS TUS AMIGOS, A CONOCIDOS Y  HASTA A DESCONOCIDOS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291960"/>
            <a:ext cx="76201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ATENCI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¡GRACIA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10080" y="5715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Fine Hand"/>
              </a:rPr>
              <a:t>Jesú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2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9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700"/>
                                  </p:stCondLst>
                                  <p:iterate type="lt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9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9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9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219320" y="1278000"/>
            <a:ext cx="70866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 caer la tarde, envié para tí un crepúsculo de lo más hermoso y una brisa fresca para que descansara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3733920"/>
            <a:ext cx="7086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o me dolió mucho, pero te sigo amando porque soy tu amigo incondi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19320" y="2743200"/>
            <a:ext cx="70102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ré y esperé más nunca llegast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1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91440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oche al verte dormir, tenía tantos deseos de acariciar tu frente, que derramé rayos de luna sobre tu almohada y sobre tu rostr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32767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a vez más esperé, deseando estar junto a ti para que pudiéramos plati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90720" y="4876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tan solo supieras cuántos regalos tengo para dart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1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85800" y="1676520"/>
            <a:ext cx="79246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r la mañana despertaste tarde y te fuiste apresuradamente sin acordarte nuevamente de mí, tu amig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quisieras y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usieras atención, podrías oírme cuando te digo: ¡TE AMO!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5800" y="121932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to de decírtelo en el azul del cielo y en el suave susurro del viento, en las hojas de los árboles y en los colores de las flores. En las brillantes estrellas y en las nubes de algod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4648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 Black"/>
                <a:ea typeface="Arial"/>
              </a:rPr>
              <a:t>TE</a:t>
            </a:r>
            <a:r>
              <a:rPr b="1" lang="en-US" sz="6600" spc="-1" strike="noStrike">
                <a:solidFill>
                  <a:srgbClr val="a50021"/>
                </a:solidFill>
                <a:latin typeface="Arial Black"/>
              </a:rPr>
              <a:t> AMO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13920" y="3930480"/>
            <a:ext cx="4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 Black"/>
              </a:rPr>
              <a:t>¡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4038480"/>
            <a:ext cx="1371600" cy="990720"/>
          </a:xfrm>
          <a:custGeom>
            <a:avLst/>
            <a:gdLst>
              <a:gd name="textAreaLeft" fmla="*/ 322200 w 1371600"/>
              <a:gd name="textAreaRight" fmla="*/ 1048320 w 1371600"/>
              <a:gd name="textAreaTop" fmla="*/ 116280 h 990720"/>
              <a:gd name="textAreaBottom" fmla="*/ 621360 h 99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72400" y="3581280"/>
            <a:ext cx="990720" cy="685800"/>
          </a:xfrm>
          <a:custGeom>
            <a:avLst/>
            <a:gdLst>
              <a:gd name="textAreaLeft" fmla="*/ 232920 w 990720"/>
              <a:gd name="textAreaRight" fmla="*/ 757440 w 9907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6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9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6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90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400"/>
                            </p:stCondLst>
                            <p:childTnLst>
                              <p:par>
                                <p:cTn id="1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9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9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9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2120" y="2286000"/>
            <a:ext cx="79246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66cc"/>
                </a:solidFill>
                <a:latin typeface="Tahoma"/>
              </a:rPr>
              <a:t>Te lo grito en las cascadas de agua que bajan de las montañas, y en los truenos y relámpagos de las tempestades, le doy canciones de amor a los pájaros para que te cant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9900"/>
                </a:solidFill>
                <a:latin typeface="Arial"/>
              </a:rPr>
              <a:t>Te envuelvo en el calor del sol y perfumo el aire con los aromas de la naturalez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i amor es lo más grande que existe!!!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320040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seo compartir contigo cada instante de tu vida, las pequeñas cosas, tus logros, tus fracasos y tus pen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761760" y="213336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cc9900"/>
                </a:solidFill>
                <a:latin typeface="Tahoma"/>
              </a:rPr>
              <a:t>Si tu quisieras podríamos pasarnos una eternidad juntos desde ahora y para siempre en el Cie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cc9900"/>
                </a:solidFill>
                <a:latin typeface="Tahoma"/>
              </a:rPr>
              <a:t>Te invito a un encuentro conmigo. La decisión es tuya. TE ESP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4191120" y="5029200"/>
            <a:ext cx="3962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cc9900"/>
                </a:solidFill>
                <a:latin typeface="Tahoma"/>
              </a:rPr>
              <a:t>Tu Amigo </a:t>
            </a:r>
            <a:r>
              <a:rPr b="0" i="1" lang="es-ES_tradnl" sz="3200" spc="-1" strike="noStrike">
                <a:solidFill>
                  <a:srgbClr val="cc9900"/>
                </a:solidFill>
                <a:latin typeface="Tahoma"/>
              </a:rPr>
              <a:t>Jesú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3808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QUIERO VIVIR EN TI Y QUE TU VIVAS EN MI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1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7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0:05:20Z</dcterms:created>
  <dc:creator>Brian</dc:creator>
  <dc:description/>
  <dc:language>en-US</dc:language>
  <cp:lastModifiedBy>User</cp:lastModifiedBy>
  <dcterms:modified xsi:type="dcterms:W3CDTF">2008-06-07T18:48:36Z</dcterms:modified>
  <cp:revision>91</cp:revision>
  <dc:subject/>
  <dc:title>Slide 1</dc:title>
</cp:coreProperties>
</file>