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08000" y="3260880"/>
            <a:ext cx="712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2444400"/>
            <a:ext cx="56883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ormal verdan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o último en piercing para mujere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os hombres de todo el país se se vuelven locos por conseguírselo a sus mujeres y novi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No deje Ud. escapar esta oportunidad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No le pesará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62040" y="549360"/>
            <a:ext cx="4218120" cy="57592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12:23Z</dcterms:created>
  <dc:creator>Windows</dc:creator>
  <dc:description/>
  <dc:language>en-US</dc:language>
  <cp:lastModifiedBy>Mr Luton</cp:lastModifiedBy>
  <dcterms:modified xsi:type="dcterms:W3CDTF">2005-11-28T17:25:58Z</dcterms:modified>
  <cp:revision>14</cp:revision>
  <dc:subject/>
  <dc:title>Piercing ...</dc:title>
</cp:coreProperties>
</file>