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10._Nocturno%20%20R.%20C..wav" ContentType="audio/x-wav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2BB-56F3-421C-9C5C-8E4C605C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867-DDF6-41AA-8693-38232FBD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BC3-8053-420D-A987-B77483CE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776-F571-49D8-84F9-253663AF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0A2-607E-4865-9A8B-828B0130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D7C-18C8-4632-A133-C0055960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EA8-1F3C-46CD-9611-149D8B99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5B5-7B72-4CC1-A911-814C035E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5E8-422D-4B18-83CA-CA11D398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C58-13C4-457B-A39F-0C593BD9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B42-BAFB-4B28-8F32-CA816E58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4448-50A2-456C-BDB8-C527190A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2FA6-7F14-47E0-A4EE-94075D5083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9/Winston_Churchill_verl_sst_das_Geb_ude_der_Admiralt_t_%281912%29.jp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10._Nocturno%20%20R.%20C.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Imagen:Winston Churchill verl sst das Geb ude der Admiralt t (1912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189000"/>
            <a:ext cx="2067120" cy="4667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755640" y="5084640"/>
            <a:ext cx="741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R WINSTON CHURC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rimer Ministro de Ingla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remio Nobel de Literatura 19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90734346_4df6f47aa3"/>
          <p:cNvPicPr/>
          <p:nvPr/>
        </p:nvPicPr>
        <p:blipFill>
          <a:blip r:embed="rId1"/>
          <a:stretch/>
        </p:blipFill>
        <p:spPr>
          <a:xfrm>
            <a:off x="3562200" y="0"/>
            <a:ext cx="55818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90734346_4df6f47aa3"/>
          <p:cNvPicPr/>
          <p:nvPr/>
        </p:nvPicPr>
        <p:blipFill>
          <a:blip r:embed="rId2"/>
          <a:stretch/>
        </p:blipFill>
        <p:spPr>
          <a:xfrm>
            <a:off x="0" y="0"/>
            <a:ext cx="55818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126000" y="5652720"/>
            <a:ext cx="865548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asé más de la mitad de mi vida preocupánd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or cosas que jamás iban a ocurrir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libros019"/>
          <p:cNvPicPr/>
          <p:nvPr/>
        </p:nvPicPr>
        <p:blipFill>
          <a:blip r:embed="rId1"/>
          <a:stretch/>
        </p:blipFill>
        <p:spPr>
          <a:xfrm>
            <a:off x="2987640" y="0"/>
            <a:ext cx="2973600" cy="5877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0" y="5879880"/>
            <a:ext cx="914400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unca en el campo de los conflictos humanos, tantos le debieron tanto, a tan poc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69385239_19a84853e6"/>
          <p:cNvPicPr/>
          <p:nvPr/>
        </p:nvPicPr>
        <p:blipFill>
          <a:blip r:embed="rId1"/>
          <a:srcRect l="0" t="37411" r="0" b="0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470520" y="5985000"/>
            <a:ext cx="813132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éxito es aprender a ir de fracaso en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n desesperars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452522098_0d4cb9ad00"/>
          <p:cNvPicPr/>
          <p:nvPr/>
        </p:nvPicPr>
        <p:blipFill>
          <a:blip r:embed="rId1"/>
          <a:stretch/>
        </p:blipFill>
        <p:spPr>
          <a:xfrm>
            <a:off x="179280" y="0"/>
            <a:ext cx="8713800" cy="5599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611280" y="5607000"/>
            <a:ext cx="7885080" cy="125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ersonalmente siempre estoy dispuesto a aprender, aunque no siempre me gusta que me den leccione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573408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as un recuento electoral, sólo importa quién es el ganador. Todos los demás son perdedore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444760307_df9790bf0c"/>
          <p:cNvPicPr/>
          <p:nvPr/>
        </p:nvPicPr>
        <p:blipFill>
          <a:blip r:embed="rId1"/>
          <a:srcRect l="0" t="0" r="0" b="46600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spaceball"/>
          <p:cNvPicPr/>
          <p:nvPr/>
        </p:nvPicPr>
        <p:blipFill>
          <a:blip r:embed="rId1"/>
          <a:stretch/>
        </p:blipFill>
        <p:spPr>
          <a:xfrm>
            <a:off x="2986200" y="1047600"/>
            <a:ext cx="3171600" cy="4762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2044553708_5cbd40d66e"/>
          <p:cNvPicPr/>
          <p:nvPr/>
        </p:nvPicPr>
        <p:blipFill>
          <a:blip r:embed="rId2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2044553708_5cbd40d66e"/>
          <p:cNvPicPr/>
          <p:nvPr/>
        </p:nvPicPr>
        <p:blipFill>
          <a:blip r:embed="rId3"/>
          <a:srcRect l="0" t="0" r="48776" b="0"/>
          <a:stretch/>
        </p:blipFill>
        <p:spPr>
          <a:xfrm>
            <a:off x="2340000" y="0"/>
            <a:ext cx="2340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2044553708_5cbd40d66e"/>
          <p:cNvPicPr/>
          <p:nvPr/>
        </p:nvPicPr>
        <p:blipFill>
          <a:blip r:embed="rId4"/>
          <a:srcRect l="0" t="0" r="42497" b="0"/>
          <a:stretch/>
        </p:blipFill>
        <p:spPr>
          <a:xfrm>
            <a:off x="4572000" y="0"/>
            <a:ext cx="26272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2044553708_5cbd40d66e"/>
          <p:cNvPicPr/>
          <p:nvPr/>
        </p:nvPicPr>
        <p:blipFill>
          <a:blip r:embed="rId5"/>
          <a:srcRect l="11635" t="0" r="0" b="0"/>
          <a:stretch/>
        </p:blipFill>
        <p:spPr>
          <a:xfrm>
            <a:off x="6948360" y="0"/>
            <a:ext cx="21956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3"/>
          <p:cNvSpPr/>
          <p:nvPr/>
        </p:nvSpPr>
        <p:spPr>
          <a:xfrm>
            <a:off x="0" y="4940280"/>
            <a:ext cx="914400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ando Churchill cumplió 80 años un periodista menor de 30 fue a fotografiarlo y le dijo:- Sir Winston, espero fotografiarlo nuevamente cuando usted cumpla 90 añ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spuesta de Churchil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¿Por qué no? ¡Ud. parece bastante salud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3479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haw: “Estimado Winston Churchil y muy digno primer ministro: Tengo el honor de invitarlo al estreno de mi obra Pigmalión. Venga y traiga un amigo… si lo tien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irmado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ernard Sh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puesta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“Agradezco al ilustre escritor la honrosa invitación. Infelizmente no podré concurrir a la primera presentación. Iré a la segunda… si la ha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irmado  Winston Churchill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33400799_a73fcebafe"/>
          <p:cNvPicPr/>
          <p:nvPr/>
        </p:nvPicPr>
        <p:blipFill>
          <a:blip r:embed="rId1"/>
          <a:srcRect l="0" t="0" r="0" b="25801"/>
          <a:stretch/>
        </p:blipFill>
        <p:spPr>
          <a:xfrm>
            <a:off x="2916360" y="0"/>
            <a:ext cx="3257280" cy="3533760"/>
          </a:xfrm>
          <a:prstGeom prst="rect">
            <a:avLst/>
          </a:prstGeom>
          <a:ln w="0">
            <a:noFill/>
          </a:ln>
        </p:spPr>
      </p:pic>
    </p:spTree>
  </p:cSld>
  <p:transition advTm="22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0" y="45752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cedió en el Parlamento inglés. Fue durante uno de los discursos de Churchill en el que una diputada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osición, pidió la palab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os sabían que a Churchill no le gustaba que interrumpiesen sus discursos. Pero la palabra le fue dada a la diputada y ella dijo en tono alto y cla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ooks-old1"/>
          <p:cNvPicPr/>
          <p:nvPr/>
        </p:nvPicPr>
        <p:blipFill>
          <a:blip r:embed="rId1"/>
          <a:stretch/>
        </p:blipFill>
        <p:spPr>
          <a:xfrm>
            <a:off x="971640" y="0"/>
            <a:ext cx="7092720" cy="449100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50920" y="4210200"/>
            <a:ext cx="86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‘¡Sr. Ministro, si Vuestra Excelencia fuese mi marido, yo pondría veneno en su café!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urchill, con mucha calma, se quitó los lentes, y en aquel silencio en el que todos estaban esperando la respuesta exclamó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¡ Y si yo fuese su marido, me tomaba ese café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spaceball"/>
          <p:cNvPicPr/>
          <p:nvPr/>
        </p:nvPicPr>
        <p:blipFill>
          <a:blip r:embed="rId1"/>
          <a:stretch/>
        </p:blipFill>
        <p:spPr>
          <a:xfrm>
            <a:off x="2190600" y="1305000"/>
            <a:ext cx="4762800" cy="424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libros018"/>
          <p:cNvPicPr/>
          <p:nvPr/>
        </p:nvPicPr>
        <p:blipFill>
          <a:blip r:embed="rId2"/>
          <a:srcRect l="0" t="7479" r="0" b="6017"/>
          <a:stretch/>
        </p:blipFill>
        <p:spPr>
          <a:xfrm>
            <a:off x="684360" y="0"/>
            <a:ext cx="7705440" cy="441324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50920" y="404064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r Winston Leonard Spencer Churchill, (1874-1965 Londres) fue un estadista, historiador, escritor y orador británico. Recibió el Premio Nobel de Literatura en 1953. Se le concedió por sus obras históricas, sus artículos periodísticos y por sus brillantes discursos, que lo erigen como uno de los principales oradores del siglo XX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libros004"/>
          <p:cNvPicPr/>
          <p:nvPr/>
        </p:nvPicPr>
        <p:blipFill>
          <a:blip r:embed="rId1"/>
          <a:srcRect l="0" t="4661" r="0" b="3860"/>
          <a:stretch/>
        </p:blipFill>
        <p:spPr>
          <a:xfrm>
            <a:off x="3132000" y="0"/>
            <a:ext cx="3016440" cy="3456000"/>
          </a:xfrm>
          <a:prstGeom prst="rect">
            <a:avLst/>
          </a:prstGeom>
          <a:ln w="0">
            <a:noFill/>
          </a:ln>
        </p:spPr>
      </p:pic>
    </p:spTree>
  </p:cSld>
  <p:transition advTm="7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libros_1"/>
          <p:cNvPicPr/>
          <p:nvPr/>
        </p:nvPicPr>
        <p:blipFill>
          <a:blip r:embed="rId1"/>
          <a:stretch/>
        </p:blipFill>
        <p:spPr>
          <a:xfrm>
            <a:off x="1332000" y="0"/>
            <a:ext cx="6553080" cy="5537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84360" y="5418000"/>
            <a:ext cx="8064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"Un fanático es alguien que no puede cambiar de opinión y no quiere cambiar de tema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229537162_b72bdb85c2"/>
          <p:cNvPicPr/>
          <p:nvPr/>
        </p:nvPicPr>
        <p:blipFill>
          <a:blip r:embed="rId1"/>
          <a:stretch/>
        </p:blipFill>
        <p:spPr>
          <a:xfrm>
            <a:off x="2327400" y="0"/>
            <a:ext cx="68166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229537162_b72bdb85c2"/>
          <p:cNvPicPr/>
          <p:nvPr/>
        </p:nvPicPr>
        <p:blipFill>
          <a:blip r:embed="rId2"/>
          <a:stretch/>
        </p:blipFill>
        <p:spPr>
          <a:xfrm>
            <a:off x="0" y="0"/>
            <a:ext cx="6816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290520" y="5753160"/>
            <a:ext cx="859608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falla de nuestra época consiste en que 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ombres no quieren ser útiles sino important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337760" y="5911560"/>
            <a:ext cx="640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actitudes son más import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que las aptitude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libros011"/>
          <p:cNvPicPr/>
          <p:nvPr/>
        </p:nvPicPr>
        <p:blipFill>
          <a:blip r:embed="rId1"/>
          <a:stretch/>
        </p:blipFill>
        <p:spPr>
          <a:xfrm>
            <a:off x="2916360" y="0"/>
            <a:ext cx="3246480" cy="59500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5943600"/>
            <a:ext cx="9144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040" rIns="59040" tIns="29520" bIns="29520" anchor="t">
            <a:spAutoFit/>
          </a:bodyPr>
          <a:p>
            <a:pPr algn="ctr">
              <a:tabLst>
                <a:tab algn="l" pos="0"/>
                <a:tab algn="l" pos="5904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u creas tu propio univers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durante el camin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paceball"/>
          <p:cNvPicPr/>
          <p:nvPr/>
        </p:nvPicPr>
        <p:blipFill>
          <a:blip r:embed="rId1"/>
          <a:stretch/>
        </p:blipFill>
        <p:spPr>
          <a:xfrm>
            <a:off x="0" y="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70033760_7f502220a2"/>
          <p:cNvPicPr/>
          <p:nvPr/>
        </p:nvPicPr>
        <p:blipFill>
          <a:blip r:embed="rId2"/>
          <a:stretch/>
        </p:blipFill>
        <p:spPr>
          <a:xfrm>
            <a:off x="0" y="0"/>
            <a:ext cx="9144000" cy="582624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spaceball"/>
          <p:cNvPicPr/>
          <p:nvPr/>
        </p:nvPicPr>
        <p:blipFill>
          <a:blip r:embed="rId1"/>
          <a:stretch/>
        </p:blipFill>
        <p:spPr>
          <a:xfrm>
            <a:off x="2190600" y="1523880"/>
            <a:ext cx="4762800" cy="381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1105402694_50a80af3af"/>
          <p:cNvPicPr/>
          <p:nvPr/>
        </p:nvPicPr>
        <p:blipFill>
          <a:blip r:embed="rId2"/>
          <a:srcRect l="0" t="0" r="0" b="6208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539640" y="5300640"/>
            <a:ext cx="820908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 optimista ve una oportunidad en toda calamidad,un pesimista ve una calamidad en toda oportunidad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1042920" y="5911560"/>
            <a:ext cx="69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buena conversación debe agotar el tema, no a los interlocutore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libros00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20848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12910703_3001a3fa2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5445000"/>
            <a:ext cx="914400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alor es lo que se necesita para levantarse y hablar; pero también es lo que se requiere para sentarse y escucha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042920" y="54846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diplomático es una persona que primero piensa dos veces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inalmente no dice nad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Churchill_franco"/>
          <p:cNvPicPr/>
          <p:nvPr/>
        </p:nvPicPr>
        <p:blipFill>
          <a:blip r:embed="rId1"/>
          <a:stretch/>
        </p:blipFill>
        <p:spPr>
          <a:xfrm>
            <a:off x="2987640" y="404640"/>
            <a:ext cx="3162240" cy="498168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1:57:31Z</dcterms:created>
  <dc:creator> ALFONSINA</dc:creator>
  <dc:description/>
  <dc:language>en-US</dc:language>
  <cp:lastModifiedBy>Dr.Alejandro E Baca Olea</cp:lastModifiedBy>
  <dcterms:modified xsi:type="dcterms:W3CDTF">2008-07-30T00:36:23Z</dcterms:modified>
  <cp:revision>3</cp:revision>
  <dc:subject/>
  <dc:title>"Un fanático es alguien que no puede cambiar de opinión y no quiere cambiar de tema." </dc:title>
</cp:coreProperties>
</file>