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961-DBCC-4A04-A414-D0011F50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DDA-281A-457C-83EB-0CCAE760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0A6-A641-4E8B-AE25-7506F25F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C57-90A4-416C-85CF-AA1CB2C0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DF0-CB34-4C04-B3B2-115E8931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B92-FC4F-48BB-99E5-D94576D4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628-F829-4A0F-B2A3-4FE8BA24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286-51E2-487F-B2D3-8AC5137D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78B-6BAC-49BB-BCEF-FB3F280C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C96-2D27-4231-BCAE-7F78FECE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C43-192D-424D-9A18-705A76E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F59-D13A-41FB-B546-FE15ABE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F9EA-56E8-481C-A253-C2D0CCA18C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2:00Z</dcterms:created>
  <dc:creator>Ge -- http://groups.yahoo.com/group/adultPPSfiles/</dc:creator>
  <dc:description/>
  <dc:language>en-US</dc:language>
  <cp:lastModifiedBy>Administrador</cp:lastModifiedBy>
  <dcterms:modified xsi:type="dcterms:W3CDTF">2007-08-22T15:43:51Z</dcterms:modified>
  <cp:revision>12</cp:revision>
  <dc:subject/>
  <dc:title>Dia 1</dc:title>
</cp:coreProperties>
</file>