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image27.jpeg" ContentType="image/jpeg"/>
  <Override PartName="/ppt/media/Joana%20Jimenez-Noches%20Bonitas%20de%20Espa%C3%B1a-%20Se%20llama%20Copla_NEW.wav" ContentType="audio/x-wav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29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CC2-B0E3-428D-AD53-3DE8D3B9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49A-3A0B-4DA7-B05F-E58EDD6D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173-E822-45DA-9511-939BEB2F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8DC-3E91-4A98-A067-7084DC44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2E5-8118-4777-9409-85DB724F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08A-C5D0-4554-8DF0-29E65049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89B-68CE-457C-AD88-E5F14430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6A3-CAB7-429A-BB3F-BF4270B1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3E5-1B40-41C8-89FD-4AA587CC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7BC-7BE5-4A9A-A320-2CB2DB69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9B2-F2CC-4CB4-8384-C9E5D1AE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E2D-7349-4AB3-9EE9-5B73FC1E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5CB5-DB29-4E72-9B33-51BE44E91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Joana%20Jimenez-Noches%20Bonitas%20de%20Espa&#241;a-%20Se%20llama%20Copla_NE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00720" y="40464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4af"/>
                </a:solidFill>
                <a:latin typeface="Agency FB"/>
              </a:rPr>
              <a:t>Avance auto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520" y="38160"/>
            <a:ext cx="9048960" cy="67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80000" y="404640"/>
            <a:ext cx="33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Fallas de Val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58920" y="587700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Palma de Mallor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38240"/>
            <a:ext cx="9225000" cy="6524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602136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Semana Santa en Sev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5468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796000" y="2565360"/>
            <a:ext cx="252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La Giral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De Sev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mb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520" y="38160"/>
            <a:ext cx="9096480" cy="6816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24360" y="5445000"/>
            <a:ext cx="47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Feria de Jerez de la Frontera (Cádiz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32000" y="602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Acueducto de Sego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mb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53880"/>
            <a:ext cx="9144000" cy="653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80000" y="5877000"/>
            <a:ext cx="15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Mad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56000" y="59500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Val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890640"/>
            <a:ext cx="9144000" cy="6067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36720" y="266760"/>
            <a:ext cx="33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Mezquita de Córdo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43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56000" y="6021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Mál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1640" y="602136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Alic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62434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Mérida- Puente Ro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12000" y="26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Mel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5280" y="549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Santiago de Compos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mb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76360" y="6021360"/>
            <a:ext cx="51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Tenerife -El Te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95640" y="62164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Bilb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067280" y="6021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Àvi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916360" y="580536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Tol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mb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520" y="-157320"/>
            <a:ext cx="9048960" cy="7172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771640" y="189000"/>
            <a:ext cx="60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Gibraltar desde La Línea de la Concepción (Cádiz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7 CuadroTexto"/>
          <p:cNvSpPr/>
          <p:nvPr/>
        </p:nvSpPr>
        <p:spPr>
          <a:xfrm>
            <a:off x="4211640" y="5299200"/>
            <a:ext cx="471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1442880"/>
            <a:ext cx="7920000" cy="3972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348000" y="2492280"/>
            <a:ext cx="328608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ve a great day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 advTm="14000">
    <p:comb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51280" y="522936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Zaragoza- Río Eb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mb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520" y="189000"/>
            <a:ext cx="9048960" cy="6038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80000" y="621648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Alme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73080" y="3492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5589720"/>
            <a:ext cx="31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Cartagena (Murci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mb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7280" y="5877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Ceu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5877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Barcelona (Paseo Marítim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40000" y="573408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Santa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mb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635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32000" y="59500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f4af"/>
                </a:solidFill>
                <a:latin typeface="Agency FB"/>
              </a:rPr>
              <a:t>Alhambra de Gr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1:11:04Z</dcterms:created>
  <dc:creator>Maria de los Angeles</dc:creator>
  <dc:description/>
  <dc:language>en-US</dc:language>
  <cp:lastModifiedBy>Fundacio</cp:lastModifiedBy>
  <dcterms:modified xsi:type="dcterms:W3CDTF">2008-12-09T17:31:06Z</dcterms:modified>
  <cp:revision>11</cp:revision>
  <dc:subject/>
  <dc:title>Noches de españa</dc:title>
</cp:coreProperties>
</file>