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32F-9EE7-42BD-AE7E-EA832407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8A4-8D3F-4356-8B24-FB18032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A35-FB2B-4200-BE51-96B6025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8CF-AB7D-4F5D-B91C-2900B446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D7E-9777-41D2-B7A4-88741C4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B59-3202-475B-9D61-A476A47A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214-A044-4F90-BB9C-9B86781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500-6D27-4EDC-ACB7-66FFF84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B3-2A21-4F59-A6DF-C9CA462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51D-4484-43C1-86BC-58C023B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C55-D3AE-4E7B-8CE0-EE1E771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4BC-25B0-4ACD-AFA6-4977120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A86-9591-48C7-A450-19DC7AF89A9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76560"/>
            <a:ext cx="685800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Arial"/>
              </a:rPr>
              <a:t>LO ULTIMO EN TECNOLO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0" y="2073240"/>
            <a:ext cx="6856560" cy="783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UMA DE 1.3MB DE NOKIA QUE GRABA LO QUE ESC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TALLAS MOVILES DE CONTACTO CON PANTALLAS ADJUNTA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37524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5000" y="992160"/>
            <a:ext cx="5197680" cy="8913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 MAS EXTRAÑO DE SAMSUNG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80" y="1568520"/>
            <a:ext cx="5870520" cy="8121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 MOVIL/COMPUTADORA CON PANTALLA EXPANDIB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2280" y="1496880"/>
            <a:ext cx="5229000" cy="8409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000" y="27252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 DVD TV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3360" y="1424160"/>
            <a:ext cx="6162840" cy="7834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...Y SUS CONTROLE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776160"/>
            <a:ext cx="6264360" cy="4721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3360" y="5597640"/>
            <a:ext cx="6237360" cy="4308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EFONO-BRUJULA DE CONTACT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2280" y="1136520"/>
            <a:ext cx="5445000" cy="3789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9360" y="5313240"/>
            <a:ext cx="5734080" cy="4203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3000" y="272880"/>
            <a:ext cx="6335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NUEVO DISEÑO MOUS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25360" y="992160"/>
            <a:ext cx="4561200" cy="8913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ANTALLA FLEXIBLE SONY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LAMPARA COMPUTADOR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9360" y="0"/>
            <a:ext cx="58402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720880"/>
            <a:ext cx="6858000" cy="4434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BELLOS DISEÑOS DE GRIF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8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8816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685800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A NUEVA TIN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5000" y="920880"/>
            <a:ext cx="5349960" cy="8985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BAÑO ENCUBIERT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9360" y="776160"/>
            <a:ext cx="5756040" cy="9129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685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PA QUE AHORRA ENERGIA DE DIA E ILUMINA DE NOCH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6796080" cy="8769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ONTROL REMOTO MULTIUSO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360520"/>
            <a:ext cx="6858000" cy="4978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COCINA DEL FUTURO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0166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90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662440"/>
            <a:ext cx="6858000" cy="424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DUCHA ILUMINAD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712880"/>
            <a:ext cx="6845400" cy="7257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8888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MUEBLE INTELIGENT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03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7920" y="5024520"/>
            <a:ext cx="4454640" cy="4881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00160"/>
            <a:ext cx="6858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UENTE DE SOPORTE SIMPLE EN MALAS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3832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APEL ELECTRONICO DE FACIL CORRECCION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144880"/>
            <a:ext cx="6858000" cy="6897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96720"/>
            <a:ext cx="6172200" cy="10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UERTAS ILUMINADA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97000" y="0"/>
            <a:ext cx="47991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6858000" cy="8409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44160"/>
            <a:ext cx="6858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CICLETA PARA TODA LA FAMIL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332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000" y="84888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COMEDOR-MESA DE BILLAR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61387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1208160"/>
            <a:ext cx="6021360" cy="869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EVOS EDIFICIOS EN CORE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865600"/>
            <a:ext cx="6858000" cy="537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3360" y="1065240"/>
            <a:ext cx="6172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OFICINA PLEGABL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0640" y="0"/>
            <a:ext cx="567684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52640" y="1424160"/>
            <a:ext cx="4827600" cy="84819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685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EVA CAMARA DE SAMSUNG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4640" y="1281240"/>
            <a:ext cx="6064560" cy="8264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 MP3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368520"/>
            <a:ext cx="6858000" cy="4865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ESTACION MOVIL DE COCIN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6858000" cy="430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584680"/>
            <a:ext cx="6858000" cy="4321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GURO DE PANTALL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464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S DISEÑOS DE PEC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170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4680" y="1568520"/>
            <a:ext cx="6862680" cy="725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S PLEGA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6640" y="1136520"/>
            <a:ext cx="5213160" cy="876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68580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MPUTADORA CON 3 PANTALLA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9000" y="1136520"/>
            <a:ext cx="6406920" cy="819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858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 CURVA DE APP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2280" y="1352520"/>
            <a:ext cx="5467320" cy="855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MESA COMPUTADOR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9000" y="1281240"/>
            <a:ext cx="6392880" cy="7977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858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LEFONO MOVIL EN FORMA DE ENCENDEDOR TRANSPARENT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52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51560"/>
            <a:ext cx="68580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59:19Z</dcterms:created>
  <dc:creator>Luís Gomes</dc:creator>
  <dc:description/>
  <dc:language>en-US</dc:language>
  <cp:lastModifiedBy>Network Services</cp:lastModifiedBy>
  <dcterms:modified xsi:type="dcterms:W3CDTF">2009-04-08T16:34:44Z</dcterms:modified>
  <cp:revision>4</cp:revision>
  <dc:subject/>
  <dc:title>Slide 1</dc:title>
</cp:coreProperties>
</file>