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7.jpeg" ContentType="image/jpeg"/>
  <Override PartName="/ppt/media/NEW1_01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3F5-C8C3-4FF1-832E-B1E90F88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623-3022-4839-BCE2-E4472F85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326-8D41-4CA8-B0EC-4EA3E66F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AA4-59E7-49AD-B629-4BCAD258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AC0-F944-415F-B098-70E6D723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F2C-9843-4B8F-8586-CAF9FDC2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8C5-2310-4816-91A1-22F131BC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416-31F9-4220-8F7C-C289883E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59F-D3D7-45B4-B873-0E3C036D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E63-59BA-4C54-ACAC-F914616C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02E-37F4-460C-A36E-A5BF9329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C1A-1123-41B4-BBBD-D14A7086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D13A-D328-433E-8D8D-C026B93FDA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EW1_0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66688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Book Antiqua"/>
                <a:ea typeface="Arial"/>
              </a:rPr>
              <a:t>WHO NEED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Book Antiqua"/>
                <a:ea typeface="Arial"/>
              </a:rPr>
              <a:t>BABYSITTER?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65200" y="3733920"/>
            <a:ext cx="60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22:45Z</dcterms:created>
  <dc:creator>Elisa Sánchez de Mancini</dc:creator>
  <dc:description/>
  <dc:language>en-US</dc:language>
  <cp:lastModifiedBy>Elisa Sánchez de Mancini</cp:lastModifiedBy>
  <dcterms:modified xsi:type="dcterms:W3CDTF">2009-08-08T14:40:01Z</dcterms:modified>
  <cp:revision>2</cp:revision>
  <dc:subject/>
  <dc:title>Diapositiva 1</dc:title>
</cp:coreProperties>
</file>