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520-BA65-4B40-858E-B51B73CC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4AF-F5C2-482B-BA5B-C9971DAF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088-FD0D-4824-B7C9-39ADF883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E37-1A84-4145-A4DE-72BAEEDB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734-EEBC-433D-BA1E-2A69504E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F0B9-E029-4A2A-8160-587225D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899A-2A83-468E-890F-94BDACB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C674-666A-4AC1-B129-8FF1C29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0AFB-7905-4D24-8819-46929EB7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8B6E-312B-42D8-A92E-337BB08B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6008-E8C4-48FF-A811-A18AA40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2B5-9402-45A5-9BD6-178BC2E1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FB14-051D-490E-AFDC-C24503B9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174E-FD0A-4A2D-BD01-F79DB92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43A-195D-4610-94AD-D04D430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D3E-280C-4D6C-9D2D-7B54DBCF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8D0-63D9-4FD5-8A5B-9C2250B4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1A8-90E5-4F8C-BC36-480D4111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F2F-5806-4CC4-82AA-68C381C1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2EB-5F50-4D2D-B6EF-25752EB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EF3-EF9D-44E2-9932-F38AF162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C6A-1DAB-455D-A03E-E5D0E0C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2AD-CD81-4640-AE0A-48D9C19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2F4-AA22-4D9B-AC62-5CAFECE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C1A1-3B04-48B3-A0F2-C74BC9ACE4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48D4-748E-4124-B915-7B2E680F841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 Narrow"/>
              </a:rPr>
              <a:t>AVISO IMPORTANTE !!!!! </a:t>
            </a:r>
            <a:br>
              <a:rPr sz="3200"/>
            </a:br>
            <a:r>
              <a:rPr b="1" lang="pt-BR" sz="3200" spc="-1" strike="noStrike">
                <a:solidFill>
                  <a:srgbClr val="ffffcc"/>
                </a:solidFill>
                <a:latin typeface="Arial Narrow"/>
              </a:rPr>
              <a:t>                     Maníaco en Mexicali!                           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ffcc"/>
                </a:solidFill>
                <a:latin typeface="Arial Narrow"/>
              </a:rPr>
              <a:t>Anexas unas fotos de un  indivíduo de nombre Genésio Alves Pinto, que está siendo buscado por mantener mujeres en cautiverio.           </a:t>
            </a:r>
            <a:br>
              <a:rPr sz="3200"/>
            </a:br>
            <a:r>
              <a:rPr b="1" lang="pt-BR" sz="3200" spc="-1" strike="noStrike">
                <a:solidFill>
                  <a:srgbClr val="ffffcc"/>
                </a:solidFill>
                <a:latin typeface="Arial Narrow"/>
              </a:rPr>
              <a:t>                                                                     </a:t>
            </a:r>
            <a:br>
              <a:rPr sz="3200"/>
            </a:br>
            <a:r>
              <a:rPr b="1" lang="pt-BR" sz="3200" spc="-1" strike="noStrike">
                <a:solidFill>
                  <a:srgbClr val="ffffcc"/>
                </a:solidFill>
                <a:latin typeface="Arial Narrow"/>
              </a:rPr>
              <a:t>El ataca en las principales calles de Mexicali. Sólo en el Blvd. Lázaro Cárdenas ataco 93 mujeres que viajaban solas. Pasen este mensaje a todas las mujeres que conozcan..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409680"/>
            <a:ext cx="381024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10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3981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0719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068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19700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Times New Roman"/>
              </a:rPr>
              <a:t>PD: No me reenvíen este mensaj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Times New Roman"/>
              </a:rPr>
              <a:t>No voy a estar aquí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Times New Roman"/>
              </a:rPr>
              <a:t>Ya estoy saliendo para Mexicali, donde se le vió por última vez..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21:54:39Z</dcterms:created>
  <dc:creator>Makelim</dc:creator>
  <dc:description/>
  <dc:language>en-US</dc:language>
  <cp:lastModifiedBy>user</cp:lastModifiedBy>
  <dcterms:modified xsi:type="dcterms:W3CDTF">2008-02-03T01:35:55Z</dcterms:modified>
  <cp:revision>5</cp:revision>
  <dc:subject/>
  <dc:title>Meninas...AVISO IMPORTANTE !!!!! Maníaco!                            Anexas as fotos do individuo de nome Genésio Alves Pinto, que está sendo procurado por manter mulheres em cativeiro.                                                                                  Ele ataca nas principais estradas e também na cidade. Só na BR 101 ele atacou 93 mulheres que viajavam sozinhas. Passem para as mães, amigas, namoradas, esposas, casos, amantes...</dc:title>
</cp:coreProperties>
</file>