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A10-DB2F-4A11-A566-0699155C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DC1-D949-4956-B480-7A6A83AE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8C5-9DA4-4984-8373-1C039307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C3D-D9BA-4B36-8303-D1F03FEE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BD7-16DA-48E2-B1FE-9F735D8B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072-C557-4EFF-89C2-78AB03BC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456-E1A2-4154-9D68-31776203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645-3A26-48F1-9363-4488D8D3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562-1613-4282-B02C-3CE1F9B3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DA8-8170-4DEE-9005-024D429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022-3A15-4472-8B7F-DDDA5FC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351-B9CD-416D-A9EE-601A1DF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42DF-DED8-4C83-B066-FB42563CC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3760" y="0"/>
            <a:ext cx="4415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28600" y="500040"/>
            <a:ext cx="93726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0:14:25Z</dcterms:created>
  <dc:creator>sergio</dc:creator>
  <dc:description/>
  <dc:language>en-US</dc:language>
  <cp:lastModifiedBy>Administrador</cp:lastModifiedBy>
  <dcterms:modified xsi:type="dcterms:W3CDTF">2007-08-22T15:44:02Z</dcterms:modified>
  <cp:revision>5</cp:revision>
  <dc:subject/>
  <dc:title>Slide sem título </dc:title>
</cp:coreProperties>
</file>