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Peliculas-Exodo.wav" ContentType="audio/x-wav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2D61-AC25-41F2-9B2D-8FF3E90F6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2993-1225-426F-8C20-3C7B71D4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D11C-53C0-4047-BC61-CADB306D2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50DD-F3A6-49BD-985F-98E29D8D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2976-80B5-4958-A1C1-74986B595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F131-224C-4411-99E8-377C70BD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9270-28B7-4187-9847-1E6807C9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25BE-83A0-4758-A4F4-5065B02F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CDCD-F860-4E4E-91DD-C339BF2A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2D03-E025-42EE-B66C-97BC2943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53C0-33CA-49FF-83B4-B4827BB2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82CD-7922-478E-9848-51AFFFC5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9E13-B23D-4866-BE41-A778CDFE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F169-07F9-4630-B6AB-D4DD34E5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523B-EE61-42AA-A7F7-F9BBE5C9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D1D4-A980-40D6-B970-870B8CCA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DDED-8A8F-4ADA-A7DB-03B680DFB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3266-1DA1-4F69-8C31-C8A9DD34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9CD6-68B7-4657-BCE5-467B43C0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2B5C-43F9-46D4-84DC-9B95B498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4322-3BF6-4465-9BD9-F6BC6DFE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EB8F-CF54-4045-8B78-8338BE58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EEEE-B163-48DC-8A66-DADACE2E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78E3-DB0D-475E-A07C-590ABDFD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4E8A-7E15-4D5B-87F2-85908A7908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5850-3C85-4662-A234-678E81E890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eliculas-Exodo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42920" y="1556640"/>
            <a:ext cx="64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LA MUERTE (CIENTÍFICA) DE JESÚ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3644280"/>
            <a:ext cx="66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A los 33 años Jesús fue condenado a muer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00000" y="641160"/>
            <a:ext cx="7704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Todo esto sin mencionar la humillación que pasó después de haber cargado su propia cruz por casi dos kilómetros, mientras la multitud le escupía el rostro y le tiraba piedras (la cruz pesaba cerca de 30 kilos, tan solo en la parte superior, en la que le clavaron sus manos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336240"/>
            <a:ext cx="82072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Todo eso pasó Jesús, sólo para que tú tengas un libre acceso a Di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Para que tengas todos tus pecados "lavados". ¡Todos ellos sin excepción!. No ignores esta situación. ¡ÉL MURIÓ POR TI!. Por ti que estás ahora leyendo este e-mail. No creas que Él murió por otros, por aquellos que van a la iglesia o por aquellos monjes, curas, pastores, obispos, etc.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8360" y="1250640"/>
            <a:ext cx="8136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Él murió por ti! Es fácil pasar un chiste, fotos con tonterías o pornografías por e-mail, pero cuando es alguna cosa relacionada con Dios, te da vergüenza pasarlo a los demás, porque te preocupa lo que ellos puedan creer de tu moralida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641160"/>
            <a:ext cx="7991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Acepta la realidad, la verdad de que JESÚS ES LA ÚNICA SALVACIÓN PARA EL MUNDO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Dios tiene planes para ti, Enséñales a todos lo que Él pasó, únicamente para darte la salvación. ¡Piensa en esto ahora! ¡Dios bendiga nuestras vidas!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4149000"/>
            <a:ext cx="770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Todo lo que tienes que hacer es lo siguient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692280"/>
            <a:ext cx="820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Durante 60 segundos, deja lo que estás haciendo, y ¡aprovecha esta oportunidad! Veamos si satanás puede detener est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8360" y="641160"/>
            <a:ext cx="83516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 Narrow"/>
              <a:buAutoNum type="arabicPeriod"/>
              <a:tabLst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Simplemente ora por la persona que te envió este mensaje: Señor tu conoces bien la vida de ................. y te pido que en todo aspecto tú le bendigas y le prosperes. Cuida de su familia, de su salud, de su, trabajo y de todos los planes trazados para este año. No le dejes caer en tentación, mas líbralo del mal. En el nombre de Jesús, amé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68360" y="335520"/>
            <a:ext cx="842472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es-ES" sz="3600" spc="-1" strike="noStrike">
                <a:solidFill>
                  <a:srgbClr val="ffffff"/>
                </a:solidFill>
                <a:latin typeface="Arial Narrow"/>
              </a:rPr>
              <a:t>2.Luego, envíala a TODAS las personas que tienes en tu lista de contactos y las que no también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s-ES" sz="3600" spc="-1" strike="noStrike">
                <a:solidFill>
                  <a:srgbClr val="ffffff"/>
                </a:solidFill>
                <a:latin typeface="Arial Narrow"/>
              </a:rPr>
              <a:t>3. En un rato más, estas personas  habrán orado por ti, y tú habrás logrado que muchas personas oren a Dios por otras person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s-ES" sz="3600" spc="-1" strike="noStrike">
                <a:solidFill>
                  <a:srgbClr val="ffffff"/>
                </a:solidFill>
                <a:latin typeface="Arial Narrow"/>
              </a:rPr>
              <a:t>4. Luego, piensa por un momento y aprecia el poder de Dios en tu vida, por hacer lo que tú sabes que a Él le encan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95280" y="183960"/>
            <a:ext cx="8280360" cy="64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Si no tienes vergüenza de hacer esto, por favor, sigue las instrucciones. Jesucristo dijo, "Si te avergüenzas de mí, yo me avergonzaré de ti ante mi Padre"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Si no tienes vergüenza, envía este mensaje... sólo si crees en ello. Sí, amo a Dios. Él es mi fuente de existencia y mi Salvador. Él me mantiene funcionando día y noche.</a:t>
            </a:r>
            <a:r>
              <a:rPr b="0" lang="es-E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44280"/>
            <a:ext cx="8280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Sin Él, nada soy, pero con Él "todo lo puedo en Cristo que me fortalece". Filipenses 4:13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Ésta es la prueba más simple. Si amas a Dios y no te avergüenzas de todas las cosas maravillosas que Él ha hecho por ti, envía esto a las personas que ama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42920" y="1248840"/>
            <a:ext cx="7274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La "peor" muerte de la época. Sólo los peores criminales murieron como Jesús. Y con Jesús todavía fue peor, porque no todos los criminales condenados a aquel castigo recibieron clavos en sus miembr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1280" y="2128320"/>
            <a:ext cx="7489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Sí, fueron clavos... ¡y de los grandes! Cada uno tenía de 15 a 20 cm, con una punta de 6 cm. y el otro extremo puntiagudo.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55640" y="29880"/>
            <a:ext cx="763272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Ellos eran clavados en las muñecas y no en las manos como dicen. En la muñeca, hay un tendón que llega a nuestro hombro, y cuando los clavos fueron martillados, ese tendón se rompió obligando a Jesús a forzar todos los músculos de su espalda, por tener sus muñecas clavadas, para poder respirar porque perdía todo el aire de sus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pulmones.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11280" y="639360"/>
            <a:ext cx="7921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De esta forma era obligado a apoyarse en el clavo metidos en sus pies que todavía era más grande que el de sus manos, porque clavaban los dos pies juntos. Y como sus pies no aguantarían por mucho tiempo sin rasgarse también, Jesús era obligado a alternar ese "ciclo" simplemente para lograr respir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32000" y="641160"/>
            <a:ext cx="5976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Jesús aguantó esa situación por poco más de 3 hora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Sí, ¡más de 3 horas! Mucho tiempo, ¿verdad? Algunos minutos antes de morir, Jesús ya no sangraba má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Sencillamente le salía agua de sus cortes y heridas.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360" y="1248840"/>
            <a:ext cx="8064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Cuando lo imaginamos herido, imaginamos meras heridas, pero no; las de Él eran verdaderos agujeros, agujeros hechos en su cuerp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Él no tenía más sangre para sangrar, por lo tanto, le salía agua.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5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9640" y="639360"/>
            <a:ext cx="7993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El cuerpo humano está compuesto de aproximadamente 3,5 litros de sangre (en un adulto)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Jesús derramó 3,5 litros de sangre; tuvo tres clavos enormes metidos en sus miembros; una corona de espinas en su cabeza y además un soldado romano le clavó una lanza en su tórax.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20:25:24Z</dcterms:created>
  <dc:creator>lucho chapi</dc:creator>
  <dc:description/>
  <dc:language>en-US</dc:language>
  <cp:lastModifiedBy>Zuleima Figueroa</cp:lastModifiedBy>
  <dcterms:modified xsi:type="dcterms:W3CDTF">2007-03-23T17:01:56Z</dcterms:modified>
  <cp:revision>8</cp:revision>
  <dc:subject/>
  <dc:title>Diapositiva 1</dc:title>
</cp:coreProperties>
</file>