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32.png" ContentType="image/png"/>
  <Override PartName="/ppt/media/image24.png" ContentType="image/png"/>
  <Override PartName="/ppt/media/image11.jpeg" ContentType="image/jpeg"/>
  <Override PartName="/ppt/media/image21.png" ContentType="image/pn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29.jpeg" ContentType="image/jpeg"/>
  <Override PartName="/ppt/media/image6.jpeg" ContentType="image/jpeg"/>
  <Override PartName="/ppt/media/image33.jpeg" ContentType="image/jpeg"/>
  <Override PartName="/ppt/media/image27.jpeg" ContentType="image/jpeg"/>
  <Override PartName="/ppt/media/image22.jpeg" ContentType="image/jpeg"/>
  <Override PartName="/ppt/media/image35.jpeg" ContentType="image/jpeg"/>
  <Override PartName="/ppt/media/image10.png" ContentType="image/png"/>
  <Override PartName="/ppt/media/image1.jpeg" ContentType="image/jpeg"/>
  <Override PartName="/ppt/media/image7.png" ContentType="image/png"/>
  <Override PartName="/ppt/media/image34.jpeg" ContentType="image/jpeg"/>
  <Override PartName="/ppt/media/image9.jpeg" ContentType="image/jpeg"/>
  <Override PartName="/ppt/media/image30.jpeg" ContentType="image/jpeg"/>
  <Override PartName="/ppt/media/image20.jpeg" ContentType="image/jpeg"/>
  <Override PartName="/ppt/media/image23.jpeg" ContentType="image/jpeg"/>
  <Override PartName="/ppt/media/image12.png" ContentType="image/png"/>
  <Override PartName="/ppt/media/image31.jpeg" ContentType="image/jpeg"/>
  <Override PartName="/ppt/media/image38.jpeg" ContentType="image/jpeg"/>
  <Override PartName="/ppt/media/image41.jpeg" ContentType="image/jpeg"/>
  <Override PartName="/ppt/media/image8.jpeg" ContentType="image/jpeg"/>
  <Override PartName="/ppt/media/image39.jpeg" ContentType="image/jpeg"/>
  <Override PartName="/ppt/media/image43.jpeg" ContentType="image/jpeg"/>
  <Override PartName="/ppt/media/image5.jpeg" ContentType="image/jpeg"/>
  <Override PartName="/ppt/media/image26.jpeg" ContentType="image/jpeg"/>
  <Override PartName="/ppt/media/image40.jpeg" ContentType="image/jpeg"/>
  <Override PartName="/ppt/media/image13.jpeg" ContentType="image/jpeg"/>
  <Override PartName="/ppt/media/image4.png" ContentType="image/png"/>
  <Override PartName="/ppt/media/image3.jpeg" ContentType="image/jpeg"/>
  <Override PartName="/ppt/media/image37.jpeg" ContentType="image/jpeg"/>
  <Override PartName="/ppt/media/image36.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7862E-6C1F-439D-86C0-2F2C77EAC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EC707-8FC5-4021-B134-717AD23C0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1744D7-5EA5-4953-A7EC-6C05C59E17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CB0B36-3409-49FB-AB71-4397547DB1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4FA592-EEC1-42B0-BB00-9D380D9C3E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A68A4-4417-42F7-A307-341DD4D53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E3FED-D5DD-4B59-A916-7452FC5B4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8D7D0-B91C-4F09-BE30-6EC8CCE1D5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3F52AD-3D67-43DB-9C5C-C0A34DA500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10C6E7-EB44-452A-BE98-5A37FD380A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F222D3-24CC-4962-B462-55966D5F68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9D9819-8750-4A36-BE64-F36D9BF5B6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526EF-381F-4266-AA5C-166B3B881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DF5ED1-7D76-49A8-9DCF-FCA61BC444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9693DF-027B-4138-9826-3185AF6020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715896-0C93-4B8A-AEC5-99899DF098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1B9E44-FF6C-446F-A3FF-200F888278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0432C4-A8EE-40E6-A02C-4B34E53DA0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FE908D-95D0-4FE1-8BE5-9B2FB44893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BA0F4C-0456-426E-89AD-ABEF545BD8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B19D00-23B9-4B35-A99C-43406F7C43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42196F-4B37-484C-86D7-F29B697C8F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BDC68F-70B6-487B-AC52-AC15CB5C94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D557B-DC53-49F1-A8E2-B1187FE04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928E93-B2BE-48A0-8A5D-9E84906EA1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05FC73-8FB3-4863-9C51-CAB84016D6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0AB30A-10B8-4FB2-9C77-3D37472178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3D4C19-9E25-4766-813E-EFA1500A49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2710ED-1DF1-4AAC-B9C3-E125551D2C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99B6BB-699E-495F-A203-736950DCFC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2C9619-EA31-4A14-B1DA-F4C64BC533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CD44C1-5391-4FE2-9DE1-3E18CD91A5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C7FB84-C7E4-4623-854B-46D71D1741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BF10BD-9264-441D-ADF4-B397D54D91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CCA89-4C4E-4B47-B844-0BA48C274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F87690-F3E6-4A93-B23F-5C05419235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C5FC16-5A3F-4A87-983A-119FDCBC38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ED5175-2B8C-4B6C-9009-8C101A9E81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FC4210-0F5A-4B16-9E52-395862EEB2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A9F764-20BC-4177-B5E6-E4077A290E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038F93-1F6B-412F-B6BB-F9B48B1FC6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23E265-87C5-425E-90A3-530EE6B7BA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CC4242-4F21-4ADB-9714-373E50C6C2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2487E5-595B-42FC-9E71-EBF32CCD42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EBD849-7312-46BD-92FA-4CEC82C395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39021-5969-45C1-ABB0-790110D4B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1B47E7-847D-48E1-9D74-657AF6E54D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FE4175-FFAA-4EDE-B801-506F97C356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400375-C7FB-4B6F-918E-6826A5C9B9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35B2AA-9471-49F7-96A9-90760D54E5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95961C-59C0-47B7-A140-A7154C924E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47201-9560-4EF0-A138-141668986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0994C-C14B-4A05-ABB2-24BCC449F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7F50E-E470-4074-949F-AA5EC47E6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9A9AB-6C52-41E9-976D-7E45A6C4D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6334D-55DD-40C6-AFDA-411F82B61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00E03-0F45-442B-AD83-66039C2AB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DEF35-93C1-4175-B4E0-69C08AD93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A3CA4-E66D-4F65-BDB4-15C3E6D93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16FB4-E8B2-40AB-BE58-3217E3B98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34BE9-0F5D-473C-AAA6-6B8E5458B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D835A-AF11-47F8-9C91-14308C682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DC3931-A7B1-4D8F-9F86-2264E45F1B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0B192-E4A0-4602-8257-33C40B323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2505A-036B-495F-9F0A-2AC5C5949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7BC34-7A12-40BF-AA9F-3FA0C658C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9C4F8-0D3F-4026-8A79-47562B8AFF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8DB96-BC7A-47CD-BAF6-7B173C75D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AA4EA-4253-4AD2-8726-AD8F4813B4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46A67-01DD-4437-8C53-A57E710E6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35B37-C7A6-4CE8-A3D5-62C0D55F4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528D1-1F5B-4519-8B0D-3893EDC64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9FC94-37B9-4E92-9F54-7647813E3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24781D-A80E-4F36-90C4-3BB6757F6F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C03B77-A3A7-4148-A7E7-CBB457AD14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7774B0-CCB8-41C6-A763-CBF62AABFC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9A384-3DB5-49EE-A966-6344F9C3DA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70FBC-6E5C-4F92-BED7-B946212A8A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D5DB9-53DD-48DA-99A1-F4E7C353A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F8452-1D46-41BD-9F3E-75F5A9AFA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20B88-6070-4533-BCBB-D2FDBD81B6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43658-90F1-439A-B614-FB3FA385DB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728B3-3178-44E0-AD73-02A45879E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AD1A0-D035-46AD-A46C-CBCB9229D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02F57-C01A-463A-9A94-0256D3F03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537E4-1C8C-4D73-ABD0-E11DCB2FD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1172D5-A403-4A97-8AB6-A73070A3AD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FBFA24-627E-466B-9DA7-043FEC00FD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46AC00-9E4A-47F2-9574-1ECE8FB2C2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F4D20-A7AE-4947-BBA4-5758371F1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4DFE51-57D8-4BFC-8C4B-BA0FDF708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7A8623-FFA3-4052-85BD-41A02259CB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2D7CB4-E00D-4D37-9E06-DB5245659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31E3C7-FDEB-4CDA-AB7A-FCAC08B2C8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67B82E-F8EB-4982-A2F1-7AA1CD6357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F30CF-6F11-4BE1-8E00-46347B5A3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C0875-2D21-49B6-A254-A370E50C6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16CC0-59D6-4031-A610-7FEA359D9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7C5A1F-C87E-4C41-9DAF-23A69E732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B9A7C4-45A9-4890-83BD-DA58296CC3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B5ED3-F3B6-4FED-9C18-C868006B7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39FD45-0917-49F0-9979-D4529FB765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2520DB-B7D7-430B-9F91-C0E0C3751F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AF543-B0B7-4B9E-A9CE-F3F83F3319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06DD10-BDB5-449E-BE7E-76E3665EF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B254A4-100C-4955-8969-34AFB301CE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FBEDE2-729F-4399-935C-53D3DA160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7A9493-E2B3-4FA6-981D-AF431516D6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5D7B4-A317-46E9-889F-09BF90C8D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9148F-D62A-4C2E-B5D0-6EC5E962B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9DEAD-5D9A-4DE9-B62F-40D9752F2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4EEEB-BD18-4E6B-86EC-AE17D71F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2C350C-5049-4C21-8D5C-C6C013198A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EF9C7E-5460-404B-8C16-38EFE839DC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31F16C-A6E3-43DA-A9F9-DA6860593D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7198E7-9558-476B-A9A0-643584D080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C8A45-05E4-4855-B510-90DB2D8945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E01E00-E44D-4CA6-B804-A90B189DF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3EEBF-B6C3-4E29-B06F-0E19D40F7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6D2D6C-37C9-4DB2-8BFB-41E7718588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7FCE33-9D72-47FB-AACB-241EFF4664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A9BFB-2371-469B-8383-643AB7701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E60A-C1EE-4009-A4B7-41B46ACA2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A26F81-DAAE-4778-84E6-D3C5681F8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29D423-B561-4874-86D7-3993A4377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68F27E-5677-4FD9-97DE-C7834A269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E65C8D-437F-464A-9D21-4C79E7ECBE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B808A7-5D98-429C-97E6-CC22B83334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929C31-538A-47B0-9F25-E3E8C81C14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77806E-7F70-4CE4-BBF0-5D7432B59D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82B6C2-7FEC-4A30-8FB5-6EF92C2A54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B2D210-7E7D-4EB6-9353-940520E337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D3D717-CD7E-4815-809A-C94B34A931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EEA8-9581-4A73-BC6A-751012871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BEAC9B-2812-405A-8E44-3455E88141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50637-8E5B-4AAE-826C-DA63BAEFF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31E767-448F-4A35-9DBC-F19ADED20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559B21-F2C4-4A90-AAB5-28C19C86A3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63ECE5-4C66-41DB-A0AE-001484F06C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EA077D-B44E-4165-97BF-87F464542B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52B1FD-AA03-47F8-9639-52119E6FA3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E2952C-5B6F-425D-BD61-246E305BF3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BA857F-FBCB-4770-8639-A67D20141B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9D9BB0-FDF8-45D2-9431-6EF4CB35525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6FFF-11E3-4EA5-A44C-88363D7123CF}"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A70C-51E9-4CE5-AD9E-C28C405AACBA}"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8961-A6AB-4DA6-ABEA-DD95E4D5D9E3}"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08B9-11B8-4C83-A3FD-5EB5AC3DBAB4}"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91F9-2189-4BAE-ADCC-15F1693BEF2E}"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AFDA-83A5-434D-BC03-3BA38A0239C4}"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08CA-2CD6-40EC-82FE-EE365A613872}"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4A9B-AD99-4066-8E95-1F23D000D44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C64B-ECC8-432B-9124-66A468D34CAF}"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CE22-E3C4-414A-A12A-D5F90981F12B}"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6616-CD77-48E3-8908-1BBA1FF426A8}"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C1D6-2A26-412C-9CAF-765D8BA1E943}"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5 Imagen" descr="untitled2.bmp"/>
          <p:cNvPicPr/>
          <p:nvPr/>
        </p:nvPicPr>
        <p:blipFill>
          <a:blip r:embed="rId1"/>
          <a:stretch/>
        </p:blipFill>
        <p:spPr>
          <a:xfrm>
            <a:off x="0" y="0"/>
            <a:ext cx="9144000" cy="6858000"/>
          </a:xfrm>
          <a:prstGeom prst="rect">
            <a:avLst/>
          </a:prstGeom>
          <a:ln w="0">
            <a:noFill/>
          </a:ln>
        </p:spPr>
      </p:pic>
      <p:pic>
        <p:nvPicPr>
          <p:cNvPr id="493" name="4 Imagen" descr="471px-Gaud%C3%AD_%281878%29.jpg"/>
          <p:cNvPicPr/>
          <p:nvPr/>
        </p:nvPicPr>
        <p:blipFill>
          <a:blip r:embed="rId2"/>
          <a:stretch/>
        </p:blipFill>
        <p:spPr>
          <a:xfrm>
            <a:off x="2768760" y="214200"/>
            <a:ext cx="3589200" cy="4572000"/>
          </a:xfrm>
          <a:prstGeom prst="rect">
            <a:avLst/>
          </a:prstGeom>
          <a:ln w="190440">
            <a:solidFill>
              <a:srgbClr val="002060"/>
            </a:solidFill>
            <a:round/>
          </a:ln>
        </p:spPr>
      </p:pic>
      <p:pic>
        <p:nvPicPr>
          <p:cNvPr id="494" name="4 Marcador de contenido" descr=""/>
          <p:cNvPicPr/>
          <p:nvPr/>
        </p:nvPicPr>
        <p:blipFill>
          <a:blip r:embed="rId3"/>
          <a:stretch/>
        </p:blipFill>
        <p:spPr>
          <a:xfrm>
            <a:off x="1279440" y="5016600"/>
            <a:ext cx="6505560" cy="1639800"/>
          </a:xfrm>
          <a:prstGeom prst="rect">
            <a:avLst/>
          </a:prstGeom>
          <a:ln w="0">
            <a:noFill/>
          </a:ln>
        </p:spPr>
      </p:pic>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3"/>
                                        </p:tgtEl>
                                        <p:attrNameLst>
                                          <p:attrName>style.visibility</p:attrName>
                                        </p:attrNameLst>
                                      </p:cBhvr>
                                      <p:to>
                                        <p:strVal val="visible"/>
                                      </p:to>
                                    </p:set>
                                    <p:animEffect filter="fade" transition="in">
                                      <p:cBhvr additive="repl">
                                        <p:cTn id="7" dur="2000"/>
                                        <p:tgtEl>
                                          <p:spTgt spid="4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4"/>
                                        </p:tgtEl>
                                        <p:attrNameLst>
                                          <p:attrName>style.visibility</p:attrName>
                                        </p:attrNameLst>
                                      </p:cBhvr>
                                      <p:to>
                                        <p:strVal val="visible"/>
                                      </p:to>
                                    </p:set>
                                    <p:animEffect filter="fade" transition="in">
                                      <p:cBhvr additive="repl">
                                        <p:cTn id="12" dur="20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2 Imagen" descr="gaudi06.jpg"/>
          <p:cNvPicPr/>
          <p:nvPr/>
        </p:nvPicPr>
        <p:blipFill>
          <a:blip r:embed="rId1"/>
          <a:stretch/>
        </p:blipFill>
        <p:spPr>
          <a:xfrm>
            <a:off x="1386000" y="0"/>
            <a:ext cx="6372000" cy="685800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1" name="5 Marcador de contenido" descr="pedrera.jpg"/>
          <p:cNvPicPr/>
          <p:nvPr/>
        </p:nvPicPr>
        <p:blipFill>
          <a:blip r:embed="rId1"/>
          <a:stretch/>
        </p:blipFill>
        <p:spPr>
          <a:xfrm>
            <a:off x="0" y="0"/>
            <a:ext cx="9144000" cy="597852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3" name="7 Marcador de contenido" descr="Barcelona%20Gaudi%20MSH.jpg"/>
          <p:cNvPicPr/>
          <p:nvPr/>
        </p:nvPicPr>
        <p:blipFill>
          <a:blip r:embed="rId1"/>
          <a:stretch/>
        </p:blipFill>
        <p:spPr>
          <a:xfrm>
            <a:off x="1285920" y="0"/>
            <a:ext cx="6527880" cy="682956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2 Imagen" descr="casa batlló.jpg"/>
          <p:cNvPicPr/>
          <p:nvPr/>
        </p:nvPicPr>
        <p:blipFill>
          <a:blip r:embed="rId1"/>
          <a:stretch/>
        </p:blipFill>
        <p:spPr>
          <a:xfrm>
            <a:off x="2273400" y="0"/>
            <a:ext cx="4597200" cy="6858000"/>
          </a:xfrm>
          <a:prstGeom prst="rect">
            <a:avLst/>
          </a:prstGeom>
          <a:ln w="0">
            <a:noFill/>
          </a:ln>
        </p:spPr>
      </p:pic>
      <p:pic>
        <p:nvPicPr>
          <p:cNvPr id="515" name="2 Rectángulo" descr=""/>
          <p:cNvPicPr/>
          <p:nvPr/>
        </p:nvPicPr>
        <p:blipFill>
          <a:blip r:embed="rId2"/>
          <a:stretch/>
        </p:blipFill>
        <p:spPr>
          <a:xfrm>
            <a:off x="2206800" y="6254640"/>
            <a:ext cx="4730400" cy="596880"/>
          </a:xfrm>
          <a:prstGeom prst="rect">
            <a:avLst/>
          </a:prstGeom>
          <a:ln w="0">
            <a:noFill/>
          </a:ln>
        </p:spPr>
      </p:pic>
    </p:spTree>
  </p:cSld>
  <p:transition spd="slow">
    <p:fade thruBlk="tru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515"/>
                                        </p:tgtEl>
                                        <p:attrNameLst>
                                          <p:attrName>style.visibility</p:attrName>
                                        </p:attrNameLst>
                                      </p:cBhvr>
                                      <p:to>
                                        <p:strVal val="visible"/>
                                      </p:to>
                                    </p:set>
                                    <p:animEffect filter="fade" transition="in">
                                      <p:cBhvr additive="repl">
                                        <p:cTn id="47" dur="20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3 Imagen" descr="batllo2.jpg"/>
          <p:cNvPicPr/>
          <p:nvPr/>
        </p:nvPicPr>
        <p:blipFill>
          <a:blip r:embed="rId1"/>
          <a:stretch/>
        </p:blipFill>
        <p:spPr>
          <a:xfrm>
            <a:off x="0" y="384120"/>
            <a:ext cx="9144000" cy="6089760"/>
          </a:xfrm>
          <a:prstGeom prst="rect">
            <a:avLst/>
          </a:prstGeom>
          <a:ln w="0">
            <a:noFill/>
          </a:ln>
        </p:spPr>
      </p:pic>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8" name="3 Marcador de contenido" descr="800px-CasaBatllo_0080.jpg"/>
          <p:cNvPicPr/>
          <p:nvPr/>
        </p:nvPicPr>
        <p:blipFill>
          <a:blip r:embed="rId1"/>
          <a:stretch/>
        </p:blipFill>
        <p:spPr>
          <a:xfrm>
            <a:off x="0" y="189000"/>
            <a:ext cx="9144000" cy="608004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0" name="4 Rectángulo" descr=""/>
          <p:cNvPicPr/>
          <p:nvPr/>
        </p:nvPicPr>
        <p:blipFill>
          <a:blip r:embed="rId1"/>
          <a:stretch/>
        </p:blipFill>
        <p:spPr>
          <a:xfrm>
            <a:off x="3371760" y="6254640"/>
            <a:ext cx="2266920" cy="596880"/>
          </a:xfrm>
          <a:prstGeom prst="rect">
            <a:avLst/>
          </a:prstGeom>
          <a:ln w="0">
            <a:noFill/>
          </a:ln>
        </p:spPr>
      </p:pic>
      <p:pic>
        <p:nvPicPr>
          <p:cNvPr id="521" name="6 Marcador de contenido" descr="untitled6.bmp"/>
          <p:cNvPicPr/>
          <p:nvPr/>
        </p:nvPicPr>
        <p:blipFill>
          <a:blip r:embed="rId2"/>
          <a:stretch/>
        </p:blipFill>
        <p:spPr>
          <a:xfrm>
            <a:off x="0" y="0"/>
            <a:ext cx="9144000" cy="6046920"/>
          </a:xfrm>
          <a:prstGeom prst="rect">
            <a:avLst/>
          </a:prstGeom>
          <a:ln w="0">
            <a:noFill/>
          </a:ln>
        </p:spPr>
      </p:pic>
    </p:spTree>
  </p:cSld>
  <p:transition spd="slow">
    <p:fade thruBlk="tru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20"/>
                                        </p:tgtEl>
                                        <p:attrNameLst>
                                          <p:attrName>style.visibility</p:attrName>
                                        </p:attrNameLst>
                                      </p:cBhvr>
                                      <p:to>
                                        <p:strVal val="visible"/>
                                      </p:to>
                                    </p:set>
                                    <p:animEffect filter="fade" transition="in">
                                      <p:cBhvr additive="repl">
                                        <p:cTn id="5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3" name="3 Marcador de contenido" descr="3.jpg"/>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5" name="3 Marcador de contenido" descr="gaudi3-barcelona.jpg"/>
          <p:cNvPicPr/>
          <p:nvPr/>
        </p:nvPicPr>
        <p:blipFill>
          <a:blip r:embed="rId1"/>
          <a:stretch/>
        </p:blipFill>
        <p:spPr>
          <a:xfrm>
            <a:off x="0" y="0"/>
            <a:ext cx="9144000" cy="6880320"/>
          </a:xfrm>
          <a:prstGeom prst="rect">
            <a:avLst/>
          </a:prstGeom>
          <a:ln w="0">
            <a:noFill/>
          </a:ln>
        </p:spPr>
      </p:pic>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7" name="3 Marcador de contenido" descr="6362_Park%20Guell,%20Gaudi,%20Barcelona%20Spain.jpg"/>
          <p:cNvPicPr/>
          <p:nvPr/>
        </p:nvPicPr>
        <p:blipFill>
          <a:blip r:embed="rId1"/>
          <a:stretch/>
        </p:blipFill>
        <p:spPr>
          <a:xfrm>
            <a:off x="0" y="0"/>
            <a:ext cx="9167760" cy="687708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2 CuadroTexto"/>
          <p:cNvSpPr/>
          <p:nvPr/>
        </p:nvSpPr>
        <p:spPr>
          <a:xfrm>
            <a:off x="285840" y="142920"/>
            <a:ext cx="86439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toni Gaudí i Cornet</a:t>
            </a:r>
            <a:r>
              <a:rPr b="0" lang="es-ES" sz="1800" spc="-1" strike="noStrike">
                <a:solidFill>
                  <a:srgbClr val="000000"/>
                </a:solidFill>
                <a:latin typeface="Arial"/>
              </a:rPr>
              <a:t> (*Reus, 25 de junio de 1852 – † Barcelona, 10 de junio de 1926) arquitecto español, máximo representante del modernismo catalá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udí fue un arquitecto con un sentido innato de la geometría y el volumen, así como una gran capacidad imaginativa. De hecho, pocas veces realizaba planos detallados de sus obras, prefería recrearlos sobre maquetas tridimensionales, moldeando todos los detalles según los iba ideando mentalme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tado de una fuerte intuición y capacidad creativa, Gaudí concebía sus edificios de una forma global, atendiendo tanto a las soluciones estructurales como las funcionales y decorativas. Estudiaba hasta el más mínimo detalle de sus creaciones, integrando en la arquitectura toda una serie de trabajos artesanales que dominaba él mismo a la perfección: cerámica, vidriería, forja de hierro, carpintería, etc.</a:t>
            </a:r>
            <a:endParaRPr b="0" lang="en-US" sz="1800" spc="-1" strike="noStrike">
              <a:solidFill>
                <a:srgbClr val="000000"/>
              </a:solidFill>
              <a:latin typeface="Arial"/>
            </a:endParaRPr>
          </a:p>
        </p:txBody>
      </p:sp>
      <p:pic>
        <p:nvPicPr>
          <p:cNvPr id="496" name="6 Imagen" descr="gaudi_lizard.jpg"/>
          <p:cNvPicPr/>
          <p:nvPr/>
        </p:nvPicPr>
        <p:blipFill>
          <a:blip r:embed="rId1"/>
          <a:stretch/>
        </p:blipFill>
        <p:spPr>
          <a:xfrm>
            <a:off x="2428920" y="3297240"/>
            <a:ext cx="4235400" cy="3489480"/>
          </a:xfrm>
          <a:prstGeom prst="rect">
            <a:avLst/>
          </a:prstGeom>
          <a:ln w="79200">
            <a:solidFill>
              <a:srgbClr val="002060"/>
            </a:solidFill>
            <a:miter/>
          </a:ln>
        </p:spPr>
      </p:pic>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9" name="3 Marcador de contenido" descr="gaudi4-barcelona.jpg"/>
          <p:cNvPicPr/>
          <p:nvPr/>
        </p:nvPicPr>
        <p:blipFill>
          <a:blip r:embed="rId1"/>
          <a:stretch/>
        </p:blipFill>
        <p:spPr>
          <a:xfrm>
            <a:off x="0" y="0"/>
            <a:ext cx="3581280" cy="6835680"/>
          </a:xfrm>
          <a:prstGeom prst="rect">
            <a:avLst/>
          </a:prstGeom>
          <a:ln w="0">
            <a:noFill/>
          </a:ln>
        </p:spPr>
      </p:pic>
      <p:pic>
        <p:nvPicPr>
          <p:cNvPr id="530" name="4 Imagen" descr="gaudi5-barcelona.jpg"/>
          <p:cNvPicPr/>
          <p:nvPr/>
        </p:nvPicPr>
        <p:blipFill>
          <a:blip r:embed="rId2"/>
          <a:stretch/>
        </p:blipFill>
        <p:spPr>
          <a:xfrm>
            <a:off x="3987720" y="0"/>
            <a:ext cx="5156280" cy="6858000"/>
          </a:xfrm>
          <a:prstGeom prst="rect">
            <a:avLst/>
          </a:prstGeom>
          <a:ln w="0">
            <a:noFill/>
          </a:ln>
        </p:spPr>
      </p:pic>
    </p:spTree>
  </p:cSld>
  <p:transition spd="slow">
    <p:fade thruBlk="tru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30"/>
                                        </p:tgtEl>
                                        <p:attrNameLst>
                                          <p:attrName>style.visibility</p:attrName>
                                        </p:attrNameLst>
                                      </p:cBhvr>
                                      <p:to>
                                        <p:strVal val="visible"/>
                                      </p:to>
                                    </p:set>
                                    <p:animEffect filter="fade" transition="in">
                                      <p:cBhvr additive="repl">
                                        <p:cTn id="61" dur="2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3 Imagen" descr="Barcelona_Iglesia_Sagrada_Familia_02.jpg"/>
          <p:cNvPicPr/>
          <p:nvPr/>
        </p:nvPicPr>
        <p:blipFill>
          <a:blip r:embed="rId1"/>
          <a:stretch/>
        </p:blipFill>
        <p:spPr>
          <a:xfrm>
            <a:off x="125280" y="69840"/>
            <a:ext cx="8947440" cy="5931000"/>
          </a:xfrm>
          <a:prstGeom prst="rect">
            <a:avLst/>
          </a:prstGeom>
          <a:ln w="0">
            <a:noFill/>
          </a:ln>
        </p:spPr>
      </p:pic>
      <p:pic>
        <p:nvPicPr>
          <p:cNvPr id="532" name="4 Rectángulo" descr=""/>
          <p:cNvPicPr/>
          <p:nvPr/>
        </p:nvPicPr>
        <p:blipFill>
          <a:blip r:embed="rId2"/>
          <a:stretch/>
        </p:blipFill>
        <p:spPr>
          <a:xfrm>
            <a:off x="2938320" y="6145200"/>
            <a:ext cx="3279960" cy="596880"/>
          </a:xfrm>
          <a:prstGeom prst="rect">
            <a:avLst/>
          </a:prstGeom>
          <a:ln w="0">
            <a:noFill/>
          </a:ln>
        </p:spPr>
      </p:pic>
    </p:spTree>
  </p:cSld>
  <p:transition spd="slow">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32"/>
                                        </p:tgtEl>
                                        <p:attrNameLst>
                                          <p:attrName>style.visibility</p:attrName>
                                        </p:attrNameLst>
                                      </p:cBhvr>
                                      <p:to>
                                        <p:strVal val="visible"/>
                                      </p:to>
                                    </p:set>
                                    <p:animEffect filter="fade" transition="in">
                                      <p:cBhvr additive="repl">
                                        <p:cTn id="68"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2 Imagen" descr="gaudi-sagrada-familia.jpg"/>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2 Imagen" descr="Sagrada%20Familia.jpg"/>
          <p:cNvPicPr/>
          <p:nvPr/>
        </p:nvPicPr>
        <p:blipFill>
          <a:blip r:embed="rId1"/>
          <a:stretch/>
        </p:blipFill>
        <p:spPr>
          <a:xfrm>
            <a:off x="2000160" y="0"/>
            <a:ext cx="5143680" cy="6858000"/>
          </a:xfrm>
          <a:prstGeom prst="rect">
            <a:avLst/>
          </a:prstGeom>
          <a:ln w="0">
            <a:noFill/>
          </a:ln>
        </p:spPr>
      </p:pic>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2 Imagen" descr="sagrada_familia18.jpg"/>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2 Imagen" descr="sagrada_familia17.jpg"/>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2 Imagen" descr="sagrada_familia12.jpg"/>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39" name="3 Marcador de contenido" descr="gaudi3.jpg"/>
          <p:cNvPicPr/>
          <p:nvPr/>
        </p:nvPicPr>
        <p:blipFill>
          <a:blip r:embed="rId1"/>
          <a:stretch/>
        </p:blipFill>
        <p:spPr>
          <a:xfrm>
            <a:off x="0" y="0"/>
            <a:ext cx="9155160" cy="6865920"/>
          </a:xfrm>
          <a:prstGeom prst="rect">
            <a:avLst/>
          </a:prstGeom>
          <a:ln w="0">
            <a:noFill/>
          </a:ln>
        </p:spPr>
      </p:pic>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1" name="3 Marcador de contenido" descr="sagrada_familia52.jpg"/>
          <p:cNvPicPr/>
          <p:nvPr/>
        </p:nvPicPr>
        <p:blipFill>
          <a:blip r:embed="rId1"/>
          <a:stretch/>
        </p:blipFill>
        <p:spPr>
          <a:xfrm>
            <a:off x="0" y="0"/>
            <a:ext cx="9167760" cy="6877080"/>
          </a:xfrm>
          <a:prstGeom prst="rect">
            <a:avLst/>
          </a:prstGeom>
          <a:ln w="0">
            <a:noFill/>
          </a:ln>
        </p:spPr>
      </p:pic>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3" name="3 Marcador de contenido" descr="sagrada_familia65.jpg"/>
          <p:cNvPicPr/>
          <p:nvPr/>
        </p:nvPicPr>
        <p:blipFill>
          <a:blip r:embed="rId1"/>
          <a:stretch/>
        </p:blipFill>
        <p:spPr>
          <a:xfrm>
            <a:off x="0" y="0"/>
            <a:ext cx="9167760" cy="687708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2 CuadroTexto"/>
          <p:cNvSpPr/>
          <p:nvPr/>
        </p:nvSpPr>
        <p:spPr>
          <a:xfrm>
            <a:off x="0" y="142920"/>
            <a:ext cx="914400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mismo, introdujo nuevas técnicas en el tratamiento de los materiales, como su famoso “trencadís” hecho con piezas de cerámica de desech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pués de unos inicios influenciado por el arte neogótico, así como ciertas tendencias orientalizantes, Gaudí desembocó en el modernismo, entre finales del siglo XIX y principios del XX. Sin embargo, el arquitecto reusense fue más allá del modernismo ortodoxo, creando un estilo personal basado en la observación de la naturaleza, fruto del cual fue su utilización de formas geométricas regladas  como el paraboloide hiperbólico, el hiperboloide, el helicoide y el conoid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oy Gaudí está considerado un genio de la arquitectura y su obra es admirada universalme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4 Imagen" descr="gaudi_parc.jpg"/>
          <p:cNvPicPr/>
          <p:nvPr/>
        </p:nvPicPr>
        <p:blipFill>
          <a:blip r:embed="rId1"/>
          <a:stretch/>
        </p:blipFill>
        <p:spPr>
          <a:xfrm>
            <a:off x="1871640" y="2857680"/>
            <a:ext cx="5486400" cy="3620880"/>
          </a:xfrm>
          <a:prstGeom prst="rect">
            <a:avLst/>
          </a:prstGeom>
          <a:ln w="79200">
            <a:solidFill>
              <a:srgbClr val="002060"/>
            </a:solidFill>
            <a:miter/>
          </a:ln>
        </p:spPr>
      </p:pic>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3 Marcador de contenido" descr="sagrada-familia---1.jpg"/>
          <p:cNvPicPr/>
          <p:nvPr/>
        </p:nvPicPr>
        <p:blipFill>
          <a:blip r:embed="rId1"/>
          <a:stretch/>
        </p:blipFill>
        <p:spPr>
          <a:xfrm>
            <a:off x="2093760" y="0"/>
            <a:ext cx="4978440" cy="6870600"/>
          </a:xfrm>
          <a:prstGeom prst="rect">
            <a:avLst/>
          </a:prstGeom>
          <a:ln w="0">
            <a:noFill/>
          </a:ln>
        </p:spPr>
      </p:pic>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4 Imagen" descr="Firma_Gaud%C3%AD.jpg"/>
          <p:cNvPicPr/>
          <p:nvPr/>
        </p:nvPicPr>
        <p:blipFill>
          <a:blip r:embed="rId1"/>
          <a:stretch/>
        </p:blipFill>
        <p:spPr>
          <a:xfrm>
            <a:off x="2279520" y="4541760"/>
            <a:ext cx="4584960" cy="2224080"/>
          </a:xfrm>
          <a:prstGeom prst="rect">
            <a:avLst/>
          </a:prstGeom>
          <a:ln w="0">
            <a:noFill/>
          </a:ln>
        </p:spPr>
      </p:pic>
      <p:pic>
        <p:nvPicPr>
          <p:cNvPr id="546" name="5 Imagen" descr="casa_mila_10.jpg"/>
          <p:cNvPicPr/>
          <p:nvPr/>
        </p:nvPicPr>
        <p:blipFill>
          <a:blip r:embed="rId2"/>
          <a:stretch/>
        </p:blipFill>
        <p:spPr>
          <a:xfrm>
            <a:off x="1450800" y="0"/>
            <a:ext cx="6242400" cy="468144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3 Rectángulo" descr=""/>
          <p:cNvPicPr/>
          <p:nvPr/>
        </p:nvPicPr>
        <p:blipFill>
          <a:blip r:embed="rId1"/>
          <a:stretch/>
        </p:blipFill>
        <p:spPr>
          <a:xfrm>
            <a:off x="2060640" y="6254640"/>
            <a:ext cx="4352760" cy="596880"/>
          </a:xfrm>
          <a:prstGeom prst="rect">
            <a:avLst/>
          </a:prstGeom>
          <a:ln w="0">
            <a:noFill/>
          </a:ln>
        </p:spPr>
      </p:pic>
      <p:pic>
        <p:nvPicPr>
          <p:cNvPr id="500" name="6 Imagen" descr="IMG_6453.JPG"/>
          <p:cNvPicPr/>
          <p:nvPr/>
        </p:nvPicPr>
        <p:blipFill>
          <a:blip r:embed="rId2"/>
          <a:stretch/>
        </p:blipFill>
        <p:spPr>
          <a:xfrm>
            <a:off x="0" y="0"/>
            <a:ext cx="9144000" cy="6097680"/>
          </a:xfrm>
          <a:prstGeom prst="rect">
            <a:avLst/>
          </a:prstGeom>
          <a:ln w="0">
            <a:noFill/>
          </a:ln>
        </p:spPr>
      </p:pic>
    </p:spTree>
  </p:cSld>
  <p:transition spd="slow">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99"/>
                                        </p:tgtEl>
                                        <p:attrNameLst>
                                          <p:attrName>style.visibility</p:attrName>
                                        </p:attrNameLst>
                                      </p:cBhvr>
                                      <p:to>
                                        <p:strVal val="visible"/>
                                      </p:to>
                                    </p:set>
                                    <p:animEffect filter="fade" transition="in">
                                      <p:cBhvr additive="repl">
                                        <p:cTn id="19"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3 Imagen" descr="untitled4.bmp"/>
          <p:cNvPicPr/>
          <p:nvPr/>
        </p:nvPicPr>
        <p:blipFill>
          <a:blip r:embed="rId1"/>
          <a:stretch/>
        </p:blipFill>
        <p:spPr>
          <a:xfrm>
            <a:off x="0" y="0"/>
            <a:ext cx="9144000" cy="6858000"/>
          </a:xfrm>
          <a:prstGeom prst="rect">
            <a:avLst/>
          </a:prstGeom>
          <a:ln w="0">
            <a:noFill/>
          </a:ln>
        </p:spPr>
      </p:pic>
      <p:pic>
        <p:nvPicPr>
          <p:cNvPr id="502" name="4 Rectángulo" descr=""/>
          <p:cNvPicPr/>
          <p:nvPr/>
        </p:nvPicPr>
        <p:blipFill>
          <a:blip r:embed="rId2"/>
          <a:stretch/>
        </p:blipFill>
        <p:spPr>
          <a:xfrm>
            <a:off x="2597040" y="6254640"/>
            <a:ext cx="3986280" cy="596880"/>
          </a:xfrm>
          <a:prstGeom prst="rect">
            <a:avLst/>
          </a:prstGeom>
          <a:ln w="0">
            <a:noFill/>
          </a:ln>
        </p:spPr>
      </p:pic>
    </p:spTree>
  </p:cSld>
  <p:transition spd="slow">
    <p:fade thruBlk="tru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502"/>
                                        </p:tgtEl>
                                        <p:attrNameLst>
                                          <p:attrName>style.visibility</p:attrName>
                                        </p:attrNameLst>
                                      </p:cBhvr>
                                      <p:to>
                                        <p:strVal val="visible"/>
                                      </p:to>
                                    </p:set>
                                    <p:animEffect filter="fade" transition="in">
                                      <p:cBhvr additive="repl">
                                        <p:cTn id="26"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4 Imagen" descr="bfi1202685351f.jpg"/>
          <p:cNvPicPr/>
          <p:nvPr/>
        </p:nvPicPr>
        <p:blipFill>
          <a:blip r:embed="rId1"/>
          <a:stretch/>
        </p:blipFill>
        <p:spPr>
          <a:xfrm>
            <a:off x="0" y="0"/>
            <a:ext cx="9144000" cy="6858000"/>
          </a:xfrm>
          <a:prstGeom prst="rect">
            <a:avLst/>
          </a:prstGeom>
          <a:ln w="0">
            <a:noFill/>
          </a:ln>
        </p:spPr>
      </p:pic>
      <p:pic>
        <p:nvPicPr>
          <p:cNvPr id="504" name="3 Rectángulo" descr=""/>
          <p:cNvPicPr/>
          <p:nvPr/>
        </p:nvPicPr>
        <p:blipFill>
          <a:blip r:embed="rId2"/>
          <a:stretch/>
        </p:blipFill>
        <p:spPr>
          <a:xfrm>
            <a:off x="1700280" y="6254640"/>
            <a:ext cx="5645160" cy="596880"/>
          </a:xfrm>
          <a:prstGeom prst="rect">
            <a:avLst/>
          </a:prstGeom>
          <a:ln w="0">
            <a:noFill/>
          </a:ln>
        </p:spPr>
      </p:pic>
    </p:spTree>
  </p:cSld>
  <p:transition spd="slow">
    <p:fade thruBlk="tru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04"/>
                                        </p:tgtEl>
                                        <p:attrNameLst>
                                          <p:attrName>style.visibility</p:attrName>
                                        </p:attrNameLst>
                                      </p:cBhvr>
                                      <p:to>
                                        <p:strVal val="visible"/>
                                      </p:to>
                                    </p:set>
                                    <p:animEffect filter="fade" transition="in">
                                      <p:cBhvr additive="repl">
                                        <p:cTn id="33" dur="2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2 Imagen" descr="640px-Casa_Mil%C3%A0_-_Barcelona%2C_Spain_-_Jan_2007.jpg"/>
          <p:cNvPicPr/>
          <p:nvPr/>
        </p:nvPicPr>
        <p:blipFill>
          <a:blip r:embed="rId1"/>
          <a:stretch/>
        </p:blipFill>
        <p:spPr>
          <a:xfrm>
            <a:off x="914400" y="0"/>
            <a:ext cx="7315200" cy="6858000"/>
          </a:xfrm>
          <a:prstGeom prst="rect">
            <a:avLst/>
          </a:prstGeom>
          <a:ln w="0">
            <a:noFill/>
          </a:ln>
        </p:spPr>
      </p:pic>
      <p:pic>
        <p:nvPicPr>
          <p:cNvPr id="506" name="3 Rectángulo" descr=""/>
          <p:cNvPicPr/>
          <p:nvPr/>
        </p:nvPicPr>
        <p:blipFill>
          <a:blip r:embed="rId2"/>
          <a:stretch/>
        </p:blipFill>
        <p:spPr>
          <a:xfrm>
            <a:off x="1212840" y="6254640"/>
            <a:ext cx="6638760" cy="596880"/>
          </a:xfrm>
          <a:prstGeom prst="rect">
            <a:avLst/>
          </a:prstGeom>
          <a:ln w="0">
            <a:noFill/>
          </a:ln>
        </p:spPr>
      </p:pic>
    </p:spTree>
  </p:cSld>
  <p:transition spd="slow">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06"/>
                                        </p:tgtEl>
                                        <p:attrNameLst>
                                          <p:attrName>style.visibility</p:attrName>
                                        </p:attrNameLst>
                                      </p:cBhvr>
                                      <p:to>
                                        <p:strVal val="visible"/>
                                      </p:to>
                                    </p:set>
                                    <p:animEffect filter="fade" transition="in">
                                      <p:cBhvr additive="repl">
                                        <p:cTn id="40" dur="2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2 Imagen" descr="casa_mila_13.jpg"/>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2 Imagen" descr="casa_mila_21.jpg"/>
          <p:cNvPicPr/>
          <p:nvPr/>
        </p:nvPicPr>
        <p:blipFill>
          <a:blip r:embed="rId1"/>
          <a:stretch/>
        </p:blipFill>
        <p:spPr>
          <a:xfrm>
            <a:off x="0" y="0"/>
            <a:ext cx="9144000" cy="685800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9T17:33:33Z</dcterms:created>
  <dc:creator>manuel</dc:creator>
  <dc:description/>
  <dc:language>en-US</dc:language>
  <cp:lastModifiedBy> </cp:lastModifiedBy>
  <dcterms:modified xsi:type="dcterms:W3CDTF">2009-02-26T20:31:37Z</dcterms:modified>
  <cp:revision>156</cp:revision>
  <dc:subject/>
  <dc:title>www.laboutiquedelpowerpoint.com</dc:title>
</cp:coreProperties>
</file>